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227C-E43B-407A-8D6C-987507B3B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47E-24A5-4619-B626-273CBEB9B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857-D978-4526-98A5-FE373F0B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39B-4F7E-40BD-8CBE-FD4CE9D0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976-B9BA-4BAB-9FD9-D0089D5F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F6A-1D6C-4650-A2ED-58B059B1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9E8-8CD7-4A47-9E41-41A41A6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E50-62F4-4330-805D-CAD470A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BB1-A537-4A54-BAA2-C103872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CA3-1057-4945-9A00-07C78C0B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890-F6BF-42A1-B689-2D3D055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819-0F7B-497C-8C17-6013D8A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7A7-A3E1-4217-A557-B7D64BDE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CB1-7513-4B4B-AB2B-6219305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5C7-24C8-4EC1-AF67-FB2B24CD017C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32C-A068-42E4-847D-377A3261C0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30600" y="4919760"/>
            <a:ext cx="4024080" cy="10303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125D-836F-4DF8-AFB6-3364548E54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07b9"/>
                </a:solidFill>
                <a:latin typeface="Georgia"/>
              </a:rPr>
              <a:t>Рыбалко Оксана Вячеславов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07b9"/>
                </a:solidFill>
                <a:latin typeface="Georgia"/>
              </a:rPr>
              <a:t>детский сад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1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20160919_105624.jpg"/>
          <p:cNvPicPr/>
          <p:nvPr/>
        </p:nvPicPr>
        <p:blipFill>
          <a:blip r:embed="rId2"/>
          <a:stretch/>
        </p:blipFill>
        <p:spPr>
          <a:xfrm>
            <a:off x="1547640" y="2708280"/>
            <a:ext cx="3367440" cy="3670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1B4-DDD5-4483-8151-16A6FE6BFD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6" descr="20160919_104503.jpg"/>
          <p:cNvPicPr/>
          <p:nvPr/>
        </p:nvPicPr>
        <p:blipFill>
          <a:blip r:embed="rId1"/>
          <a:stretch/>
        </p:blipFill>
        <p:spPr>
          <a:xfrm>
            <a:off x="6300720" y="3141720"/>
            <a:ext cx="2087640" cy="3479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A1A2-D82D-4A52-AF6B-54CE5E333B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20160919_104345.jpg"/>
          <p:cNvPicPr/>
          <p:nvPr/>
        </p:nvPicPr>
        <p:blipFill>
          <a:blip r:embed="rId1"/>
          <a:stretch/>
        </p:blipFill>
        <p:spPr>
          <a:xfrm>
            <a:off x="1619280" y="260280"/>
            <a:ext cx="5846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01C-323D-43AA-871D-42FAD4212C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6" descr="20160919_154104.jpg"/>
          <p:cNvPicPr/>
          <p:nvPr/>
        </p:nvPicPr>
        <p:blipFill>
          <a:blip r:embed="rId1"/>
          <a:stretch/>
        </p:blipFill>
        <p:spPr>
          <a:xfrm>
            <a:off x="1476360" y="2349360"/>
            <a:ext cx="6804000" cy="4081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EE5F-FA4A-41ED-811B-C05A829E82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EFE-4934-4508-86C1-01E7B810A7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1\Desktop\81227_html_m72b9a6c3.png"/>
          <p:cNvPicPr/>
          <p:nvPr/>
        </p:nvPicPr>
        <p:blipFill>
          <a:blip r:embed="rId1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1\Desktop\1089136.jpg"/>
          <p:cNvPicPr/>
          <p:nvPr/>
        </p:nvPicPr>
        <p:blipFill>
          <a:blip r:embed="rId2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1\Desktop\1917114.jpg"/>
          <p:cNvPicPr/>
          <p:nvPr/>
        </p:nvPicPr>
        <p:blipFill>
          <a:blip r:embed="rId3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00F-B3C3-49F4-901E-B6255393A0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20160919_104519.jpg"/>
          <p:cNvPicPr/>
          <p:nvPr/>
        </p:nvPicPr>
        <p:blipFill>
          <a:blip r:embed="rId1"/>
          <a:stretch/>
        </p:blipFill>
        <p:spPr>
          <a:xfrm rot="3387600">
            <a:off x="6027120" y="3913920"/>
            <a:ext cx="3336840" cy="2001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626C-2CF3-4B52-A7B8-0C59F8E0F6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ru-RU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ru-RU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ru-RU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ru-RU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ru-RU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20160919_153941.jpg"/>
          <p:cNvPicPr/>
          <p:nvPr/>
        </p:nvPicPr>
        <p:blipFill>
          <a:blip r:embed="rId1"/>
          <a:stretch/>
        </p:blipFill>
        <p:spPr>
          <a:xfrm>
            <a:off x="5651640" y="3479760"/>
            <a:ext cx="2787480" cy="304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9BD-1BC3-4649-8306-815CA2B4B6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20160919_153949.jpg"/>
          <p:cNvPicPr/>
          <p:nvPr/>
        </p:nvPicPr>
        <p:blipFill>
          <a:blip r:embed="rId1"/>
          <a:stretch/>
        </p:blipFill>
        <p:spPr>
          <a:xfrm>
            <a:off x="1403280" y="361800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F0C-3F94-4C33-AEA2-FCFA4B055C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168-6C41-41E4-9927-052E3DFA9C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7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B2E-A1E4-4E21-8D9E-174FF5EDD6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16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педагогической диагностике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20160919_103145.jpg"/>
          <p:cNvPicPr/>
          <p:nvPr/>
        </p:nvPicPr>
        <p:blipFill>
          <a:blip r:embed="rId1"/>
          <a:stretch/>
        </p:blipFill>
        <p:spPr>
          <a:xfrm>
            <a:off x="835200" y="1268280"/>
            <a:ext cx="3217680" cy="5365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20160919_102420.jpg"/>
          <p:cNvPicPr/>
          <p:nvPr/>
        </p:nvPicPr>
        <p:blipFill>
          <a:blip r:embed="rId2"/>
          <a:stretch/>
        </p:blipFill>
        <p:spPr>
          <a:xfrm>
            <a:off x="4284720" y="3860640"/>
            <a:ext cx="4248000" cy="2727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198C-6741-491B-AEB5-8106311E80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0160919_104619.jpg"/>
          <p:cNvPicPr/>
          <p:nvPr/>
        </p:nvPicPr>
        <p:blipFill>
          <a:blip r:embed="rId1"/>
          <a:stretch/>
        </p:blipFill>
        <p:spPr>
          <a:xfrm rot="3642600">
            <a:off x="6399000" y="1608120"/>
            <a:ext cx="2728800" cy="1636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20160919_105432.jpg"/>
          <p:cNvPicPr/>
          <p:nvPr/>
        </p:nvPicPr>
        <p:blipFill>
          <a:blip r:embed="rId2"/>
          <a:stretch/>
        </p:blipFill>
        <p:spPr>
          <a:xfrm>
            <a:off x="1547640" y="4292640"/>
            <a:ext cx="1008360" cy="113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1</cp:lastModifiedBy>
  <dcterms:modified xsi:type="dcterms:W3CDTF">2016-09-19T12:01:59Z</dcterms:modified>
  <cp:revision>111</cp:revision>
  <dc:subject/>
  <dc:title>Обучение и воспитание успехом</dc:title>
</cp:coreProperties>
</file>