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097-67E8-48BA-A53F-665A8BE4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452-ECA6-424D-8F3D-7AE30C96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7B553-3330-430D-9F3D-4B2AD833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A46E8-5237-41B4-B859-23625448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B92D4-E3CF-4F8E-A65A-7A48757E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CE606-E80E-435B-9DA1-FDC5E4D1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DE870-0DE0-48D2-AEF1-F7C842B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480CE-F459-4E2D-8E07-288DA471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F67FC-AAE4-48B5-B0F6-EF044261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17E00-8B76-4B11-884B-34E4D6D2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76664-E707-4681-9CB5-B7C5E41D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BFC-645C-4C0A-846B-88E95BF8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3FA-2A50-4617-B9DE-A0685F65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83DE-4316-4012-A6FA-72930816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A548-B881-4A96-BDB2-290F78F6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E7AD-6772-4E85-B2D9-B41B7381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DB7A-ACB2-409B-B061-CA0804E1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2DEE-6C29-42D6-8890-FF826FDF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A763-DF9F-4E5E-87A7-FE4B0AB6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B329-3B9A-40C9-B023-67BA5FDC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9D9-AD72-4915-A624-A0AFE1B5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AAA0-E632-4866-901B-EA8084A0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2D3F-03E1-42BA-AADD-D318E9C5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A414-D9BB-4B4B-9329-7D4986BD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9D91-8A7C-4652-AE14-57181B1A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3CBF-29C1-49B0-ADC2-0F2E73C2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1CEB-B50B-4DCA-9204-8E5129CA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5580-C700-49DD-9150-E4BFE755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7D2A6-7B9C-4A55-9D05-5997F24F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8D3F2-449D-4945-8F5C-67A1055D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9DC0-D4BB-4E35-B3FB-93050B08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E87-6A84-4AD8-A7E6-4CCB02BA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6888-188A-4443-AE5D-D3F03ED1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77747-403E-4BFF-A641-B61F1F10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55C9-58B4-4A43-8FC5-7DCE7972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3BA2-291D-44FE-8194-A9DE50B7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81F0-550A-40C4-877A-94B94E03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5C48-70A2-485A-80FC-8B70EE56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C84D-75E0-4D5C-A90E-09AD1ABC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B398-2970-4C58-A5C5-2019B32B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7518-4F65-40B8-A80E-DB29329B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9E22-1A13-457A-B001-B03799D6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ADC-1C09-42A0-9015-A3E4125F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9862-E292-41F4-9B80-12F587D2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D6B7-66D1-4CA9-8D15-EE3D2430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915A-3DC4-4898-89BE-10A9F777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CC68D-0CF7-449C-9BEB-0B9AC39F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F3207-4D35-4766-8C0E-B15A68AD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6310-BC3B-49A8-B3D1-E289B671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C0B8A-77D3-491A-A079-21436FC8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72E9-0A07-4C35-BA82-3EB5FCC8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61443-265A-4F9C-AEED-93F31D33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A37DB-B70E-4813-952B-1C49A28C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E55-D1D0-4F85-9EF9-37FACBD8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4328A-01EF-4786-9605-010834EB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6EEEC-0669-4092-BF93-0D807DAA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9D485-8CDC-4523-8415-7EE67F69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DD4A6-BACC-40CE-94CD-06E93E24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C4B6A-7929-4155-9F06-3F6201CE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76BFF-4FCC-42B7-9FA1-850F3AE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E3ACA-A13E-4F37-9FED-39BA66C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E7C21-77EF-4B79-9ADC-495894F3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C9B3-135E-4026-8CA8-E74C3881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8747-D785-49F8-B2EB-0F32317E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816-8A99-495A-AC64-ABBDF532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25F96-5BF4-4C4B-A5C2-87B3BF1E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04A88-34DC-48CE-8ED2-4C7B2FF6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88A8A-A50A-4371-B65F-DE366852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723C6-C22F-48F1-B48E-A1E56018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CA3E3-6816-492B-89C7-3802EA13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A24F5-7760-47D8-8B37-250C58D0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B16B2-4AB7-4C4A-8602-B57E4B47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57CB7-1C4C-441C-8E0C-F32995FE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EEA6-91B5-4337-B62A-88F8853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ACD4C-812C-46FE-96CF-503D89F5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E80-8826-4F75-85F2-2C13F554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9887A-C16E-48E3-AFE5-287FF964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48314-56E1-4537-B62A-5ABA6C77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8ABE2-90A3-4778-AA80-BDE3F53F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CB34A-956D-43FA-923B-C67232DA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E62B6-0807-452C-BE7C-1A139706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AEE7A-2DE1-47AB-92E5-4F8AEFA3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F9AE3-A154-4F57-8AA0-85047920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550BF-6C76-4BCF-8867-5D494449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F78F-CF55-446E-9596-15B2E9B6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47EDF-9AD5-4B00-8CF9-FD38EDF5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043-35BA-436B-8BA1-2C2B6ECB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45736-20F8-43B0-9E4F-FC8D3F9D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8CCDD-897E-4195-B663-0CEF4FC6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E0643-271F-4071-A9E2-6746DC3A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26A0A-3ABB-48B6-B961-1D4B4456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2B60E-19C4-4617-A446-0C522559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BB157-8154-4B7C-9BC6-2E2749B0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1A06E-7E01-4BC3-BC9A-75412B5B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E0FAF-EE7F-4EC6-918E-BA0834BB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BB312-DE50-484E-AD71-5ABA25D1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0ADB9-BD84-4481-BD5D-9E5E60EB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690-A857-4D82-82F5-77C553D1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8BED7-B26D-4A5B-B7AD-6D586EA5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FD9A0-C82E-4409-9630-C6F076ED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93F87-0248-4509-96C7-42E35E6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343E8-A971-4E69-A43A-2FDE4AAF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6BCBD-E8A8-4122-AE61-38A2F63F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9AEF1-40A2-4185-8921-4B42A417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4C2D8-C4CC-4D92-9ED5-1531B612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91465-41BE-40B4-828E-4A262E7E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5BDFD-5988-4CDB-8B57-275A0B25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284DE-FFDD-49F3-AB57-EB5D0F1F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2B6533-EA87-4449-8177-082464C8E96A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3771AA-404B-4304-8598-F01BF4EBF490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C3438F-B42C-4232-BCC4-D91F03DB90E5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95E37F-22A1-4E03-9AA8-207A2D4F7298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8F5B0C-25A0-44E8-ABF2-60AD0C3E7C86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721C14-B0AE-4E2F-B55C-E79D7111204A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768DC1-BEAE-4304-A6C4-0EF4F16D5A76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1CCBAD-75F8-47DE-A45E-121D428DFB19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5C58B7-CC20-4D3F-915B-5FCE43F04ACD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1042920" y="1989000"/>
            <a:ext cx="70563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33cc"/>
                </a:solidFill>
                <a:latin typeface="Times New Roman"/>
              </a:rPr>
              <a:t>«</a:t>
            </a: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Особенности системы п</a:t>
            </a:r>
            <a:r>
              <a:rPr b="1" lang="en-GB" sz="4800" spc="-1" strike="noStrike">
                <a:solidFill>
                  <a:srgbClr val="0033cc"/>
                </a:solidFill>
                <a:latin typeface="Times New Roman"/>
              </a:rPr>
              <a:t>рофилактик</a:t>
            </a: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и</a:t>
            </a:r>
            <a:r>
              <a:rPr b="1" lang="en-GB" sz="4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насилия над</a:t>
            </a:r>
            <a:r>
              <a:rPr b="1" lang="en-GB" sz="4800" spc="-1" strike="noStrike">
                <a:solidFill>
                  <a:srgbClr val="0033cc"/>
                </a:solidFill>
                <a:latin typeface="Times New Roman"/>
              </a:rPr>
              <a:t> детьми </a:t>
            </a: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младшего школьного возраста</a:t>
            </a:r>
            <a:r>
              <a:rPr b="1" lang="en-GB" sz="4800" spc="-1" strike="noStrike">
                <a:solidFill>
                  <a:srgbClr val="0033cc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МБОУ СШ № 3 п. Яблонов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Times New Roman"/>
              </a:rPr>
              <a:t>Ачмиз Зарема Атамов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692360" y="83664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зентация на тем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684360" y="141300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imes New Roman"/>
              </a:rPr>
              <a:t>Жестокое обращение с ребенком может послужить основанием для привлечения родителей (лиц, их заменяющих) к ответственности в соответствии с семейным законодательство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684360" y="26028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Гражданско-правовая ответственность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042920" y="3573360"/>
            <a:ext cx="7058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Times New Roman"/>
              </a:rPr>
              <a:t>ст. 69 СК РФ - лишение родительских прав</a:t>
            </a:r>
            <a:br>
              <a:rPr sz="2400"/>
            </a:br>
            <a:r>
              <a:rPr b="1" lang="en-GB" sz="2400" spc="-1" strike="noStrike">
                <a:solidFill>
                  <a:srgbClr val="c00000"/>
                </a:solidFill>
                <a:latin typeface="Times New Roman"/>
              </a:rPr>
              <a:t>ст. 73 СК РФ - ограничение родительских прав</a:t>
            </a:r>
            <a:br>
              <a:rPr sz="2400"/>
            </a:br>
            <a:r>
              <a:rPr b="1" lang="en-GB" sz="2400" spc="-1" strike="noStrike">
                <a:solidFill>
                  <a:srgbClr val="c00000"/>
                </a:solidFill>
                <a:latin typeface="Times New Roman"/>
              </a:rPr>
              <a:t>ст. 77 СК РФ - отобрание ребенка при непосредственной угрозе жизни ребенка или его здоров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1332000" y="407160"/>
            <a:ext cx="74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Calibri"/>
              </a:rPr>
              <a:t>Нормативно правовые основы работы по профилактике семейного насилия над дет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971640" y="1583640"/>
            <a:ext cx="799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Генеральная Ассамблея ООН принимает Декларацию прав ребенка, где предусматривались наиболее важные принцип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-ребенок, ввиду его физической и умственной незрелости, нуждается в специальной охране и заботе, включая надлежащую правовую защиту, как до, так и после рожд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-равенство прав всех без исключения детей, без различия или дискриминации по признаку расы, цвета кожи, пола, языка, религии, политических и иных убеждений, национального или социального происхождения, имущественного положения, рождения или иного обстоятельства, касающегося самого ребенка или его семь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-ребенок имеет права гражданские (право на имя, гражданство, обязательное и бесплатное образование), а также на первоочередную помощь и защиту - особенно от всех небрежного отношения, жестокости и эксплуат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-ребенок, для полного и гармоничного развития его личности нуждается в любви и понимании. Он должен, когда это возможно, расти на попечении и под ответственность своих родителей и во всяком случае в атмосфере любви и моральной и материальной обеспеченности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»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. Малолетний ребенок не должен, кроме тех случаев, когда имеются исключительные обстоятельства, быть разлучаем со своей матерь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-на обществе и на органах публичной власти должна лежать обязанность осуществления особой заботы о детях, не имеющих семьи, и о детях, не имеющих достаточных средств к существованию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1042920" y="727200"/>
            <a:ext cx="7850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Calibri"/>
              </a:rPr>
              <a:t>Закон, регулирующий права и интересы ребен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Calibri"/>
              </a:rPr>
              <a:t>особо выделяет дет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-оказавшихся в трудной жизненной ситу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-оставшихся без попечения родит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-инвалидов, имеющих недостатки в психологическом и (или) физическом развит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-жертв вооруженных и межнациональных конфликтов, экологических и техногенных катастроф, стихийных бедств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-из семей беженцев и вынужденных переселен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-оказавшихся в   ситуаци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-жертв насил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-отбывающих  наказание в специальных учебно-воспитательных учреждени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-проживающих в малоимущих семь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-с отклонениями в поведении, жизнедеятельность которых объективно нарушена в результате сложившихся обстоятельствах и которые не могут преодолеть данные обстоятельства самостоятельно или с помощью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1185840" y="54936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Когда большой, значимый взрослый бьет маленького ребенка, ребенок чувствует беспомощность и фрустрацию.</a:t>
            </a: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Times New Roman"/>
              </a:rPr>
              <a:t>Эти чувства могут в дальнейшем сделать ребенка депрессивным или агрессивным. Учите своих детей, как вы хотите, чтобы они себя вели. Маленькие дети обычно не понимают, что они делают неправильно. Обязательно будьте последовательны в своих приме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258920" y="378936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Когда вы бьете ребенка, вы не учите его решать проблемы.</a:t>
            </a: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Times New Roman"/>
              </a:rPr>
              <a:t>Вы только заставляете чувствовать его плохо по отношению к самому себе. Низкая самооценка может остаться у него на всю жизнь. И следите за своими словами – они могут ударить еще сильн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250920" y="404640"/>
            <a:ext cx="8640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Поведение детей, которых бьют, становится агрессивным и деструктивным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Times New Roman"/>
              </a:rPr>
              <a:t>Физическое насилие дает ребенку больше оснований для плохого поведения. Оно как бы учит их "ты плохой, поэтому ты можешь, имеешь право делать плохие вещи". Когда ребенок постарше делает что-то плохое, попробуйте использовать "тайм-ауты". Изолируете ребенка прежде всего от себя на несколько минут. Посадите его на стул или кресло или отведите в свою комнату. Пусть он вернется оттуда тогда, когда он сможет контролировать свои действия Обычно тайм-аут длится несколько минут, до 10). При этом не забывайте поддерживать своих детей, когда они поступают правильно и делают хорошие вещ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250920" y="333360"/>
            <a:ext cx="80661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Физическое насилие не учит детей внутреннему контрол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гда не шлепайте ребенка. Ребенок, которого шлепают, никогда не научится управлять своим поведением: он всегда будет искать кого-то еще, кто бы говорил ему, что правильно делать, а что неправильно. Ваши ожидания должны быть по максимуму четкими. Поощряйте своего ребенка, когда он дружелюбен и настроен на сотрудничество. Поддерживайте его, когда он делает свой собственный хороший выб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"/>
          <p:cNvSpPr/>
          <p:nvPr/>
        </p:nvSpPr>
        <p:spPr>
          <a:xfrm>
            <a:off x="324000" y="18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Физическое насилие в любом виде пугает ребенка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ируйте себя. Ничто не поможет ребенку, который себя не контролирует, лучше, чем взрослый, остающийся спокойным. Учите детей справляться с собственным гневом и эмоциями и не позволяйте им овладеть собой. Помните, что вы - взрослый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539640" y="3284640"/>
            <a:ext cx="8064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Физическое насилие травмирует эмоции ребенка.</a:t>
            </a: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imes New Roman"/>
              </a:rPr>
              <a:t>Оно также может повлиять на успеваемость ребенка в школе и взаимоотношения с друзьями. Замечайте и поддерживайте все хорошее, что делает ваш ребенок. Дайте ему знать, что вы любите его просто за то, что он у вас 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"/>
          <p:cNvSpPr/>
          <p:nvPr/>
        </p:nvSpPr>
        <p:spPr>
          <a:xfrm>
            <a:off x="826920" y="313560"/>
            <a:ext cx="8066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Calibri"/>
              </a:rPr>
              <a:t>Основные цели, на достижение которых направлен процесс социальной профилакт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выявление причин и условий, способствующих возникновению какой-либо проблемы или комплекса проб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уменьшение вероятности или предупреждение возникновения недопустимых отклонений от системы социальных стандартов и норм в деятельности и поведении человека или групп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предотвращение возможных психологических, социокультурных и других коллизий у человека или групп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охранение, поддержание и защита оптимального уровня и образа жизни люд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содействие человеку или группе в достижении поставленных целей, раскрытие их внутренних потенциалов и творческих способ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1332000" y="815760"/>
            <a:ext cx="73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Calibri"/>
              </a:rPr>
              <a:t>Субъектами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(т.е, кто обеспечивает деятельность системы) воздействия являются специалисты нескольких ведомст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едаго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сихоло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рачи (педиатры, детские психиатры, невропатолог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редний медицинский персонал детских больниц и поликлини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Инспектора по делам несовершеннолетн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ботники, социальные педаго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уд, прокуратура, адвокату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"/>
          <p:cNvSpPr/>
          <p:nvPr/>
        </p:nvSpPr>
        <p:spPr>
          <a:xfrm>
            <a:off x="826920" y="668520"/>
            <a:ext cx="81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Calibri"/>
              </a:rPr>
              <a:t>Основными функциями междисциплинарных команд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вляются следующ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Информационно-аналитическая (собирает информацию по проблеме насилия и жестокого обращения в социуме, семье, образовательном и др. учреждениях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ервичного приема ребенка (или иного заявителя) в связи со случаем жесткого обращения или насил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и комплексной практической помощи ребенку и семь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циального мониторинга детей, подростков и семей групп рис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онно-профилактической работы (выступления перед родителями, выступления в трудовых коллективах, встречи с администрацией, выступления в СМИ, проведение конференций среди специалистов, акции по защите прав детей и т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395280" y="118944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сновные виды насил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1085760" y="2276640"/>
            <a:ext cx="756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Times New Roman"/>
              </a:rPr>
              <a:t>Выделяют несколько видов жестокого обращ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Times New Roman"/>
              </a:rPr>
              <a:t>физическое насил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Times New Roman"/>
              </a:rPr>
              <a:t>сексуальное насил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Times New Roman"/>
              </a:rPr>
              <a:t>психическое насил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Times New Roman"/>
              </a:rPr>
              <a:t>отсутствие заб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>
            <a:off x="1332000" y="94356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личие разнообразных специалистов позволяет производить максимально точную экспертную оценку ситуации, предлагать больший выбор решения проблемы и успешно преодолевать возникающие межведомственные барьеры. Команда может вступать во взаимодействие с какими - либо другими службами или передавать им роль лидера в оказании целевых услуг (пример: нарколог, детский гинеколог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1908000" y="907920"/>
            <a:ext cx="665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е критическое решение, с которым сталкиваются специалисты междисциплинарной команды - это оставлять ли ребенка, подвергшегося насилию или пренебрежению нуждами, дома при обеспечении семье помощи, уменьшающий риск вреда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"/>
          <p:cNvSpPr/>
          <p:nvPr/>
        </p:nvSpPr>
        <p:spPr>
          <a:xfrm>
            <a:off x="1332000" y="705240"/>
            <a:ext cx="75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Calibri"/>
              </a:rPr>
              <a:t>Программы многопрофильной (психологической, юридической, педагогической, социальной, медицинской) консультативной помощ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емь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пециалист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Детям и подрост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ограммы посещения сем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До - и послеродовый патронаж всех сем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сещение семей службами социальной помощ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сещение семей педагогами образовательных учреж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684360" y="-434880"/>
            <a:ext cx="83516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Давайте  будем искренн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любить детей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и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давать им тепло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, которое многие из них  недополучают дома в семье.   Давайт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мнить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, что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лаской всегда можно добиться большего, чем грубостью и силой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. И давайте не забывать, что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мы, педагоги,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являемся для многих учеников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бразцом подражани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Рисунок 2" descr="IMG_6741.JPG"/>
          <p:cNvPicPr/>
          <p:nvPr/>
        </p:nvPicPr>
        <p:blipFill>
          <a:blip r:embed="rId1"/>
          <a:stretch/>
        </p:blipFill>
        <p:spPr>
          <a:xfrm>
            <a:off x="826920" y="333360"/>
            <a:ext cx="8172720" cy="629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324000" y="260280"/>
            <a:ext cx="8496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Физическим насилием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Times New Roman"/>
              </a:rPr>
              <a:t>считается умышленное нанесение ребенку телесных повреждений, а также иное использование физической силы (причинение боли, лишение свободы, понуждение к употреблению психоактивных веществ и др.), в результате чего причиняется вред его физическому или психическому здоровью, нарушается нормальное развитие или создается реальный риск для жизни. К физическому насилию относится и бездействие, когда ребенок умышленно оставляется в опасной или неблагоприятной обстанов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042920" y="1197000"/>
            <a:ext cx="705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Сексуальное насилие или развращение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2060"/>
                </a:solidFill>
                <a:latin typeface="Times New Roman"/>
              </a:rPr>
              <a:t>это вовлечение ребенка взрослым в совершение действий сексуального характера с помощью насилия, угроз или злоупотребления доверием (с использованием беспомощного состояния), причинившее вред его физическому или психическому здоровью либо нарушившее его психосексуальное разви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539640" y="549360"/>
            <a:ext cx="7920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Пренебрежение нуждами ребёнка (моральная жестокость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2060"/>
                </a:solidFill>
                <a:latin typeface="Times New Roman"/>
              </a:rPr>
              <a:t>постоянное или периодическое неисполнение родителями или лицами, их заменяющими, своих обязанностей по удовлетворению потребностей ребенка в развитии и заботе, пище и крове, медицинской помощи и безопасности, приводящее к ухудшению состояния здоровья ребенка, нарушению его развития или трав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395280" y="333360"/>
            <a:ext cx="849780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Психическое насилие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Times New Roman"/>
              </a:rPr>
              <a:t>это поведение, вызывающее у детей страх, психологическое давление в унизительных формах (унижение, оскорбление), обвинения в адрес ребенка (брань, крики), принижение его успехов, отвержение ребенка, совершение в присутствии ребенка насилия по отношению к супругу или другим детям и т.п.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Times New Roman"/>
              </a:rPr>
              <a:t>Сигналами такого насилия являются: боязливость, запуганность, покорность, апатия, депрессия, отставание взросления, тревожность, беспомощность, некоммуникабельность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1"/>
          <p:cNvSpPr/>
          <p:nvPr/>
        </p:nvSpPr>
        <p:spPr>
          <a:xfrm>
            <a:off x="826920" y="907920"/>
            <a:ext cx="763272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Законодательство об ответств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за жестокое обращение с деть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сновным актом о правах ребёнка в России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вляется Федеральный закон от 24 июля 1998 г. N 124-ФЗ «Об основных гарантиях прав ребёнка в Российской Федераци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684360" y="692280"/>
            <a:ext cx="8208720" cy="5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Административная ответственность.</a:t>
            </a:r>
            <a:br>
              <a:rPr sz="2800"/>
            </a:br>
            <a:r>
              <a:rPr b="0" lang="en-GB" sz="2400" spc="-1" strike="noStrike">
                <a:solidFill>
                  <a:srgbClr val="002060"/>
                </a:solidFill>
                <a:latin typeface="Times New Roman"/>
              </a:rPr>
              <a:t>Лица, допустившие пренебрежение основными потребностями ребенка, не исполняющие обязанностей по содержанию и воспитанию несовершеннолетних, подлежат административной ответственности в соответствии с Кодексом Российской Федерации об административных правонарушениях (ст. 5.35 КоАП РФ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2060"/>
                </a:solidFill>
                <a:latin typeface="Times New Roman"/>
              </a:rPr>
              <a:t>предупреждение или наложени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е</a:t>
            </a:r>
            <a:r>
              <a:rPr b="1" lang="en-GB" sz="2000" spc="-1" strike="noStrike">
                <a:solidFill>
                  <a:srgbClr val="002060"/>
                </a:solidFill>
                <a:latin typeface="Times New Roman"/>
              </a:rPr>
              <a:t> административного штрафа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)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imes New Roman"/>
              </a:rPr>
              <a:t>Рассмотрение дел по указанной статье относится к компетенции комиссий по делам несовершеннолетних и защите их пра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395280" y="0"/>
            <a:ext cx="83534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Уголовная ответственность.</a:t>
            </a:r>
            <a:br>
              <a:rPr sz="2800"/>
            </a:br>
            <a:r>
              <a:rPr b="0" lang="en-GB" sz="2000" spc="-1" strike="noStrike">
                <a:solidFill>
                  <a:srgbClr val="002060"/>
                </a:solidFill>
                <a:latin typeface="Times New Roman"/>
              </a:rPr>
              <a:t>Российское уголовное законодательство предусматривает ответственность лиц за все виды физического и сексуального насилия над детьми, а также по ряду статей - за психическое насилие и за пренебрежение основными потребностями детей, отсутствие заботы о них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790560" y="2063880"/>
            <a:ext cx="835344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</a:rPr>
              <a:t>ст. 110 УК РФ - доведение до самоубийства</a:t>
            </a:r>
            <a:br>
              <a:rPr sz="2000"/>
            </a:br>
            <a:r>
              <a:rPr b="1" lang="en-GB" sz="2000" spc="-1" strike="noStrike">
                <a:solidFill>
                  <a:srgbClr val="c00000"/>
                </a:solidFill>
                <a:latin typeface="Times New Roman"/>
              </a:rPr>
              <a:t>ст. 111 УК РФ - умышленное причинение тяжкого вреда здоровью</a:t>
            </a:r>
            <a:br>
              <a:rPr sz="2000"/>
            </a:br>
            <a:r>
              <a:rPr b="1" lang="en-GB" sz="2000" spc="-1" strike="noStrike">
                <a:solidFill>
                  <a:srgbClr val="c00000"/>
                </a:solidFill>
                <a:latin typeface="Times New Roman"/>
              </a:rPr>
              <a:t>ст. 112 УК РФ - умышленное причинение средней тяжести вреда здоровью</a:t>
            </a:r>
            <a:br>
              <a:rPr sz="2000"/>
            </a:br>
            <a:r>
              <a:rPr b="1" lang="en-GB" sz="2000" spc="-1" strike="noStrike">
                <a:solidFill>
                  <a:srgbClr val="c00000"/>
                </a:solidFill>
                <a:latin typeface="Times New Roman"/>
              </a:rPr>
              <a:t>ст. 113 УК РФ - причинение тяжкого или средней тяжести вреда здоровью в состоянии аффекта</a:t>
            </a:r>
            <a:br>
              <a:rPr sz="2000"/>
            </a:br>
            <a:r>
              <a:rPr b="1" lang="en-GB" sz="2000" spc="-1" strike="noStrike">
                <a:solidFill>
                  <a:srgbClr val="c00000"/>
                </a:solidFill>
                <a:latin typeface="Times New Roman"/>
              </a:rPr>
              <a:t>ст. 115 УК РФ - умышленное причинение легкого вреда здоровью</a:t>
            </a:r>
            <a:br>
              <a:rPr sz="2000"/>
            </a:br>
            <a:r>
              <a:rPr b="1" lang="en-GB" sz="2000" spc="-1" strike="noStrike">
                <a:solidFill>
                  <a:srgbClr val="c00000"/>
                </a:solidFill>
                <a:latin typeface="Times New Roman"/>
              </a:rPr>
              <a:t>ст. 116 УК РФ - побои</a:t>
            </a:r>
            <a:br>
              <a:rPr sz="2000"/>
            </a:br>
            <a:r>
              <a:rPr b="1" lang="en-GB" sz="2000" spc="-1" strike="noStrike">
                <a:solidFill>
                  <a:srgbClr val="c00000"/>
                </a:solidFill>
                <a:latin typeface="Times New Roman"/>
              </a:rPr>
              <a:t>ст. 117 УК РФ - истязание</a:t>
            </a:r>
            <a:br>
              <a:rPr sz="2000"/>
            </a:br>
            <a:r>
              <a:rPr b="1" lang="en-GB" sz="2000" spc="-1" strike="noStrike">
                <a:solidFill>
                  <a:srgbClr val="c00000"/>
                </a:solidFill>
                <a:latin typeface="Times New Roman"/>
              </a:rPr>
              <a:t>ст. 118 УК РФ - причинение тяжкого вреда здоровью по неосторожности</a:t>
            </a:r>
            <a:br>
              <a:rPr sz="2000"/>
            </a:br>
            <a:r>
              <a:rPr b="1" lang="en-GB" sz="2000" spc="-1" strike="noStrike">
                <a:solidFill>
                  <a:srgbClr val="c00000"/>
                </a:solidFill>
                <a:latin typeface="Times New Roman"/>
              </a:rPr>
              <a:t>ст. 119 УК РФ - угроза убийством или причинением тяжкого вреда здоровью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ладелец</dc:creator>
  <dc:description/>
  <dc:language>en-US</dc:language>
  <cp:lastModifiedBy>ШКОЛА</cp:lastModifiedBy>
  <dcterms:modified xsi:type="dcterms:W3CDTF">2016-11-29T12:40:38Z</dcterms:modified>
  <cp:revision>27</cp:revision>
  <dc:subject/>
  <dc:title>Слайд 1</dc:title>
</cp:coreProperties>
</file>