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A3F-EBDE-4F9D-94C5-6A2E853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F63-F075-4E83-B579-28C2137C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15A-4AFF-4387-B050-61F2C516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9D5-D370-44D6-9FF1-EF9068AC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4C83-7432-44C7-B2F1-9BE0F99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1C01-CA29-42C4-84D5-4A57C5A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A0E7-3C1E-4650-A58E-02DBD24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6DBA-4360-4F1D-95D0-30105EE0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1C06-CCCD-4F11-8740-139DF6E4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365E-75DD-4F6A-B778-9F67763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831E-3800-423A-BD70-8F709F1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E0E-5859-4FD6-89F4-5C898AC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C3CC-EB63-4694-8229-B8020D2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087-F905-4FA0-A273-1A9D9D3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A6BF-34CC-4C69-86F9-445D9E8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0858-78BC-4FED-AFCA-4F74417B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B52B-F75F-4E62-836E-CD60B385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8912-4EA5-4397-B6D7-129201A2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1856-3711-44C8-B860-B8FA0CB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1D21-8D21-4A9B-9081-6B3D8D4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5A3A-FCA9-4C2E-A939-16BFED5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B981-3ADC-4E16-B54C-252AFF3E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DD2-CE13-433C-8AEB-1825C6D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EFC9-18C3-495F-B0AB-4AD1E0D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A2FE-9AC1-4512-A606-B3F92906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04FE1-F04E-4ABE-94B7-B06A77BE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9AB7-B933-4024-9D59-12BAA3F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F63E-CB60-4EB2-9526-121D96B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A3C1-F462-4E8A-B67C-5B350013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FB20-C335-4745-B238-CAC4B97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AA2C-9DC2-48B9-B3C7-EAC87E48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0656-D970-4A4E-BDAC-0C4557A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DF19-F7DC-4601-B724-605DA41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B15-8B84-48EA-8A0D-D5125D2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A939-E38C-4F6E-B011-FD01CD86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7CA8-4149-4897-BDE2-807B9981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1A447-3C15-424E-8B31-EF2A00F1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C5BF-EB42-43A7-8B1C-080DD3F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2C24-91F2-42E8-BA06-A3BBEE0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1B10-5675-4F03-ACE2-9E37D51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388B-3DC9-4510-AC5E-78A839D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7F13-C853-4286-A873-3432BE03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C6BD3-E56B-4121-ACF6-E7225060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5645-8C38-4B8D-B66E-E6B1C7A5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879-8ED5-48C9-91EE-BF6B873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180E-2B36-42E1-8A21-044897BF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165B-18AE-4DC5-B3A4-F5C95D8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4396-96E5-472D-98E4-1A26487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04B8-89AC-4D9E-A86A-90EBF8D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2AA5-7874-472D-9BEA-32F55FB4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469B-0F3B-4BEC-A5A4-B4FE7B6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825D-8470-462E-A335-0EA8F68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805E-1C6C-4FAA-94B1-4C848BC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DCF8-12A7-4529-B370-5983B13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DF9C-A089-4DCA-9C97-3F3B1BAA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B3B-F244-4A96-A6D0-9C11C09D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BFE6-729E-4F7D-9B72-3D205563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149-ABB5-4C31-BA65-9592CD2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858-F6BE-471A-B439-78B33D6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E4C-D267-4354-82C5-E7D79A0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D79-ADD5-4098-96DC-E0D9F87ECFD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8D5B-EF86-4394-8E8E-770AC6ADE26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545-E952-4F25-9147-D92B536C68D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6AB-6241-4FDA-BD69-B8F06A3A399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8B0-F236-44FB-9579-5754A6A676C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4360" y="184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Активизация познавательной деятельности учащихся</a:t>
            </a:r>
            <a:r>
              <a:rPr b="1" i="1" lang="ru-RU" sz="3600" spc="-1" strike="noStrike">
                <a:solidFill>
                  <a:srgbClr val="ffffff"/>
                </a:solidFill>
                <a:latin typeface="Trebuchet MS"/>
              </a:rPr>
              <a:t> на уроках хими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2568240" y="324576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химии –Коломыцева Н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181080" y="620640"/>
            <a:ext cx="7785360" cy="1054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акан, гвоздь, железо, вода, льдина, соль, пробирка, спирт, кастрюля,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люминий, сахар, пластмасса, ложка, линейка, крахмал, полиэтилен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ислород, мяч, уксусная кислота, дверная ручка, мел, лампа, молок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-252360" y="333360"/>
            <a:ext cx="725472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00000" y="1773360"/>
          <a:ext cx="7056720" cy="4919400"/>
        </p:xfrm>
        <a:graphic>
          <a:graphicData uri="http://schemas.openxmlformats.org/drawingml/2006/table">
            <a:tbl>
              <a:tblPr/>
              <a:tblGrid>
                <a:gridCol w="3529080"/>
                <a:gridCol w="3527640"/>
              </a:tblGrid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Простые веществ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Сложные веществ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) SO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,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Н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, N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1) Си,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,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)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НС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,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Н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S, N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2)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, O2, Fe2O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) Fe2(SO4)3, H2,CI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3) S, NaCI,H2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4) SiO2, C, Z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4) SO3, F2, F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) Cr, Ca, 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А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2O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) CS2, FeCI3,S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Си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    S 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   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А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I 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   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 Cr   </a:t>
            </a:r>
            <a:r>
              <a:rPr b="0" lang="ru-RU" sz="35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 I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Trebuchet MS"/>
              </a:rPr>
              <a:t>Zn </a:t>
            </a:r>
            <a:r>
              <a:rPr b="1" lang="ru-RU" sz="3500" spc="-1" strike="noStrike">
                <a:solidFill>
                  <a:srgbClr val="00b050"/>
                </a:solidFill>
                <a:latin typeface="Trebuchet MS"/>
              </a:rPr>
              <a:t>   </a:t>
            </a:r>
            <a:r>
              <a:rPr b="1" lang="en-US" sz="3500" spc="-1" strike="noStrike">
                <a:solidFill>
                  <a:srgbClr val="00b050"/>
                </a:solidFill>
                <a:latin typeface="Trebuchet MS"/>
              </a:rPr>
              <a:t>N</a:t>
            </a:r>
            <a:r>
              <a:rPr b="1" lang="ru-RU" sz="3500" spc="-1" strike="noStrike">
                <a:solidFill>
                  <a:srgbClr val="00b050"/>
                </a:solidFill>
                <a:latin typeface="Trebuchet MS"/>
              </a:rPr>
              <a:t>      Н        С</a:t>
            </a:r>
            <a:r>
              <a:rPr b="1" lang="en-US" sz="3500" spc="-1" strike="noStrike">
                <a:solidFill>
                  <a:srgbClr val="00b050"/>
                </a:solidFill>
                <a:latin typeface="Trebuchet MS"/>
              </a:rPr>
              <a:t>I </a:t>
            </a:r>
            <a:r>
              <a:rPr b="0" lang="ru-RU" sz="35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Trebuchet MS"/>
              </a:rPr>
              <a:t>C</a:t>
            </a:r>
            <a:r>
              <a:rPr b="0" i="1" lang="ru-RU" sz="3500" spc="-1" strike="noStrike">
                <a:solidFill>
                  <a:srgbClr val="ffff00"/>
                </a:solidFill>
                <a:latin typeface="Trebuchet MS"/>
              </a:rPr>
              <a:t>а    </a:t>
            </a:r>
            <a:r>
              <a:rPr b="0" i="1" lang="en-US" sz="3500" spc="-1" strike="noStrike">
                <a:solidFill>
                  <a:srgbClr val="ffff00"/>
                </a:solidFill>
                <a:latin typeface="Trebuchet MS"/>
              </a:rPr>
              <a:t>Fe</a:t>
            </a:r>
            <a:r>
              <a:rPr b="0" i="1" lang="ru-RU" sz="3500" spc="-1" strike="noStrike">
                <a:solidFill>
                  <a:srgbClr val="ffff00"/>
                </a:solidFill>
                <a:latin typeface="Trebuchet MS"/>
              </a:rPr>
              <a:t>      О        Аи   </a:t>
            </a:r>
            <a:r>
              <a:rPr b="0" i="1" lang="en-US" sz="3500" spc="-1" strike="noStrike">
                <a:solidFill>
                  <a:srgbClr val="ffff00"/>
                </a:solidFill>
                <a:latin typeface="Trebuchet MS"/>
              </a:rPr>
              <a:t>Sr 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rebuchet MS"/>
              </a:rPr>
              <a:t>Na</a:t>
            </a:r>
            <a:r>
              <a:rPr b="1" i="1" lang="ru-RU" sz="3500" spc="-1" strike="noStrike">
                <a:solidFill>
                  <a:srgbClr val="000000"/>
                </a:solidFill>
                <a:latin typeface="Trebuchet MS"/>
              </a:rPr>
              <a:t>            Р              К   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030a0"/>
                </a:solidFill>
                <a:latin typeface="Trebuchet MS"/>
              </a:rPr>
              <a:t>S</a:t>
            </a:r>
            <a:r>
              <a:rPr b="0" lang="ru-RU" sz="3500" spc="-1" strike="noStrike">
                <a:solidFill>
                  <a:srgbClr val="7030a0"/>
                </a:solidFill>
                <a:latin typeface="Trebuchet MS"/>
              </a:rPr>
              <a:t>      В      Аи          </a:t>
            </a:r>
            <a:r>
              <a:rPr b="0" lang="en-US" sz="3500" spc="-1" strike="noStrike">
                <a:solidFill>
                  <a:srgbClr val="7030a0"/>
                </a:solidFill>
                <a:latin typeface="Trebuchet MS"/>
              </a:rPr>
              <a:t>Li</a:t>
            </a:r>
            <a:r>
              <a:rPr b="0" lang="ru-RU" sz="35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3500" spc="-1" strike="noStrike">
                <a:solidFill>
                  <a:srgbClr val="7030a0"/>
                </a:solidFill>
                <a:latin typeface="Trebuchet MS"/>
              </a:rPr>
              <a:t>F</a:t>
            </a:r>
            <a:r>
              <a:rPr b="0" lang="ru-RU" sz="3500" spc="-1" strike="noStrike">
                <a:solidFill>
                  <a:srgbClr val="7030a0"/>
                </a:solidFill>
                <a:latin typeface="Trebuchet MS"/>
              </a:rPr>
              <a:t>             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0" y="404640"/>
            <a:ext cx="8315280" cy="130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99920"/>
            <a:ext cx="723888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. Это вещество органическое?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. Это жидкость?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. Это газ?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4. Горит без копоти?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5. Выделяется  СО2?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6. В молекуле имеется двойная связь?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7. Копоть образуется при сгорании на воздухе?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8. Это предельный углеводород?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9. Непредельный?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0. Тройная связь в молекуле есть?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1.Применяется в качестве топлива?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2.Используется для сварки и резки металлов?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3.Это ацетилен?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725472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овите химический элемент, в название которого входят буквы из слов – названий элементов: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ремний, осмий, дубний, радий, гелий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едь, висму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ем искомое слово содержит из приведенных названий по одной букве, не повторяющейся больше ни в каком другом из этих с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Arial"/>
              </a:rPr>
              <a:t>Ребус 1.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Текст 30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192720" cy="40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Arial"/>
              </a:rPr>
              <a:t>Ребус 2.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Текст 3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46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Arial"/>
              </a:rPr>
              <a:t>Ребус 3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Текст 30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551640" cy="439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в периодической систем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ву на третьем этаж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ть группа у меня седьма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применяюсь я везд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ислоты, соли есть повсюд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же в воде встречаюсь 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очень – очень счастлив буд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ль назовете вы мен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7360" y="-8842320"/>
            <a:ext cx="69840" cy="931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  ВНИМАНИЕ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Познавательная деятельность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рамках модернизации образования перед педагогами поставлена задача ориентировать учащихся не только на  усвоение определённой суммы знаний, но и на развитие личности, познавательных и созидательных способностей. В связи  с этим для усвоения содержания предметных курсов важно организовывать различные виды познавательной деятельности, использовать активные формы обучения с учётом индивидуальных способностей учащих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4000" y="1052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ля репродуктивной деятельности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Виды деятельности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наблюдение, описание, пересказ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Формы занятий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лекции с демонстрацией эксперимента или других средств наглядности, лабораторные и практические занятия по подробной инструкции, экскурсия на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пределённый объек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ля частично-поисковой деятельности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Виды деятельности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анализ содержания дополнительного источника информации, составление плана сообщения или реферата, пересказ дополнительной информации с комментариями, сравнение фактов с последующим формированием выводов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Формы занятий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диспут, семинар, дискуссия,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кскурсия,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щита реферата, аукцион, конференция, пресс-конференция, устный журна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9000"/>
            <a:ext cx="80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Варианты взаимосвязи познава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деятельности учащихся и активных форм за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1699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Эффективность обучения находится в прямой зависимости от уровня активности учащихся, поэтому одна из главных задач не только сообщение учащимся определённой суммы знаний, но и развитие у них познавательных интересов, творческого отношения к делу, стремления к самостоятельному пополнению знаний, совершенствованию умения применять их в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Познавательный интерес—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ажнейшее свойство личности, которое складывается в процессе жизнедеятельности человека, формируется в социальных условиях его существования. Познавательный интерес побуждает учащегося вникать в существенные связи, отношения объектов познания, закономерности нау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476280"/>
            <a:ext cx="81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Развитие познавательного интереса учащихся.</a:t>
            </a: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95280" y="1844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Для того ,чтобы сделать оптимальный выбор формы организации деятельности и учебного материала, преподавателю необходимо учитывать следующие факторы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новизну учебного материал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целесообразность введения нового теоретического материал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необходимость изучения нового теоретического материала для решения определённой проблемы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Неожиданность некоторых химических фактов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Поиск связей между ранее изученным и новым материалом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Взаимосвязь теоретического материала и практических задач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Практическую значимость изучаемого материал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Исследовательский, творческий характер учебного процесс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Элементы состязательности, азарта в обучении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Ситуацию успеха, радости познан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Игровую ситуацию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180360" y="260280"/>
            <a:ext cx="7886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Основной фактор развития интереса к предмету— по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учениками изучаемого материала и успешное выполнение 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упражнений. Непонимание материала и вытекающие отсюда неум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справиться с какими-то заданиями служат причинами потери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к предмету.</a:t>
            </a: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пиграф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.Д.Шаталов утверждал, что для того, чтобы работа в школе была эффективной, должен сработать «эффект соленого огурца». Главное – создать рассол, тогда какой бы не был огурец, плохой или хороший, попав в рассол, он просоли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к создать такой «рассол»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взять за его основ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5280" y="1699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Игр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—форма организации обучения, воспитания и развития личности, которая изначально мотивирована на успех, осуществляется по специально разработанным сценарию и правилам, в максимальной степени опирается на самоорганизацию уч-ся, воссоздаёт или мотивирует опыт человеческой деятельности и общения. Она позволяет расширить и углубить процессы творческого самоопределения, самосовершенствования, самоуправления, самореализации, а следовательно, и творческого саморазвития студент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Дидактические игры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позволяют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) 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тивизировать и интенсифицировать процесс обучения, т.к. стимулирует учебную деятельность уч-ся; б) воссоздать межличностные отношения, процедуры принятия коллективных решений в ситуации; в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широких пределах варьировать проблемность, трудность, сложность учебного материала; г) гибко сочетать разнообразные приёмы и методы обучения и учения: от репродуктивных до проблемных; д) моделировать практически любой вид профессиональной деятельност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687600" y="189000"/>
            <a:ext cx="7428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Дидактические игры.</a:t>
            </a:r>
            <a:r>
              <a:rPr b="0" lang="en-US" sz="18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Arial"/>
              </a:rPr>
              <a:t>В каждом настоящем человеке скрыт ребёнок, который хочет выйти и начать игр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b13f9a"/>
                </a:solidFill>
                <a:latin typeface="Arial"/>
              </a:rPr>
              <a:t>Ф Ницше</a:t>
            </a: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68360" y="260280"/>
          <a:ext cx="7372440" cy="5862600"/>
        </p:xfrm>
        <a:graphic>
          <a:graphicData uri="http://schemas.openxmlformats.org/drawingml/2006/table">
            <a:tbl>
              <a:tblPr/>
              <a:tblGrid>
                <a:gridCol w="1150920"/>
                <a:gridCol w="1368360"/>
                <a:gridCol w="1297080"/>
                <a:gridCol w="1944720"/>
                <a:gridCol w="1611360"/>
              </a:tblGrid>
              <a:tr h="76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г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е 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иг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емые ро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 игр по 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ров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зн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о, лот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ус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ольные игр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задач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емый, обучающийся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етитор, будущ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ель, инстру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ино «Умеешь ли 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ть химическ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веществ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 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ю знани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 достижен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 в изучен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а 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анов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онный зачет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иматель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н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тр знаний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ниры зн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 аттестационного жюр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нзенты, коммента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 «Что должен зн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уметь по хим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ущий…?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иктори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я химии. Встречи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Н. Турнир юны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ов. Конкурс юны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то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н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ые  иг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ор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й по разны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ам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знаний 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ых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я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он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. Защи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х проекто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-конферен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у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ссер, разные роли 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ценарию: члены жюри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, конструкторы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, педагог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еры, врач СЭС, экологии и др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вечера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клуба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о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а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 иг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ование 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знани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ворческо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учебно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а, модел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ра, сцена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 – теоретик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слите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», «мозгов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рм», составл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, проектир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его ме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4000" y="1052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Театрализованная игра- судебный процесс.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 таких уроках можно убедить учащихся, что недостаток химических знаний нередко становится причиной различных бедствий или катастроф .Эти уроки дают возможность рассматривать изучаемый материал с разных, иногда противоположных точек зрения, т.е. учат воспринимать окружающий мир таким, какой он есть в действительност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Познавательно-поисковая игр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. Учащиеся на данном уроке охотно включаются в работу, фантазируют, погружаются в воображаемые ситуации и активно решают возникающие проблем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Викторин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химические загадки и КВН, ребусы и шарады, кроссворды и анаграммы,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телепередачи.( «Что? Где? Когда?» «Брейн-ринг», «Поле чудес» и другие…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Тематические викторины-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овышают интерес к изучаемой теме, более глубокого её понимания и усвоени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Деловые игры (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митационные , операционные, ролевые, деловые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Они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развивают творческие способности, формируют общеучебные умения, анализируют учебный материал с различных точек зрения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/>
          <p:nvPr/>
        </p:nvSpPr>
        <p:spPr>
          <a:xfrm>
            <a:off x="749880" y="138240"/>
            <a:ext cx="57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b13f9a"/>
                </a:solidFill>
                <a:latin typeface="Arial"/>
              </a:rPr>
              <a:t>Виды дидактических игр</a:t>
            </a: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2:52:40Z</dcterms:created>
  <dc:creator>Пользователь</dc:creator>
  <dc:description/>
  <dc:language>en-US</dc:language>
  <cp:lastModifiedBy>Admin</cp:lastModifiedBy>
  <dcterms:modified xsi:type="dcterms:W3CDTF">2016-11-29T14:55:18Z</dcterms:modified>
  <cp:revision>41</cp:revision>
  <dc:subject/>
  <dc:title>Слайд 1</dc:title>
</cp:coreProperties>
</file>