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B54E-3270-47C3-84C6-5D772EA3E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09EF-9BAD-4A63-B300-D133D09D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ED88-AFF6-41C2-9AF6-C34D7EE9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9091-1B81-48B6-86C3-0A0728B12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CD90-3FEA-4923-BDDA-D5A7FA4A9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DD03-38CB-4080-84A0-26581744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B8FC-7906-4A20-962B-241C3D91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D922-0A08-4AD8-984D-D4327095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CB33-A395-4F2F-9E61-0641ACAB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2200-B69F-4641-B690-355CCA15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F0BD-68B1-41CD-B92F-D2E49297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8244-EF8B-423B-B2C7-1FC0190E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44A8-8AF6-424F-B3F2-E95D5C9C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9E1A-F62C-4808-B845-7D6D164C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90F8-DF09-4D4C-899E-C177F69F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84B5-8FF4-49B8-83DA-CB5DCADA9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8BDC-582A-4087-B7BF-674CA7492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E3606-F9FB-4470-9743-41761756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030AA-442F-4C2A-A673-9B9F6C24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10B22-2EB5-42C1-BCA7-BCA76A6C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9196D-7599-480C-B750-B8458E31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8908E-FEE6-4B43-A86F-369ED960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32E9-3BAB-4D30-9C08-CB3A46A7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19469-DD03-490A-914A-BB82C82D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F91F3-06E6-43FE-9EE1-2996CA4C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F77F2-9FF4-4584-ACEA-5DB6C1E4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DB2B4-8EFF-40F8-882A-2F05CF7E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58F26-E08E-4884-910B-A31C0C49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5C7D2-3E72-42FF-AFA2-52D5F43C7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DCEF6-E4DE-451D-9009-8E5882698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40F30-6914-4614-B072-914616C7B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EAE8E-7F86-4B01-9C1F-8256E4DB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52AB0-89A5-4D8F-8317-3645315F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C109-2C3A-40B6-82D1-93C722A2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73F21-03AE-4BB8-B954-74472D17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2C66D-5C75-4CDD-A7E6-CA12ABC5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70F62-C4E8-4427-AF75-DC95313F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532C0-1294-471A-A3C2-9A99DEAB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8BE21-05EA-4AEE-8A07-D541F50A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3FB6A-1713-4622-882B-DFED6B34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7A2D3-EBA8-4D4C-A396-5B92EBC8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FBDD5-D81F-47B4-B64F-17AE7EC2A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82513-D0A2-4C1A-B778-662C457F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8DC18-65E9-4209-91D3-1372DC7B4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7E42-33AA-481A-9D80-1C0E17D3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AE3CA-4E49-4CE3-851D-95835F49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3E7F3-5950-476B-9242-819EA2CA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799E7-B80A-4A83-81B5-D037503D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9922D-64DE-454A-8844-BB1C7CE0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D87FA-55FF-4DC2-8830-EBEF40AF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21F27-ACB3-441C-B1E6-9EDC8A35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1F4CA-F4D8-4CAE-8D4C-E2654CB8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5FA0A-28D4-4FE9-8525-7CD7F8FF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7E5FC-F984-4E55-944C-9EB1AF6D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500B1-C0EB-4CF8-9B2A-6B2E9ADD7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9E84-CC1F-467E-B1BD-BC518147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40437-D5B4-4ACA-844F-1D692DCB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BC2DF-3468-466C-B824-ACFB3D782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3A0FD-BCC1-4D28-A2C2-CBFFFD15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68620-45AB-4825-B66D-B9101D2E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76321-175A-4CAA-A8E1-1BBFA221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613C8-76AF-4543-A50E-89B13133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85CE2-9C76-4BA1-AC7F-6FEA1F26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6AECF-E74D-4432-9FCA-E632697E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534CC-0378-4C54-B8E3-BB3AEA6E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93306-1AB9-4969-BF6B-D5A9083D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9E02-0C5A-45C6-9017-E7CF2299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8331D-ED4B-47F3-B5B5-219424F0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1D62C-F6FD-49CD-8505-8F28882A3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C2F93-1192-4D62-98F9-F5EBE8145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7F5AE-067D-42B2-9EE9-45DA63B41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ADBDB-C9C1-4F11-ACFE-73AF771F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F908C-C557-4C72-879E-D5ADC426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A99F2-CAA7-4267-93D5-4284906E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0A252-2AA4-4251-A666-449B8844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3B8BA-4B35-45C4-A46B-602BDA17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B596F-6719-4CA4-8813-6DCDF79F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9147-336B-4113-903B-ACBBD344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3D5B2-5367-4B54-A304-5A1A181C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1A8FA-DF6C-48AE-9850-0449F371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89541-0BCE-46BB-8658-9F401D48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6E05B-062A-4911-B67F-20C2B526E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BEA9B-04F5-4F63-9398-E8047C2A9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5653-20C1-4615-9D9B-E10123D0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9CB9-F106-4AFE-BF14-371E6414CF4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170A-71A9-4A14-958D-3E72E60763F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7A0B-97D4-49C3-857B-09532740998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1565-AC97-4D53-AA22-B6E760D0419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0A5A-E1C8-4CCE-9F3D-D78AFAFE960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D2C2-1423-4860-9F61-2C82A1229D0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8186-2124-450C-A181-4AD89917B13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319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ndara"/>
              </a:rPr>
              <a:t>Диагностическая работа в дошкольном учрежден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3"/>
          <p:cNvSpPr/>
          <p:nvPr/>
        </p:nvSpPr>
        <p:spPr>
          <a:xfrm>
            <a:off x="299880" y="33480"/>
            <a:ext cx="8856720" cy="71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Группы слов для запоминания: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1 группа: дом, лес, кот                2 группа: холод, рыба, книга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Или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1 группа: брат, окно, вода          2 группа: лед, меч, прут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Или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1 группа: куб, луч, трон             2 группа: шуба, ваза, пирог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Обработка  и  интерпретация  данных: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Анализируемые  показатели.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объём  запоминаемого  материала;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количество  необходимых  для  полного  запоминания  повторений;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возможность  удержания  порядка  слов;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наличие  привнесённых  слов  и  слов, близких  по  смыслу  (парафазии);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Возрастные  нормативы  выполнения.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дети  4,5 – 5, 5  лет  обычно  хорошо  понимают  инструкцию  и  в  состоянии  произвольно  запоминать  слова  в  данном  объёме. Как  правило, в  этом  возрасте  дети  запоминают  группу  из  3  слов  в  правильном  порядке  с  2 – 3  предъявлений, а  из  5  слов – с  3 – 4  предъявлений. Но  в  этом  случае  порядок  слов  может  быть  незначительно  изменён.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При  воспроизведении  второй  группы  слов  обнаруживаются  те  же  особенности  запоминания. При  воспроизведении, как  правило, дети  не  выходят  за  границы  групп, то  есть  слова  в  группе  не  интерферируют  между  собой. Порядок  слов  в  основном  сохраняется. При  наличии  в  неправильно  воспроизведённых  словах  слов, близких  по  смыслу  к  тестовым, можно  говорить  о  трудностях  не  столько  запоминания, сколько  актуализации  необходимого  в  данный  момент  слова;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дети  5,5 – 6 – летнего  возраста  способны  воспроизводить  группы  слов  в  количестве  5 + 3. Характер  воспроизведения  в  целом  аналогичен  описанному  выше. При  повторном  воспроизведении  возможна  «утеря»  (не  более  одного – двух  слов)  или  незначительные  изменения  (перестановка)  порядка  слов  (также  одно – два  слова).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Диагностика готовности  к школе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8" name="Объект 4" descr=""/>
          <p:cNvPicPr/>
          <p:nvPr/>
        </p:nvPicPr>
        <p:blipFill>
          <a:blip r:embed="rId1"/>
          <a:stretch/>
        </p:blipFill>
        <p:spPr>
          <a:xfrm>
            <a:off x="237960" y="1981080"/>
            <a:ext cx="3992760" cy="4048200"/>
          </a:xfrm>
          <a:prstGeom prst="rect">
            <a:avLst/>
          </a:prstGeom>
          <a:ln w="0">
            <a:noFill/>
          </a:ln>
        </p:spPr>
      </p:pic>
      <p:pic>
        <p:nvPicPr>
          <p:cNvPr id="359" name="Объект 5" descr=""/>
          <p:cNvPicPr/>
          <p:nvPr/>
        </p:nvPicPr>
        <p:blipFill>
          <a:blip r:embed="rId2"/>
          <a:stretch/>
        </p:blipFill>
        <p:spPr>
          <a:xfrm>
            <a:off x="4773600" y="1901880"/>
            <a:ext cx="406548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Дополнительные Средства диагностик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76440" y="2677680"/>
            <a:ext cx="382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ля педагогов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77880" y="3429000"/>
            <a:ext cx="381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1. Алаид Е.В. «Адаптация детей к ДОУ»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2. Карты социально- личностного развития ребенка. Урунтаева Г.А.и др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48320" y="2677680"/>
            <a:ext cx="3822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ля родителе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45080" y="3429000"/>
            <a:ext cx="382248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Анкеты по адаптации И.В. Лапиной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Объект 2" descr=""/>
          <p:cNvPicPr/>
          <p:nvPr/>
        </p:nvPicPr>
        <p:blipFill>
          <a:blip r:embed="rId1"/>
          <a:stretch/>
        </p:blipFill>
        <p:spPr>
          <a:xfrm>
            <a:off x="895320" y="2408400"/>
            <a:ext cx="7353360" cy="427824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ndara"/>
              </a:rPr>
              <a:t>Виды и типы диагностики детей, используемой в ДОУ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Объект 3" descr=""/>
          <p:cNvPicPr/>
          <p:nvPr/>
        </p:nvPicPr>
        <p:blipFill>
          <a:blip r:embed="rId1"/>
          <a:stretch/>
        </p:blipFill>
        <p:spPr>
          <a:xfrm>
            <a:off x="390600" y="1908000"/>
            <a:ext cx="7643880" cy="463248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Диагностика когнитивной сферы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178920" y="907560"/>
            <a:ext cx="849636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73e87"/>
                </a:solidFill>
                <a:latin typeface="Candara"/>
              </a:rPr>
              <a:t> </a:t>
            </a:r>
            <a:endParaRPr b="0" lang="en-US" sz="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Методика «Шифровка» </a:t>
            </a: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(модификация метода Пьерона-Рузера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Методика предназначена для оценки переключения и распределения внимания ребёнка. Перед началом выполнения задания ребёнку или группе детей показывают и объясняют, как с ним работать.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73e87"/>
                </a:solidFill>
                <a:uFillTx/>
                <a:latin typeface="Candara"/>
              </a:rPr>
              <a:t>Инструкция</a:t>
            </a: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: Посмотрите на доску. На ней нарисованы: звёздочка, круг, треугольник, крестик, квадрат. В каждой из фигур нарисовано что – то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Психолог вместе с детьми изучает "шифр" и заполняет первые 5 фигур. Затем предлагает детям самостоятельно заполнить фигуры в соответствии с образцом; приступить к работе по команде "начали". На выполнение задания отводится 1 минута.</a:t>
            </a:r>
            <a:br>
              <a:rPr sz="1600"/>
            </a:br>
            <a:r>
              <a:rPr b="0" lang="ru-RU" sz="1600" spc="-1" strike="noStrike" u="sng">
                <a:solidFill>
                  <a:srgbClr val="073e87"/>
                </a:solidFill>
                <a:uFillTx/>
                <a:latin typeface="Candara"/>
              </a:rPr>
              <a:t>Оценка результатов: </a:t>
            </a:r>
            <a:br>
              <a:rPr sz="1600"/>
            </a:b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Высокий уровень –24-25 знаков выполнено без ошибок</a:t>
            </a:r>
            <a:br>
              <a:rPr sz="1600"/>
            </a:b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Средний –18-23 знака</a:t>
            </a:r>
            <a:br>
              <a:rPr sz="1600"/>
            </a:b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Низкий – 12-17 знаков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Диагностика внимания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2" descr="Методика "/>
          <p:cNvPicPr/>
          <p:nvPr/>
        </p:nvPicPr>
        <p:blipFill>
          <a:blip r:embed="rId1"/>
          <a:stretch/>
        </p:blipFill>
        <p:spPr>
          <a:xfrm>
            <a:off x="343080" y="4465800"/>
            <a:ext cx="237456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79280" y="980640"/>
            <a:ext cx="8640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-21528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Методика "</a:t>
            </a:r>
            <a:r>
              <a:rPr b="1" lang="ru-RU" sz="1200" spc="-1" strike="noStrike">
                <a:solidFill>
                  <a:srgbClr val="073e87"/>
                </a:solidFill>
                <a:latin typeface="Candara"/>
              </a:rPr>
              <a:t>Какие предметы спрятаны в рисунках</a:t>
            </a: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". (Семаго Н.Я., Семаго М.М. Теория и практика оценки психического развития ребенка. Дошкольный и младший школьный возраст. – СПб.: Речь, 2005)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15280" indent="-21528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Методики предназначена для диагностики сферы восприятия детей дошкольного возраста.</a:t>
            </a:r>
            <a:br>
              <a:rPr sz="1200"/>
            </a:b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Ребенку объясняют, что ему будут показаны несколько контурных рисунков, в которых как бы «спрятаны» многие известные ему предметы. Далее ребенку представляют рисунок и просят последовательно назвать очертания всех предметов, «спрятанных» в трех его частях: 1, 2 и 3. </a:t>
            </a:r>
            <a:br>
              <a:rPr sz="1200"/>
            </a:b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Время выполнения задания ограничивается одной минутой. Если за это время ребенок не сумел полностью выполнить задание, то его прерывают. Если ребенок справился с заданием меньше чем за 1 минуту, то фиксируют время, затраченное на выполнение задания. 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73e87"/>
                </a:solidFill>
                <a:latin typeface="Candara"/>
              </a:rPr>
              <a:t>Примечание.</a:t>
            </a: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 Если проводящий психодиагностику видит, что ребенок начинает спешить и преждевременно, не найдя всех предметов, переходит от одного рисунка к другому, то он должен остановить ребенка и попросить поискать еще на предыдущем рисунке. К следующему рисунку можно переходить лишь тогда, когда будут найдены все предметы, имеющиеся на предыдущем рисунке. Общее число всех предметов, «спрятанных» на рисунках 1, 2 и 3, составляет 14. 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15280" indent="-21528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73e87"/>
                </a:solidFill>
                <a:latin typeface="Candara"/>
              </a:rPr>
              <a:t>Оценка результатов:</a:t>
            </a:r>
            <a:br>
              <a:rPr sz="1200"/>
            </a:b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10 баллов – ребенок назвал все 14 предметов, очертания которых имеются на всех трех рисунках, затратив на это меньше чем 20 сек. </a:t>
            </a:r>
            <a:br>
              <a:rPr sz="1200"/>
            </a:b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8–9 баллов – ребенок назвал все 14 предметов, затратив на их поиск от 21 до 30 сек. </a:t>
            </a:r>
            <a:br>
              <a:rPr sz="1200"/>
            </a:b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6–7 баллов – ребенок нашел и назвал все предметы за время от 31 до 40 сек. </a:t>
            </a:r>
            <a:br>
              <a:rPr sz="1200"/>
            </a:b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4–5 баллов – ребенок решил задачу поиска всех предметов за время от 41 до 50 сек. </a:t>
            </a:r>
            <a:br>
              <a:rPr sz="1200"/>
            </a:b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2–3 балла – ребенок справился с задачей нахождения всех предметов за время от 51 до 60 сек. </a:t>
            </a:r>
            <a:br>
              <a:rPr sz="1200"/>
            </a:b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0–1 балл – за время, большее, чем 60 сек, ребенок не смог решить задачу по поиску и названию всех 14 предметов, «спрятанных» в трех частях рисунка. 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73e87"/>
                </a:solidFill>
                <a:latin typeface="Candara"/>
              </a:rPr>
              <a:t>Выводы об уровне развития восприятия: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10 баллов – очень высокий </a:t>
            </a:r>
            <a:br>
              <a:rPr sz="1200"/>
            </a:b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8–9 баллов – высокий </a:t>
            </a:r>
            <a:br>
              <a:rPr sz="1200"/>
            </a:b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4–7 баллов – средний </a:t>
            </a:r>
            <a:br>
              <a:rPr sz="1200"/>
            </a:b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2–3 балла – низкий </a:t>
            </a:r>
            <a:br>
              <a:rPr sz="1200"/>
            </a:b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0–1 балл – очень низкий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15280" indent="-21528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73e87"/>
                </a:solidFill>
                <a:latin typeface="Candara"/>
              </a:rPr>
              <a:t> 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15280" indent="-21528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73e87"/>
                </a:solidFill>
                <a:latin typeface="Candara"/>
              </a:rPr>
              <a:t> 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15280" indent="-21528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73e87"/>
                </a:solidFill>
                <a:latin typeface="Candara"/>
              </a:rPr>
              <a:t> 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15280" indent="-21528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73e87"/>
                </a:solidFill>
                <a:latin typeface="Candara"/>
              </a:rPr>
              <a:t> 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15280" indent="-21528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73e87"/>
                </a:solidFill>
                <a:latin typeface="Candara"/>
              </a:rPr>
              <a:t> 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15280" indent="-21528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73e87"/>
                </a:solidFill>
                <a:latin typeface="Candara"/>
              </a:rPr>
              <a:t> 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15280" indent="-21528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73e87"/>
                </a:solidFill>
                <a:latin typeface="Candara"/>
              </a:rPr>
              <a:t> 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15280" indent="-21528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 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15280" indent="-21528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Candara"/>
              </a:rPr>
              <a:t>Диагностика восприятия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08000" y="907560"/>
            <a:ext cx="9036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73e87"/>
                </a:solidFill>
                <a:latin typeface="Candara"/>
              </a:rPr>
              <a:t>Методика «Разрезные картинки» (</a:t>
            </a: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С. Забрамная, О.Боровик Практический материал для проведения психолого-педагогического обследования детей.  – М.:Владос,2008)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73e87"/>
                </a:solidFill>
                <a:latin typeface="Candara"/>
              </a:rPr>
              <a:t>Цель:</a:t>
            </a: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 выявление уровня развития целостного восприятия предметной картинки детей с 3 лет.</a:t>
            </a:r>
            <a:br>
              <a:rPr sz="1200"/>
            </a:b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Стимульный материал: предметные картинки, разрезанные по диагонали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i="1" lang="ru-RU" sz="1200" spc="-1" strike="noStrike">
                <a:solidFill>
                  <a:srgbClr val="073e87"/>
                </a:solidFill>
                <a:latin typeface="Candara"/>
              </a:rPr>
              <a:t>Проведение обследования</a:t>
            </a: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: взрослый показывает ребёнку четыре части разрезанной картинки и просит сложить целую картинку: «Сделай целую картинку». Обучение: взрослый показывает, как надо соединить части в целое. После этого снова предлагает ребёнку выполнить задание самостоятельно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i="1" lang="ru-RU" sz="1200" spc="-1" strike="noStrike">
                <a:solidFill>
                  <a:srgbClr val="073e87"/>
                </a:solidFill>
                <a:latin typeface="Candara"/>
              </a:rPr>
              <a:t>Инструкция обработки:</a:t>
            </a: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 Дети с нормальным умственным развитием с 3 лет складывают картинку из двух частей методом проб. После 4 лет они переходят к зрительному соотнесению. Картинки, разрезанные на 4 части, предлагаются с 4 лет, к 5 годам задание выполняется способом зрительного соотнесения. При работе с картинками, разрезанными по прямым на три части, дети часто «теряют» среднюю часть, сдвигая начало и конец изображения, но при удивлении и вопросе «А куда положим этот кусочек?» самостоятельно исправляют ошибку.</a:t>
            </a:r>
            <a:br>
              <a:rPr sz="1200"/>
            </a:b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Дети с ЗПР собирают картинку из двух частей к 4 годам, картинка из 4 частей может вызвать у них затруднения и в 5 лет. После показа способа действия (взрослый собирает, показывает ребёнку, а потом разрушает картинку) ребёнок выполняет задание. Дети отвлекаются, могут не закончить задание, им требуются организующая помощь и поддержка.</a:t>
            </a:r>
            <a:br>
              <a:rPr sz="1200"/>
            </a:b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Дети с УО не понимают смысл задания, хаотично перекладывают части картинки. К 5 – 6 годам эти дети способны собрать картинку, разрезанную на 2 – 4 части, но для этого им необходимо показать уже сложенное изображение. Если части лежат в перевёрнутом виде, то складывание вызывает большие трудности. Только после показа и совместного со взрослым выполнения они начинают собирать картинку самостоятельно. Однако для некоторых из них составление картинок из четырёх частей остаётся в этом возрасте недоступным. 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1 балл – не понимает цель задания, действует неадекватно в условиях обучения.</a:t>
            </a:r>
            <a:br>
              <a:rPr sz="1200"/>
            </a:b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2 балла – принимает задание, но условия задания не понимает, действует хаотически, после обучения не переходит к самостоятельному способу выполнения.</a:t>
            </a:r>
            <a:br>
              <a:rPr sz="1200"/>
            </a:b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3 балла – принимает и понимает цель задания, выполняет методом перебора вариантов, после обучения переходит к методу целенаправленных проб.</a:t>
            </a:r>
            <a:br>
              <a:rPr sz="1200"/>
            </a:b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4 балла – принимает и понимает цель задания, действует самостоятельно методом проб либо практическим примериванием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 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Candara"/>
              </a:rPr>
              <a:t>Диагностика мышления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78920" y="3500280"/>
            <a:ext cx="67690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73e87"/>
                </a:solidFill>
                <a:latin typeface="Candara"/>
              </a:rPr>
              <a:t>Методика "Исключение неподходящей картинки" </a:t>
            </a: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(Немов Р. С. "Психология в 3-х томах". - М.: ВЛАДОС, 1995 год. - Том 3, стр. 148.)</a:t>
            </a: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         </a:t>
            </a: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Эта методика предназначена для детей от 4 до 5 лет. Она призвана исследовать процессы образно-логического мышления, умственные операции анализа и обобщения у ребенка. В методике детям предлагается серия картинок (ПРИЛОЖЕНИЕ 4), на которых представлены разные предметы, в сопровождении следующей инструкции:</a:t>
            </a:r>
            <a:br>
              <a:rPr sz="1000"/>
            </a:b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«На каждой из этих картинок один из четырех изображенных на ней предметов является лишним. Внимательно посмотри на картинки и определи, какой предмет и почему является лишним».</a:t>
            </a:r>
            <a:br>
              <a:rPr sz="1000"/>
            </a:b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На решение задачи отводится 3 минуты.</a:t>
            </a: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73e87"/>
                </a:solidFill>
                <a:latin typeface="Candara"/>
              </a:rPr>
              <a:t>Оценка результатов</a:t>
            </a: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73e87"/>
                </a:solidFill>
                <a:latin typeface="Candara"/>
              </a:rPr>
              <a:t>10 баллов </a:t>
            </a: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— ребенок решил поставленную перед ним задачу за время меньшее чем 1 мин, назвав лишние предметы на всех картинках и правильно объяснив, почему они являются лишними.</a:t>
            </a:r>
            <a:br>
              <a:rPr sz="1000"/>
            </a:br>
            <a:r>
              <a:rPr b="1" lang="ru-RU" sz="1000" spc="-1" strike="noStrike">
                <a:solidFill>
                  <a:srgbClr val="073e87"/>
                </a:solidFill>
                <a:latin typeface="Candara"/>
              </a:rPr>
              <a:t>8—9 баллов   </a:t>
            </a: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— ребенок правильно решил задачу за время от 1 мин до 1,5 мин.</a:t>
            </a:r>
            <a:br>
              <a:rPr sz="1000"/>
            </a:br>
            <a:r>
              <a:rPr b="1" lang="ru-RU" sz="1000" spc="-1" strike="noStrike">
                <a:solidFill>
                  <a:srgbClr val="073e87"/>
                </a:solidFill>
                <a:latin typeface="Candara"/>
              </a:rPr>
              <a:t>6—7 баллов   </a:t>
            </a: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— ребенок справился с задачей за время от 1,5 до 2,0 мин.</a:t>
            </a:r>
            <a:br>
              <a:rPr sz="1000"/>
            </a:br>
            <a:r>
              <a:rPr b="1" lang="ru-RU" sz="1000" spc="-1" strike="noStrike">
                <a:solidFill>
                  <a:srgbClr val="073e87"/>
                </a:solidFill>
                <a:latin typeface="Candara"/>
              </a:rPr>
              <a:t>4—5 баллов   </a:t>
            </a: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— ребенок решил задачу за время от 2,0 до 2,5 мин.</a:t>
            </a:r>
            <a:br>
              <a:rPr sz="1000"/>
            </a:br>
            <a:r>
              <a:rPr b="1" lang="ru-RU" sz="1000" spc="-1" strike="noStrike">
                <a:solidFill>
                  <a:srgbClr val="073e87"/>
                </a:solidFill>
                <a:latin typeface="Candara"/>
              </a:rPr>
              <a:t>2—3 балла     </a:t>
            </a: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— ребенок решил задачу за время от 2,5 мин до 3 мин.</a:t>
            </a:r>
            <a:br>
              <a:rPr sz="1000"/>
            </a:br>
            <a:r>
              <a:rPr b="1" lang="ru-RU" sz="1000" spc="-1" strike="noStrike">
                <a:solidFill>
                  <a:srgbClr val="073e87"/>
                </a:solidFill>
                <a:latin typeface="Candara"/>
              </a:rPr>
              <a:t>0—1</a:t>
            </a: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 </a:t>
            </a:r>
            <a:r>
              <a:rPr b="1" lang="ru-RU" sz="1000" spc="-1" strike="noStrike">
                <a:solidFill>
                  <a:srgbClr val="073e87"/>
                </a:solidFill>
                <a:latin typeface="Candara"/>
              </a:rPr>
              <a:t>балл       </a:t>
            </a: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— ребенок за 3 мин не справился с заданием.</a:t>
            </a: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73e87"/>
                </a:solidFill>
                <a:latin typeface="Candara"/>
              </a:rPr>
              <a:t>Выводы об уровне развития</a:t>
            </a: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73e87"/>
                </a:solidFill>
                <a:latin typeface="Candara"/>
              </a:rPr>
              <a:t>10 баллов </a:t>
            </a: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— очень высокий</a:t>
            </a:r>
            <a:br>
              <a:rPr sz="1000"/>
            </a:br>
            <a:r>
              <a:rPr b="1" lang="ru-RU" sz="1000" spc="-1" strike="noStrike">
                <a:solidFill>
                  <a:srgbClr val="073e87"/>
                </a:solidFill>
                <a:latin typeface="Candara"/>
              </a:rPr>
              <a:t>8—9 баллов   </a:t>
            </a: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— высокий</a:t>
            </a:r>
            <a:br>
              <a:rPr sz="1000"/>
            </a:br>
            <a:r>
              <a:rPr b="1" lang="ru-RU" sz="1000" spc="-1" strike="noStrike">
                <a:solidFill>
                  <a:srgbClr val="073e87"/>
                </a:solidFill>
                <a:latin typeface="Candara"/>
              </a:rPr>
              <a:t>4—7 баллов   </a:t>
            </a: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— средний</a:t>
            </a:r>
            <a:br>
              <a:rPr sz="1000"/>
            </a:br>
            <a:r>
              <a:rPr b="1" lang="ru-RU" sz="1000" spc="-1" strike="noStrike">
                <a:solidFill>
                  <a:srgbClr val="073e87"/>
                </a:solidFill>
                <a:latin typeface="Candara"/>
              </a:rPr>
              <a:t>2—3 балла   </a:t>
            </a: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— низкий</a:t>
            </a:r>
            <a:br>
              <a:rPr sz="1000"/>
            </a:br>
            <a:r>
              <a:rPr b="1" lang="ru-RU" sz="1000" spc="-1" strike="noStrike">
                <a:solidFill>
                  <a:srgbClr val="073e87"/>
                </a:solidFill>
                <a:latin typeface="Candara"/>
              </a:rPr>
              <a:t>0 - 1 балл -</a:t>
            </a: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 очень низкий</a:t>
            </a: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9" name="Picture 2" descr="Image5"/>
          <p:cNvPicPr/>
          <p:nvPr/>
        </p:nvPicPr>
        <p:blipFill>
          <a:blip r:embed="rId1"/>
          <a:stretch/>
        </p:blipFill>
        <p:spPr>
          <a:xfrm>
            <a:off x="1332000" y="385920"/>
            <a:ext cx="2448000" cy="2798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Image6"/>
          <p:cNvPicPr/>
          <p:nvPr/>
        </p:nvPicPr>
        <p:blipFill>
          <a:blip r:embed="rId2"/>
          <a:stretch/>
        </p:blipFill>
        <p:spPr>
          <a:xfrm>
            <a:off x="3780000" y="376200"/>
            <a:ext cx="2376360" cy="28083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Image7"/>
          <p:cNvPicPr/>
          <p:nvPr/>
        </p:nvPicPr>
        <p:blipFill>
          <a:blip r:embed="rId3"/>
          <a:stretch/>
        </p:blipFill>
        <p:spPr>
          <a:xfrm>
            <a:off x="6156360" y="376200"/>
            <a:ext cx="2232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108000" y="126828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73e87"/>
                </a:solidFill>
                <a:latin typeface="Candara"/>
              </a:rPr>
              <a:t>Методика  «Запоминание  двух  групп  слов». </a:t>
            </a: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(Семаго Н.Я., Семаго М.М. Теория и практика оценки психического развития ребенка. Дошкольный и младший школьный возраст. – СПб.: Речь, 2005)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Методика  направлена  на  исследование  скорости  и  объёма  слухоречевого  запоминания, влияния  фактора  интерференции  и  избирательности  мнестических  следов, возможности  удержания  порядка  предъявляемого  материала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73e87"/>
                </a:solidFill>
                <a:latin typeface="Candara"/>
              </a:rPr>
              <a:t>Описание  методики. </a:t>
            </a: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Перед  ребёнком  с  соответствующей  мотивацией  ставится  задача  запоминания. Предъявляется  инструкция  1А. Далее  специалист  с  интервалом  около  полсекунды, чётко  произносит  слова  и  просит  ребёнка  повторить  их. Если  ребёнок  не  повторил  ни  одного  слова, специалист  ободряет  ребёнка  и  повторяет  инструкцию  ещё  раз  в  укороченной  форме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Если  ребенок  произносит  слова  в  ином  порядке, ему  не  делается  замечание, а  просто  его  внимание  обращается  на  то, в  каком  порядке  стояли  слова.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Специалист  делает  повторы  первой  группы  слов  до  тех  пор, пока  ребёнок  не  повторит  все  слова  группы (неважно  в  правильном  или  неправильном  порядке). После  того, как  ребёнок  повторил  все  слова, необходимо  попросить  его  повторить  их  ещё  раз, уже  самостоятельно, то  есть  без  предварительного  проговаривания  этих  слов  психологом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Регистрируется  как  порядок  воспроизводимых  слов, так  и  количество  необходимых  повторений  для  полного  запоминания  первой  группы  слов. Также  регистрируется  правильность  повторения  и  все  привнесённые  или  искажённые  слова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Предъявляется  инструкция  для  второй  группы  слов  1Б. Далее  даётся  вторая  группа  слов  в  том  же  порядке. Вся  вышеописанная  процедура  повторяется. Обычно  для  запоминания  трёх  слов  требуется  меньшее  количество  повторов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Предъявляется  инструкция  2А. Регистрируются  все  слова, называемые  ребёнком. Ребёнка  одобряют  вне  зависимости  от  результата  повтора  слов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Предъявляется  инструкция  2Б. Также  регистрируются  все  слова, которые  воспроизводит  ребёнок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73e87"/>
                </a:solidFill>
                <a:latin typeface="Candara"/>
              </a:rPr>
              <a:t>Инструкция 1А.</a:t>
            </a: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 «Сейчас  мы  будем  запоминать  слова. Вначале  скажу  я, а  ты  послушаешь, а  потом  повторишь  слова  в  том  же  порядке, в  каком  я. Тебе  понятно, что  такое  «порядок»?  Как  у  меня  слова  стояли  друг  за  дружкой, так  повторяй  их  и  ты. Давай  попробуем. Ты  понял?»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73e87"/>
                </a:solidFill>
                <a:latin typeface="Candara"/>
              </a:rPr>
              <a:t>Инструкция  1Б. </a:t>
            </a: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«А  теперь  послушай  и  повтори  другие  слова»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73e87"/>
                </a:solidFill>
                <a:latin typeface="Candara"/>
              </a:rPr>
              <a:t>Инструкция  2А. </a:t>
            </a: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«А  сейчас  повтори  слова, которые  ты  запоминал  первыми, вначале. Какие  это  были  слова?»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73e87"/>
                </a:solidFill>
                <a:latin typeface="Candara"/>
              </a:rPr>
              <a:t>Инструкция  2Б. </a:t>
            </a: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«А  теперь  повтори  другие  слова, которые  ты  запоминал»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  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 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Candara"/>
              </a:rPr>
              <a:t>Диагностика памяти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4:21:53Z</dcterms:created>
  <dc:creator>Никита</dc:creator>
  <dc:description/>
  <dc:language>en-US</dc:language>
  <cp:lastModifiedBy>Name</cp:lastModifiedBy>
  <dcterms:modified xsi:type="dcterms:W3CDTF">2016-11-29T15:06:04Z</dcterms:modified>
  <cp:revision>22</cp:revision>
  <dc:subject/>
  <dc:title>Диагностическая работа в дошкольном учреждении</dc:title>
</cp:coreProperties>
</file>