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9CA-BC2E-4834-91D1-6E45FA0D7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E6A-CCF4-44F9-BEA7-09B28B239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5C85-C938-453E-9CF9-0949D0355C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A3D2-111F-4640-877A-4B48EF822B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9018-5842-4CF3-AE18-4A76ECEEC5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E7B-0099-4A85-9855-DD1FB96EF5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482-82A5-4AA7-B039-690C8E0683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A5C-2914-4D87-9F15-9842CFD185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7A0D-517E-4651-B88E-1B7D536BD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54F-ED7C-4765-B650-A98F82C798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ABFE-6A5E-4D43-9B3B-D2026D9696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7DC7-FC9E-41C9-9ADF-C2E6D163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E7F1-0954-44B5-85B9-27E610BE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9FF40-5753-4C82-BEA3-47E16F4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68FCC-90BF-413D-95C7-82E7E8D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6E4CF-AAE1-47CF-9E53-B6D3F01B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418F-5253-4452-B2F5-D7015EF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8955B-3014-4948-B66B-3EFC709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FED6-27BF-4E7D-A908-A9B978F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A1394-0BD3-4340-A35F-ED133551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CA20B-DF24-407B-A438-5E10E748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81411-C423-4E3E-A842-386EA59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55EE5-EFEB-460C-B60A-44CF9121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7D16-56FA-4A48-97A2-F78B4F0E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3A36-E838-47A8-8EF6-FC0744A8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BAC15-6902-482D-A96B-9F9D128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DE2A9-E98A-4316-953C-096BF0B5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45AB6-31E8-49A8-AAC8-0E092092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FEC55-EC74-42DB-B550-A858D020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30749-152C-4EED-B36C-5294B96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7A62B-CA9D-4C12-9C27-1B23526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EC208-24FB-4F19-8DEE-E83AFB5A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9B2B-0A4D-4BE2-9BA4-5707703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517C0-9487-4859-A80F-8160D633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9965-6299-4119-9A0B-66846533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159F5-3DB6-403C-903E-901F9E4C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A65C-E77F-4EC0-8AA1-65B807DD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9414-6AB5-4C29-A469-548C95D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E3F2-35A6-4B46-A996-C09932F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FBC1-0FF1-4D5C-A5A3-98D6C1E2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E298-8DFD-479C-BB0B-5B69DC48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73F2-4E15-4BFA-9749-A0CB474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5997-5956-4C3C-96D8-52ED66F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C05C-8183-4A87-8985-6F155B4C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AFC-D4C7-42E7-8628-1EA5BD1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1C1-F096-4FA7-A99A-398932D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D14C-AD58-41A5-BA2E-CB1A5A16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E17-00F3-4782-938E-C105B28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2C1-45F6-4649-BC65-5BD7DF5E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4443-55FA-4422-945A-4FAA7C87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D126-5BFE-4CD0-A439-B719777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427F-D3BD-42E2-8C5E-B650D45D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0F92-794B-4C92-9FA7-FDDFBBEC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9ECE-1FCC-4851-94ED-9BD80D2C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25F8-DC6D-4728-838E-50135CB1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7E1F-7FD4-448E-87B5-F2F8002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9AF4-3C46-44C1-850B-EBACC91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BDD3-25BD-4906-8DFF-A0B1618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D65F-8535-4794-8C87-1B355D9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3014-D494-4522-B6A9-30059E04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5B42-DE61-40D9-9080-2653F37D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FC4A-2BC7-4D1E-8FD5-FB912952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517E-5D66-47F1-AF5E-71F684BC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DC6C-A922-42C3-B80B-AF9532A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877C-9643-4974-9555-796264E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817D-8471-4693-9333-12C9A29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9492-3DF1-4EDB-85C7-694B0D9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6BBE-C310-400E-94AB-3A541FD7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B062-6E4E-4A86-9A9D-99D8DE0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A88B-CB8A-41C9-BED9-41D5161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9F5C-0A43-46C8-928F-929268B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5B20-679A-4124-9A59-4D76CCB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5062-B4C6-4338-B183-3E426B6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D9C1-3F86-40AF-85A7-6ACA719B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C944-7381-43B2-B662-19FEEB4B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1518E-2CDB-4D8D-AD36-DCAE750B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BC09-1FC2-431D-B3F5-E71E972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9E908-2591-4B91-A213-B4B42C3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10629-C689-4EFC-B855-DF9D7CB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7E414C-4943-418F-B5A9-72332529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8A4DE3-AF29-4931-AB15-226C8E7D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411F9A-6309-4FAF-B3F0-BD720892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15513-D57D-49E4-BE03-3D3B003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E318B-6825-4716-AFCF-F13A4EFE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1D8B29-4027-48DE-BBB7-658730D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30A21-C639-4329-8431-AFC8107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DD040-7AE9-48E7-BA46-59CED93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2AFC-BB64-4BE7-9789-36E6AF6F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0A3BD-2AED-47A8-9E21-9B6347D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FD77-C69C-4FA3-8F10-A60BD22A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296BB-3E94-4F95-AD37-B0E9DB8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1E9A-9654-4068-8FB8-68E86BD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6C3FB-7F31-448C-8AF0-D0C9325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CD23-52D5-4293-8BB6-70B8BA48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45826-24D1-4740-AF22-D6A78AE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0E3A-151E-43CF-966D-3EAB1572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7F86B-CC91-4511-B36D-8A24588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5667-214A-4787-9C42-90D04D1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3A24-523C-4705-9397-62B2692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32CB-0B54-4E5C-BAB6-330DCA1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208A-50ED-409F-ACB7-70E37624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3B45A-350F-44CB-A8C6-D69E299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F87E8-4E11-4CE1-A575-C4F9235C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E22E2-4DA5-44FD-B5C2-B0F407F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AFE2F-5909-4BBD-A3A0-A451080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8CB33-A076-4A3A-83DE-DE8CC87D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B66E3-203F-4769-836E-A0A08A2B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D81B8-53EE-49E3-AE30-C43789E8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BCA5-663B-4F4C-8789-2B9C2721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1360-99B4-4510-AB64-D8035C5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A0BEC-DE59-4156-855C-FDE1439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803BB-A2B6-47A6-B3F7-EC66B2C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1D3F1-AB59-450A-9029-DDBF68AF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19DFC7-9CF3-475D-B3A3-5A6B8B31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FA98F-99D5-430C-A87D-9D8588DD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90905-70F6-42CD-8473-9091217F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5C002-3364-4CD3-8087-BB61CAFF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B503E-1324-47E6-BB95-3DFA1788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15C68-D71F-4B32-A71C-94D1A18A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1EC5C-D767-4883-93AB-85F2A4F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D818-1E71-4284-9AC4-81F2626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332F9-96AB-43D2-9EB0-4C110E4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373FA-C63D-454A-BC96-DF41AA9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46A50-3874-48AA-8DAD-6F47C1C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13A75-4410-457B-BF41-A19B9E6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38F40-7159-4210-9088-758A944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54A0B1-5588-480E-998C-AC60571E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14DBF6-F0F3-48A8-9331-82B2B60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CE304-AD2A-4888-B18B-BB8E5645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A6D6A-7D41-4F00-978C-7A426FF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F65B2-AD1B-4082-9F2F-40384603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F8FE-89A8-4F99-8785-1DEB93CA91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77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2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8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9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0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1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2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3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4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5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6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7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8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9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0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1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2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3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4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5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6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8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9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0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1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2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3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4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5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6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7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8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9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0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1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2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3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4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5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6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7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8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9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0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1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2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3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4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5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6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7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8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9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0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1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2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7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8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9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0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1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2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3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4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5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7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8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0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1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3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4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5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7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8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9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0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1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2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3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4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5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6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7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8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9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0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1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2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3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4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5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6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7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8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9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0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1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2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2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3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4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5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5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7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8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9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0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1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2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3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4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5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6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7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8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9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0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1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2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3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4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5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6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7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8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9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0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1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2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3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4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5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6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7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9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0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1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2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3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4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6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7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9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0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1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2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3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4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5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7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8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9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0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1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2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3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4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6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7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8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9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0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1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740-90DB-41EE-9FBA-1F1F41C37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07D3-1FEE-437B-AC92-C7AB6B89C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9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7547-F6DA-4E43-80E3-267BFE0062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285-4D0A-4115-98A6-81F8B37737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1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703C-C304-417B-8BA3-34757B965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6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6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47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7788-4015-4319-95BD-190EB53D81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8EE-F89E-49DA-BA33-D46A42C1A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5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275-62D8-48AE-9B14-8677EFD9CD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921-40BF-4181-ADD6-048B4D4205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ональный социопсихологический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центр г. Сам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92000" y="2637000"/>
            <a:ext cx="532908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Кабинет профилактики наркомании у детей и подростков Пестравского района откры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2006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правления деятельности кабин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324000" y="2095200"/>
            <a:ext cx="4356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ащие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нос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по профилактическим программ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ультацион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-правовая поддер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788000" y="2060640"/>
            <a:ext cx="43560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нос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ультационн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ая поддер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1908000" y="5046840"/>
            <a:ext cx="554544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дагог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-просветительская работа и методическая помощ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Программы работы специалистов Кабинета с детьми и подросткам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68000" y="1915920"/>
            <a:ext cx="402732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«Все цвета, кроме черного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2-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4647960" y="1844640"/>
            <a:ext cx="39560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профилактики наркозависимости «Сталкер»(10-14лет), (14-18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24000" y="3933720"/>
            <a:ext cx="417168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профилактическая программа «Волн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-18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648320" y="3924360"/>
            <a:ext cx="41004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профилактическая программа «Правильный выбо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4-18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" descr="DSCN5420"/>
          <p:cNvPicPr/>
          <p:nvPr/>
        </p:nvPicPr>
        <p:blipFill>
          <a:blip r:embed="rId1"/>
          <a:stretch/>
        </p:blipFill>
        <p:spPr>
          <a:xfrm>
            <a:off x="324000" y="1773360"/>
            <a:ext cx="4140000" cy="50846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5" descr="DSCN5459"/>
          <p:cNvPicPr/>
          <p:nvPr/>
        </p:nvPicPr>
        <p:blipFill>
          <a:blip r:embed="rId2"/>
          <a:stretch/>
        </p:blipFill>
        <p:spPr>
          <a:xfrm>
            <a:off x="4859280" y="3716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6" descr="PB260166"/>
          <p:cNvPicPr/>
          <p:nvPr/>
        </p:nvPicPr>
        <p:blipFill>
          <a:blip r:embed="rId3"/>
          <a:stretch/>
        </p:blipFill>
        <p:spPr>
          <a:xfrm>
            <a:off x="4859280" y="260280"/>
            <a:ext cx="3889440" cy="31863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ктив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частники акц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Кабинет профилактики наркомани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оказание психолого- педагогической помощи образовательным организациям м.р. Пестравский в создании комфортной, развивающей образовательной среды, гарантирующей охрану и укрепление физического, психологического и социального здоровья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10800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Создать условия для формирования здоровьесберегающего поведения, культуры здоровья среди родителей, детей, подрост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Способствовать повышению грамотности в вопросах противодействия наркомании, табакокурению, алкоголизму всех участников образовательного процесс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Оказать организационно- методическую, консультативную помощь педагогам, специалистам, работающим с детьми по вопросам профилактики ПА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Внедрить в образовательную среду интерактивные технолог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Реализовать профилактические программы (адаптированные, лицензированные, авторские), направленные на формирование жизненных навыков и установок на здоровый образ жиз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Bookman Old Style"/>
              </a:rPr>
              <a:t>Организовать работу, направленную на  предотвращение суицидальных проявлений среди подрост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ециалист Кабин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вина Наталья Никола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дагог-психол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635280" y="1341360"/>
            <a:ext cx="48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8" name="Picture 7" descr="C:\Users\общий\Desktop\фото в конференции\PB090050.JPG"/>
          <p:cNvPicPr/>
          <p:nvPr/>
        </p:nvPicPr>
        <p:blipFill>
          <a:blip r:embed="rId1"/>
          <a:stretch/>
        </p:blipFill>
        <p:spPr>
          <a:xfrm>
            <a:off x="3755880" y="1905120"/>
            <a:ext cx="5270760" cy="395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действ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0" name="Text Box 18"/>
          <p:cNvSpPr/>
          <p:nvPr/>
        </p:nvSpPr>
        <p:spPr>
          <a:xfrm>
            <a:off x="4067280" y="1197000"/>
            <a:ext cx="1441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тр «Семь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395280" y="1413000"/>
            <a:ext cx="2087640" cy="1465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дел по незаконному обороту наркотиков при РОВ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3780000" y="5157720"/>
            <a:ext cx="2232000" cy="1191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реждения дополнительного образования дет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6443640" y="4724280"/>
            <a:ext cx="194472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разовательные учрежд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6588000" y="3141720"/>
            <a:ext cx="23050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уппа по делам несовершеннолетних при РОВ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684360" y="4076640"/>
            <a:ext cx="1873080" cy="916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тральная районная больниц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Oval 25"/>
          <p:cNvSpPr/>
          <p:nvPr/>
        </p:nvSpPr>
        <p:spPr>
          <a:xfrm>
            <a:off x="3348000" y="2492280"/>
            <a:ext cx="2665440" cy="180036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сихолого-педагогической профилактики наркоман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Line 27"/>
          <p:cNvSpPr/>
          <p:nvPr/>
        </p:nvSpPr>
        <p:spPr>
          <a:xfrm flipH="1">
            <a:off x="2556000" y="4005360"/>
            <a:ext cx="1079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Line 28"/>
          <p:cNvSpPr/>
          <p:nvPr/>
        </p:nvSpPr>
        <p:spPr>
          <a:xfrm flipH="1" flipV="1">
            <a:off x="2411280" y="2349360"/>
            <a:ext cx="1224000" cy="4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Line 30"/>
          <p:cNvSpPr/>
          <p:nvPr/>
        </p:nvSpPr>
        <p:spPr>
          <a:xfrm flipV="1">
            <a:off x="5940360" y="2491920"/>
            <a:ext cx="57492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Line 31"/>
          <p:cNvSpPr/>
          <p:nvPr/>
        </p:nvSpPr>
        <p:spPr>
          <a:xfrm>
            <a:off x="5940360" y="364500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Rectangle 33"/>
          <p:cNvSpPr/>
          <p:nvPr/>
        </p:nvSpPr>
        <p:spPr>
          <a:xfrm>
            <a:off x="6516720" y="1125360"/>
            <a:ext cx="2087640" cy="1725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итет по вопросам материнства и детства при Администрации райо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Line 34"/>
          <p:cNvSpPr/>
          <p:nvPr/>
        </p:nvSpPr>
        <p:spPr>
          <a:xfrm flipV="1">
            <a:off x="4859280" y="184464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Line 35"/>
          <p:cNvSpPr/>
          <p:nvPr/>
        </p:nvSpPr>
        <p:spPr>
          <a:xfrm>
            <a:off x="4788000" y="4365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Line 36"/>
          <p:cNvSpPr/>
          <p:nvPr/>
        </p:nvSpPr>
        <p:spPr>
          <a:xfrm>
            <a:off x="5651640" y="4005360"/>
            <a:ext cx="936360" cy="71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заимодействие Кабинета профилактики с муниципальными образовательными учреждения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Oval 4"/>
          <p:cNvSpPr/>
          <p:nvPr/>
        </p:nvSpPr>
        <p:spPr>
          <a:xfrm>
            <a:off x="826920" y="1773360"/>
            <a:ext cx="2376720" cy="10792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офилакт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Oval 5"/>
          <p:cNvSpPr/>
          <p:nvPr/>
        </p:nvSpPr>
        <p:spPr>
          <a:xfrm>
            <a:off x="5364000" y="1773360"/>
            <a:ext cx="2160720" cy="100800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Line 7"/>
          <p:cNvSpPr/>
          <p:nvPr/>
        </p:nvSpPr>
        <p:spPr>
          <a:xfrm>
            <a:off x="3203640" y="227664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395280" y="2924280"/>
          <a:ext cx="8137440" cy="3560760"/>
        </p:xfrm>
        <a:graphic>
          <a:graphicData uri="http://schemas.openxmlformats.org/drawingml/2006/table">
            <a:tbl>
              <a:tblPr/>
              <a:tblGrid>
                <a:gridCol w="81374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 взаимо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Организация методического сопровождения деятельности психологов и социальных педагогов по профилактике наркомании среди несовершеннолетних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сихолого-педагогическое просвещение педагогов по вопросам профилактики наркоман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Формирование банка данных о детях группы рис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заимодействие Кабинета профилактики с  отделом образова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395280" y="1600200"/>
          <a:ext cx="7993080" cy="47498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 взаимо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Предоставление информации по профилактической работе с детьми группы рис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Участие в совещаниях, круглых столах, конференциях и других мероприятиях, касающихся вопроса профилакти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Методическое обеспечение контроля за работой ОУ по профилактике наркоман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заимодействие Кабинета профилактики с Комиссией по делам несовершеннолетних и подразделением по делам несовершеннолетних при РОВД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11280" y="1700280"/>
          <a:ext cx="7705800" cy="4664160"/>
        </p:xfrm>
        <a:graphic>
          <a:graphicData uri="http://schemas.openxmlformats.org/drawingml/2006/table">
            <a:tbl>
              <a:tblPr/>
              <a:tblGrid>
                <a:gridCol w="7705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 взаимо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Анализ ситуации подростковой преступности среди учащихся Пестравского район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Совместная деятельность инспекторов ПДН, психолога и социального педагога кабинета профилактики РСПЦ в работе с детьми группы риска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Формирование банка данных по детям группы риск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заимодействие Кабинета профилактики с Региональным социо-психологическим центром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457200" y="1600200"/>
          <a:ext cx="7786800" cy="39006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 взаимо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Научно-методическое сопровождение деятельности специалистов Кабинета профилакти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 Повышение профессионального мастерства специалистов Кабинет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9:54:46Z</dcterms:created>
  <dc:creator>Владелец</dc:creator>
  <dc:description/>
  <dc:language>en-US</dc:language>
  <cp:lastModifiedBy>общий</cp:lastModifiedBy>
  <dcterms:modified xsi:type="dcterms:W3CDTF">2016-11-29T07:24:16Z</dcterms:modified>
  <cp:revision>84</cp:revision>
  <dc:subject/>
  <dc:title>Муниципальное образовательное учреждение «Центр для детей, нуждающихся в психолого-педагогической и медико-социальной помощи»</dc:title>
</cp:coreProperties>
</file>