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1160" y="533160"/>
            <a:ext cx="355140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495-DEA7-44F7-8947-CCF5151DCCE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8B4-E748-4159-BBC9-F7B621D4735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38D-5665-45EE-9C49-3CDD7727D05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07B-73DC-4558-A1A4-BFBC0779A40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F3B-ADD5-4F28-8AA3-51CA9CDD181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4B46-787B-4A05-BE49-3B0D770EE3C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27D-25EC-458F-8933-6F428C5677B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393-32A2-4ECB-9969-2FC95C206EA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AD34-5F1B-46BA-85B7-9CFAD82A854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DFC-D867-42A3-A81F-67C135FB87F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EF21-F4CD-4227-BD7A-7509E878B6F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0B03-863F-41E3-8C99-6952E7571E3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646A-0E4D-4F52-A609-62E21935D95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DA3-F118-47BE-9FAA-3BED649B16A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6D5F-2BC7-437F-A58C-696A9C33E83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8FF-CD1C-45A9-A71D-0057338FB5C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625-D41C-4AE5-B04B-9DD8BF5B49D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82C8-89FF-41D6-8134-4D7474251D2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F5C-BCD0-4652-852B-E85C20A7263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F9BD-EE1B-43E8-84A9-F9D091CBA2C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341520" y="5335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67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797440" y="674532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0EA-DC92-47C5-9FAC-555F4FC8263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30C-0088-4DC4-BADA-26AD0CD1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4BA-1F5F-4E46-B697-B5EEABCB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94E-42ED-46FD-A68E-5C06AF44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2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2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789-1C20-423B-A9D9-97BE2F36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CFB-B517-4397-A8A3-0B536A5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6DA-9D60-4040-9DD8-DDD74C0E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955-7C32-44C7-963E-70608593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255-0F24-4520-96A5-B149455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DD7-23AB-415F-87B8-065318E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E99-12C8-4B9A-B336-BCD66E2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4CF-F279-47E0-8AC6-F498F006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50-1B84-430C-8520-DDC3A6C7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нко К.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48D-CBAD-4A95-973D-722189BE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hyperlink" Target="http://fizika.egepedia.ru/lib/exe/detail.php/&#1088;&#1072;&#1079;&#1076;&#1077;&#1083;&#1099;_&#1092;&#1080;&#1079;&#1080;&#1082;&#1080;/&#1075;&#1077;&#1086;&#1084;&#1077;&#1090;&#1088;&#1080;&#1095;&#1077;&#1089;&#1082;&#1072;&#1103;_&#1086;&#1087;&#1090;&#1080;&#1082;&#1072;/a1.jpg?id=&#1088;&#1072;&#1079;&#1076;&#1077;&#1083;&#1099;_&#1092;&#1080;&#1079;&#1080;&#1082;&#1080;%3A&#1075;&#1077;&#1086;&#1084;&#1077;&#1090;&#1088;&#1080;&#1095;&#1077;&#1089;&#1082;&#1072;&#1103;_&#1086;&#1087;&#1090;&#1080;&#1082;&#1072;%3A&#1079;&#1072;&#1076;&#1072;&#1085;&#1080;&#1103;_&#1090;&#1080;&#1087;&#1072;_&#1072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hyperlink" Target="http://fizika.egepedia.ru/lib/exe/fetch.php/&#1088;&#1072;&#1079;&#1076;&#1077;&#1083;&#1099;_&#1092;&#1080;&#1079;&#1080;&#1082;&#1080;/&#1075;&#1077;&#1086;&#1084;&#1077;&#1090;&#1088;&#1080;&#1095;&#1077;&#1089;&#1082;&#1072;&#1103;_&#1086;&#1087;&#1090;&#1080;&#1082;&#1072;/a2.jpg?cache=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hyperlink" Target="http://fizika.egepedia.ru/lib/exe/fetch.php/&#1088;&#1072;&#1079;&#1076;&#1077;&#1083;&#1099;_&#1092;&#1080;&#1079;&#1080;&#1082;&#1080;/&#1075;&#1077;&#1086;&#1084;&#1077;&#1090;&#1088;&#1080;&#1095;&#1077;&#1089;&#1082;&#1072;&#1103;_&#1086;&#1087;&#1090;&#1080;&#1082;&#1072;/a4.jpg?cache=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hyperlink" Target="http://fizika.egepedia.ru/lib/exe/fetch.php/&#1088;&#1072;&#1079;&#1076;&#1077;&#1083;&#1099;_&#1092;&#1080;&#1079;&#1080;&#1082;&#1080;/&#1075;&#1077;&#1086;&#1084;&#1077;&#1090;&#1088;&#1080;&#1095;&#1077;&#1089;&#1082;&#1072;&#1103;_&#1086;&#1087;&#1090;&#1080;&#1082;&#1072;/a6.jpg?cache=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14400" y="3214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Решение задач  ЕГЭ по физике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05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9e3669d19b675bd57058fd4664205d2a" descr=""/>
          <p:cNvPicPr/>
          <p:nvPr/>
        </p:nvPicPr>
        <p:blipFill>
          <a:blip r:embed="rId4"/>
          <a:stretch/>
        </p:blipFill>
        <p:spPr>
          <a:xfrm>
            <a:off x="-76320" y="2935440"/>
            <a:ext cx="66960" cy="7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63360" cy="7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620640"/>
            <a:ext cx="60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1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2-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3-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4-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5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6-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9-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10-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13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08000" y="126648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15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ли линзы давать мнимые изображения предмет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могут только собирающие линз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огут только рассеивающие линзы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3) могут собирающие и рассеивающие линз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никакие линзы не могут давать мнимые изобра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143080" y="3571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6924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A15 Ученик построил изображение A'B' предмета AB в тонкой линзе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акие из лучей — 1, 2, 3, 4 — пройдут через точку B'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) только 1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2) только 1 и 2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3) только 1, 2, 3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4) все луч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21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10040" y="2643120"/>
            <a:ext cx="47750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916360" y="620640"/>
            <a:ext cx="2709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27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get_file" descr=""/>
          <p:cNvPicPr/>
          <p:nvPr/>
        </p:nvPicPr>
        <p:blipFill>
          <a:blip r:embed="rId4"/>
          <a:stretch/>
        </p:blipFill>
        <p:spPr>
          <a:xfrm>
            <a:off x="-4627440" y="3344760"/>
            <a:ext cx="152388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63640" y="1050120"/>
            <a:ext cx="6586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15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кая из точек (1, 2, 3 или 4), показанных на рисунке, является изображением точк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в тонкой собирающей линзе с фокусным расстоянием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точка 1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) точка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точка 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точка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843280" y="3068640"/>
            <a:ext cx="5976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2952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35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556000" y="342576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41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1285920" y="1000080"/>
            <a:ext cx="755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46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51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56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07bc33c3fc7c6fa4aedecfe56903fa9c" descr=""/>
          <p:cNvPicPr/>
          <p:nvPr/>
        </p:nvPicPr>
        <p:blipFill>
          <a:blip r:embed="rId4"/>
          <a:stretch/>
        </p:blipFill>
        <p:spPr>
          <a:xfrm>
            <a:off x="695160" y="2664000"/>
            <a:ext cx="105120" cy="209520"/>
          </a:xfrm>
          <a:prstGeom prst="rect">
            <a:avLst/>
          </a:prstGeom>
          <a:ln w="0">
            <a:noFill/>
          </a:ln>
        </p:spPr>
      </p:pic>
      <p:pic>
        <p:nvPicPr>
          <p:cNvPr id="159" name="8fd082536a0a420385519d1473c9d27e" descr=""/>
          <p:cNvPicPr/>
          <p:nvPr/>
        </p:nvPicPr>
        <p:blipFill>
          <a:blip r:embed="rId5"/>
          <a:stretch/>
        </p:blipFill>
        <p:spPr>
          <a:xfrm>
            <a:off x="695160" y="3147840"/>
            <a:ext cx="7632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52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5520" y="2482200"/>
            <a:ext cx="48031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1600200"/>
            <a:ext cx="6264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63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72360" y="520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69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74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79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84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90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476360" y="248112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196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01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bdd009bfa0d77271c21877fbd6b2681a" descr=""/>
          <p:cNvPicPr/>
          <p:nvPr/>
        </p:nvPicPr>
        <p:blipFill>
          <a:blip r:embed="rId4"/>
          <a:stretch/>
        </p:blipFill>
        <p:spPr>
          <a:xfrm>
            <a:off x="-3068640" y="3267000"/>
            <a:ext cx="142920" cy="32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3066480" y="35902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7800" y="3860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09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068720" y="2852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02200" y="403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16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035520" y="3433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5520" y="4081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403280" y="1197000"/>
            <a:ext cx="376236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143680" y="1214280"/>
            <a:ext cx="376236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Управляющая кнопка: домой 14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60" name="Управляющая кнопка: домой 1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27672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a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5240" y="1924200"/>
            <a:ext cx="58831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26920" y="33336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714240" y="214200"/>
            <a:ext cx="1336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23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" name=""/>
          <p:cNvGraphicFramePr/>
          <p:nvPr/>
        </p:nvGraphicFramePr>
        <p:xfrm>
          <a:off x="3132000" y="189000"/>
          <a:ext cx="2880000" cy="6527880"/>
        </p:xfrm>
        <a:graphic>
          <a:graphicData uri="http://schemas.openxmlformats.org/drawingml/2006/table">
            <a:tbl>
              <a:tblPr/>
              <a:tblGrid>
                <a:gridCol w="685800"/>
                <a:gridCol w="2194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547640" y="1484280"/>
            <a:ext cx="676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1835280" y="-38736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30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35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40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45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50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55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60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Управляющая кнопка: домой 2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65" name="Управляющая кнопка: домой 2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70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9228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146320" y="42145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http://fizika.egepedia.ru/lib/exe/fetch.php/%D1%80%D0%B0%D0%B7%D0%B4%D0%B5%D0%BB%D1%8B_%D1%84%D0%B8%D0%B7%D0%B8%D0%BA%D0%B8/%D0%B3%D0%B5%D0%BE%D0%BC%D0%B5%D1%82%D1%80%D0%B8%D1%87%D0%B5%D1%81%D0%BA%D0%B0%D1%8F_%D0%BE%D0%BF%D1%82%D0%B8%D0%BA%D0%B0/a3.jpg?cache="/>
          <p:cNvPicPr/>
          <p:nvPr/>
        </p:nvPicPr>
        <p:blipFill>
          <a:blip r:embed="rId2"/>
          <a:stretch/>
        </p:blipFill>
        <p:spPr>
          <a:xfrm>
            <a:off x="2476440" y="746280"/>
            <a:ext cx="5983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Управляющая кнопка: домой 5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75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80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Управляющая кнопка: домой 6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85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Управляющая кнопка: домой 5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290" name="Управляющая кнопка: домой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285920" y="1000080"/>
            <a:ext cx="75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Управляющая кнопка: домой 31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72" name="Управляющая кнопка: домой 3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63528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146320" y="41767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a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1066680"/>
            <a:ext cx="6769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79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-2146320" y="41860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http://fizika.egepedia.ru/lib/exe/fetch.php/%D1%80%D0%B0%D0%B7%D0%B4%D0%B5%D0%BB%D1%8B_%D1%84%D0%B8%D0%B7%D0%B8%D0%BA%D0%B8/%D0%B3%D0%B5%D0%BE%D0%BC%D0%B5%D1%82%D1%80%D0%B8%D1%87%D0%B5%D1%81%D0%BA%D0%B0%D1%8F_%D0%BE%D0%BF%D1%82%D0%B8%D0%BA%D0%B0/a5.jpg?cache="/>
          <p:cNvPicPr/>
          <p:nvPr/>
        </p:nvPicPr>
        <p:blipFill>
          <a:blip r:embed="rId4"/>
          <a:stretch/>
        </p:blipFill>
        <p:spPr>
          <a:xfrm>
            <a:off x="1116000" y="974880"/>
            <a:ext cx="712800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86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a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1049400"/>
            <a:ext cx="70581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Управляющая кнопка: домой 7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92" name="Управляющая кнопка: домой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a9.jpg"/>
          <p:cNvPicPr/>
          <p:nvPr/>
        </p:nvPicPr>
        <p:blipFill>
          <a:blip r:embed="rId4"/>
          <a:stretch/>
        </p:blipFill>
        <p:spPr>
          <a:xfrm>
            <a:off x="1042920" y="809640"/>
            <a:ext cx="71294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300320" y="1081080"/>
            <a:ext cx="75578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71424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Управляющая кнопка: домой 9"/>
          <p:cNvGrpSpPr/>
          <p:nvPr/>
        </p:nvGrpSpPr>
        <p:grpSpPr>
          <a:xfrm>
            <a:off x="255600" y="5900760"/>
            <a:ext cx="555480" cy="555480"/>
            <a:chOff x="255600" y="5900760"/>
            <a:chExt cx="555480" cy="555480"/>
          </a:xfrm>
        </p:grpSpPr>
        <p:pic>
          <p:nvPicPr>
            <p:cNvPr id="98" name="Управляющая кнопка: домой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5600" y="5900760"/>
              <a:ext cx="5554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85840" y="592920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050920" y="3083040"/>
            <a:ext cx="691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a10.jpg"/>
          <p:cNvPicPr/>
          <p:nvPr/>
        </p:nvPicPr>
        <p:blipFill>
          <a:blip r:embed="rId4"/>
          <a:stretch/>
        </p:blipFill>
        <p:spPr>
          <a:xfrm>
            <a:off x="2448000" y="966960"/>
            <a:ext cx="579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5:51:31Z</dcterms:created>
  <dc:creator/>
  <dc:description/>
  <dc:language>en-US</dc:language>
  <cp:lastModifiedBy>BenGun</cp:lastModifiedBy>
  <dcterms:modified xsi:type="dcterms:W3CDTF">2012-11-30T13:02:56Z</dcterms:modified>
  <cp:revision>143</cp:revision>
  <dc:subject/>
  <dc:title>Решение задач  части С ЕГЭ по физике</dc:title>
</cp:coreProperties>
</file>