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A77-CF65-4E06-880C-C3DB68D0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AE3-8669-40BB-A378-DA302C9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86D-23CF-48B1-97C2-A29448BA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EC1-B473-4852-A5F1-4354E4F0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A17-2109-4C53-B024-51E0939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ED2-F6D3-43B5-A37F-E2D210CF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B19-E1E2-4855-A905-3E9FB03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5FD-B279-44DC-B159-A2AFD60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F88-BD50-4B76-B83B-D20BAE60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AA2-12FD-4C6F-89FC-EA86A72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7E6-7134-494E-8B79-E3ACE27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79D-1608-4C07-98A8-FC933B6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2603-D7D6-4AFF-B121-346ABFD1B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оссия.mp4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1699920"/>
            <a:ext cx="561636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оссия – Родина моя</a:t>
            </a:r>
            <a:br>
              <a:rPr sz="44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дготовила учитель начальных классов  МОУ «Большекарамасская СОШ» Михайлова Наталия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564000" y="1745280"/>
            <a:ext cx="55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Великую земл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Любимую земл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Где мы родились и жив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Мы Родиной светло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Мы Родиной наш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Monotype Corsiva"/>
                <a:ea typeface="Arial"/>
              </a:rPr>
              <a:t>Мы Родиной милой зов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564000" y="981000"/>
            <a:ext cx="792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Р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О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С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С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 Black"/>
              </a:rPr>
              <a:t>Я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4500720" y="9079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ная, раздольная, разумная, разудал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448520" y="1773360"/>
            <a:ext cx="42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громная, озерная, открыта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арователь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427640" y="24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льная, смелая, сердечная, совершенная, сказоч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527360" y="3500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ая-сам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4284720" y="39337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ная, изве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лючительна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ллектуальна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284720" y="5084640"/>
            <a:ext cx="40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ая, ясная, яростная,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4400" spc="-1" strike="noStrike">
                <a:solidFill>
                  <a:srgbClr val="a50021"/>
                </a:solidFill>
                <a:latin typeface="Calibri"/>
              </a:rPr>
              <a:t>«Мудрое слово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978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димая сторона – мать, чужая – мачеха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еловек без родины, что соловей без песн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одина - мать, умей за неё постоять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58920" y="1052280"/>
            <a:ext cx="5484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Monotype Corsiva"/>
              </a:rPr>
              <a:t>«Я могу сделать для своей Родины…»</a:t>
            </a:r>
            <a:r>
              <a:rPr b="0" lang="ru-RU" sz="44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836640"/>
            <a:ext cx="5770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Синквейн  к слову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 «Роди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4720" y="2205000"/>
            <a:ext cx="4402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существите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прилага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глаг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аза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ючевое слово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alibri"/>
              </a:rPr>
              <a:t>Синквейн  к слову «Роди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64000" y="1125000"/>
            <a:ext cx="66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существитель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прилагательных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любимая, род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глагола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жить, защищать,  хвал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Страна, в которой мы жив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ючевое сло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87708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8000" y="836640"/>
            <a:ext cx="550872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На широком просторе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Предрассветной порой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Встали алые зори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Над родимой страной.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С каждым годом все краше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Дорогие края…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Лучше родины нашей</a:t>
            </a:r>
            <a:br>
              <a:rPr sz="4000"/>
            </a:br>
            <a:r>
              <a:rPr b="1" i="1" lang="ru-RU" sz="4000" spc="-1" strike="noStrike">
                <a:solidFill>
                  <a:srgbClr val="a50021"/>
                </a:solidFill>
                <a:latin typeface="Monotype Corsiva"/>
              </a:rPr>
              <a:t> Нет на свете, друзь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i?id=9524172965d34ce070ff95469ab858b6-101-144&amp;n=21"/>
          <p:cNvPicPr/>
          <p:nvPr/>
        </p:nvPicPr>
        <p:blipFill>
          <a:blip r:embed="rId1"/>
          <a:stretch/>
        </p:blipFill>
        <p:spPr>
          <a:xfrm>
            <a:off x="6948360" y="614376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15:01:03Z</dcterms:created>
  <dc:creator>Aleksandrov</dc:creator>
  <dc:description/>
  <dc:language>en-US</dc:language>
  <cp:lastModifiedBy>Наталия Михайлова</cp:lastModifiedBy>
  <dcterms:modified xsi:type="dcterms:W3CDTF">2016-11-29T16:52:46Z</dcterms:modified>
  <cp:revision>27</cp:revision>
  <dc:subject/>
  <dc:title>Россия – Родина моя</dc:title>
</cp:coreProperties>
</file>