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E4FE-2B9A-416F-9B2C-0F141DC7B8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FEF9-2882-4091-B0BB-50EA39D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6702-4EA6-41D4-8EB7-AAE948B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D203-CDBD-4BBD-98B4-E5DC4266C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8436A-DB9A-43F4-BA24-5DE47982B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34B4E-ECDC-461B-965F-C0D78FE4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D4751-4301-4EC8-8732-82BBA0B2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7269F-43A0-47AF-ACE5-E1DE0F8C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489D5-BA5C-4F28-BCAD-F11AE312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63D30-5491-42AD-B390-540149E4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79499-5B14-4A74-810B-C1D53D59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B09D-93D5-4AFF-8ACF-3E401DBC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62395-035E-4CBA-872C-E13686E3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3647E-2049-428C-A0B2-F06C4CA9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12BFE-DB4B-40D3-B84D-C8312B15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CFBEE-8081-4DC6-B85A-3335913A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1DB3C-582D-412E-8BAB-80FEC730A5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851E-1ED9-4DC3-954B-F58F6946B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0850-95AF-4545-93FF-4CA7A37B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CB4A-FD0B-4C77-A8F8-4D344D60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7CA7-2114-4A8A-BAF5-C7169957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BCB0-930D-4A39-A193-86E2048D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C470-2E64-4084-B76A-78337DF4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A97F-90AE-45BF-9B6D-534C48FE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A2E3-A8AA-415C-BA2E-7D85FC2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087B-2517-4716-91B0-6692C3DF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3B7E-80A8-4097-912D-7038C923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AC2F-4C46-4E81-AFF8-2AA203A4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BFD0-08D1-43E6-8A0F-F0A633C3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A755-32CB-4249-BD73-0B6ABEE54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66243-A237-4B52-BF9D-79964A6DA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06082-4266-469B-A8C7-DF8FA021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C11B6-4040-47D6-BECB-8C95E4D8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FA97-1932-454E-8214-477020CA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D0A23-230C-4A8C-8ADE-E815C8C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55E18-912D-4E6D-ACEC-39457B6E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FD557-B487-4B64-A54A-1E6779A1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1F047-2A30-4DBA-A191-AF1BE73E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CFEA2-2D79-45D3-BAF0-C4D10D4A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99A35-4519-42F7-A197-B67B849D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4B502-A83F-4A60-A871-A95CAE29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0C377-D9E6-4307-AFB4-150898B4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B1BE2-2E46-4459-A893-489CF6D92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09F2-0CB6-4B87-A906-798F2364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831C-2ED1-4897-95C8-D55DAA16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45A0-6882-4503-8794-BA7A1DAF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58ED-FA19-4BD5-97EB-22DD8780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1C1B-05D5-434B-8DF7-8E36B053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2665440" y="0"/>
            <a:ext cx="64771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160"/>
            <a:ext cx="5103720" cy="286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05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29.11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880040" y="655596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9CDD59-C33E-43E8-983E-88B59053EDD5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406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5867280"/>
            <a:ext cx="3517920" cy="45576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</p:spPr>
        <p:txBody>
          <a:bodyPr lIns="90000" rIns="90000" tIns="45000" bIns="45000" anchor="ctr">
            <a:normAutofit fontScale="9000"/>
          </a:bodyPr>
          <a:p>
            <a:pPr marL="306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0600" indent="-30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0600" indent="-30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0600" indent="-30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0600" indent="-30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0600" indent="-30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0600" indent="-30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29.11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251400" y="6555960"/>
            <a:ext cx="5860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EE4022-7B83-468E-873D-16C2BA6761F8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406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51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02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50200" indent="-250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250200" indent="-250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250200" indent="-250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50200" indent="-250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250200" indent="-250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250200" indent="-250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29.11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60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FB1FCF-376C-4486-9FC3-FBC313041962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H="1">
            <a:off x="815184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29.11.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8"/>
          </p:nvPr>
        </p:nvSpPr>
        <p:spPr>
          <a:xfrm>
            <a:off x="6251400" y="6555960"/>
            <a:ext cx="5860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A1F24E-17DB-4A26-9979-2D65553095BE}" type="slidenum">
              <a:rPr b="0" lang="ru-RU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5d194f"/>
                </a:solidFill>
                <a:latin typeface="Trebuchet MS"/>
              </a:rPr>
              <a:t>Сифат-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5d194f"/>
                </a:solidFill>
                <a:latin typeface="Trebuchet MS"/>
              </a:rPr>
              <a:t>Предметтың билдәһен белдереүсе һүҙ төркөмө,  исемде асыҡлай , ниндәй? Һорауына яуап бирә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2076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5d194f"/>
                </a:solidFill>
                <a:latin typeface="Trebuchet MS"/>
              </a:rPr>
              <a:t>Сифаттарҙың яһалыш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867280"/>
            <a:ext cx="3519360" cy="45720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78160" y="5867280"/>
            <a:ext cx="3519720" cy="45720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711440"/>
            <a:ext cx="3519360" cy="4114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амыр сиф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78160" y="1711440"/>
            <a:ext cx="3519720" cy="4114800"/>
          </a:xfrm>
          <a:prstGeom prst="rect">
            <a:avLst/>
          </a:prstGeom>
          <a:solidFill>
            <a:srgbClr val="fcb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амыр хәлендә предметтың билдәһен белдер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ҡ, бәләкәй, күк, ҙур, м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5d194f"/>
                </a:solidFill>
                <a:latin typeface="Trebuchet MS"/>
              </a:rPr>
              <a:t>Яһалма сифат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1936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elZAGZ"/>
              </a:rPr>
              <a:t>Төрлө һүҙ төркөмөнән булған һүҙҙәргә ҡушылып, предметтың билдәһен белдер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77800" y="1600200"/>
            <a:ext cx="3519720" cy="4525920"/>
          </a:xfrm>
          <a:prstGeom prst="rect">
            <a:avLst/>
          </a:prstGeom>
          <a:solidFill>
            <a:srgbClr val="f9b639"/>
          </a:solidFill>
          <a:ln w="0">
            <a:noFill/>
          </a:ln>
        </p:spPr>
        <p:txBody>
          <a:bodyPr lIns="90000" rIns="90000" tIns="45000" bIns="45000" anchor="t">
            <a:normAutofit fontScale="34000"/>
          </a:bodyPr>
          <a:p>
            <a:pPr marL="92520" indent="-9252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семдән: белем – белемле, тоҙ – тоҙло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Ҡылымдан: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лау – илаҡ,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ереү- 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Һиҙеү –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</a:t>
            </a: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Һандан: ете –етеле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</a:t>
            </a: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сем ҡылымдан: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Түләү – түләүле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</a:t>
            </a: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Үҙләштерелгән һүҙҙәрҙән: тарих - тарихи,  ғилем – ғилми, 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Фән - фәнни</a:t>
            </a:r>
            <a:endParaRPr b="0" lang="en-US" sz="5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5d194f"/>
                </a:solidFill>
                <a:latin typeface="Trebuchet MS"/>
              </a:rPr>
              <a:t>Ҡушма сифаттар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1936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 һүҙҙәрҙе парлау юлы менән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)һүҙҙәрҙе ҡабатлау юлы менән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)һүҙҙәрҙе бәйләү юлы менән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77800" y="1600200"/>
            <a:ext cx="351972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ҡлы –ҡаралы, сейле-бешле, иләҫ-миләҫ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ейек-бейек, матур-мату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әҙек оҙо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ейә ҡыҙы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32076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5d194f"/>
                </a:solidFill>
                <a:latin typeface="Trebuchet MS"/>
              </a:rPr>
              <a:t>Төп һәм шартлы сифатта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653000"/>
            <a:ext cx="3519360" cy="167148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Аҡ сәскә,   киң  өҫтәл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Һәйбәт кеше, тәртипле б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78160" y="4653000"/>
            <a:ext cx="3519720" cy="167148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Таш йорт, йөн ойоҡ, алтын алҡа. Өфөләге йорт,  тәҙрә төбөндәге гөл, киске аш, ҡышҡы урм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711440"/>
            <a:ext cx="3519360" cy="2868480"/>
          </a:xfrm>
          <a:prstGeom prst="rect">
            <a:avLst/>
          </a:prstGeom>
          <a:solidFill>
            <a:srgbClr val="d488c5"/>
          </a:solidFill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Төп сифаттар туранан-тура предметтың билдәһен белдер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78160" y="1711440"/>
            <a:ext cx="3519720" cy="2868480"/>
          </a:xfrm>
          <a:prstGeom prst="rect">
            <a:avLst/>
          </a:prstGeom>
          <a:gradFill rotWithShape="0">
            <a:gsLst>
              <a:gs pos="0">
                <a:srgbClr val="facc93"/>
              </a:gs>
              <a:gs pos="100000">
                <a:srgbClr val="ffbe5e"/>
              </a:gs>
            </a:gsLst>
            <a:lin ang="5400000"/>
          </a:gradFill>
          <a:ln w="11520">
            <a:solidFill>
              <a:srgbClr val="f9b6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Шартлы сифаттар предметты урын, ваҡыт, материал яғынан  билдәлә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5d194f"/>
                </a:solidFill>
                <a:latin typeface="Trebuchet MS"/>
              </a:rPr>
              <a:t>Сифат дәрәжәләр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523880" y="1397160"/>
            <a:ext cx="6094440" cy="4062240"/>
            <a:chOff x="1523880" y="1397160"/>
            <a:chExt cx="6094440" cy="4062240"/>
          </a:xfrm>
        </p:grpSpPr>
        <p:sp>
          <p:nvSpPr>
            <p:cNvPr id="191" name=""/>
            <p:cNvSpPr/>
            <p:nvPr/>
          </p:nvSpPr>
          <p:spPr>
            <a:xfrm>
              <a:off x="4572000" y="1397160"/>
              <a:ext cx="1522440" cy="40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өп дәрәж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23880" y="1397160"/>
              <a:ext cx="1522440" cy="40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тыҡлыҡ дәрәжәһ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8120" y="1397160"/>
              <a:ext cx="1522440" cy="40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ағыштырыу дәрәжәһ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1397160"/>
              <a:ext cx="1522440" cy="40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ҙһытыу дәрәжәһ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76360" y="1484280"/>
            <a:ext cx="6094440" cy="4062600"/>
            <a:chOff x="1476360" y="1484280"/>
            <a:chExt cx="6094440" cy="4062600"/>
          </a:xfrm>
        </p:grpSpPr>
        <p:sp>
          <p:nvSpPr>
            <p:cNvPr id="196" name=""/>
            <p:cNvSpPr/>
            <p:nvPr/>
          </p:nvSpPr>
          <p:spPr>
            <a:xfrm>
              <a:off x="1476360" y="1484280"/>
              <a:ext cx="1522440" cy="40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Ҡ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ҙы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24480" y="1484280"/>
              <a:ext cx="1522440" cy="40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Ҡып-ҡыҙы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98800" y="1484280"/>
              <a:ext cx="1522440" cy="40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Ҡыҙ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лыра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48360" y="1484280"/>
              <a:ext cx="1522440" cy="40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ҡыҙғыл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523880" y="1397160"/>
            <a:ext cx="6094440" cy="4062240"/>
            <a:chOff x="1523880" y="1397160"/>
            <a:chExt cx="6094440" cy="4062240"/>
          </a:xfrm>
        </p:grpSpPr>
        <p:sp>
          <p:nvSpPr>
            <p:cNvPr id="201" name=""/>
            <p:cNvSpPr/>
            <p:nvPr/>
          </p:nvSpPr>
          <p:spPr>
            <a:xfrm>
              <a:off x="1523880" y="3429000"/>
              <a:ext cx="1522440" cy="20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ату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8120" y="3429000"/>
              <a:ext cx="1522440" cy="20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ыҡ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ат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0" y="3429000"/>
              <a:ext cx="1522440" cy="20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23880" y="1397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турыра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95880" y="3429000"/>
              <a:ext cx="1522440" cy="20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ур ғы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