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6.png" ContentType="image/pn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27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17.jpeg" ContentType="image/jpeg"/>
  <Override PartName="/ppt/media/image2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E7BE-2133-461F-B89B-AF9C18DAC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21E2-9952-44EB-B7D0-2466C18C9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493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3867-7EA1-422F-9E08-2C94680B1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946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223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946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223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45B2-93F2-41DA-B9BE-8CCFB2C95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6D902-9371-4335-B8F2-08AFF709D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C56E0-FE17-4835-90A0-03290FE33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9776B-DCB1-44E7-9A0A-8B729EAAA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01924-CDB9-430F-970E-90A7D43CA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52632-2DD4-4F8D-AD20-4BEBCFC78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26720-5151-4793-A2D5-9E1E7B139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A19F2-1FD1-4C96-8E2C-F440B569B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0093-F3A1-4FB6-B0C8-3163C3408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493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172A0-0042-4B88-93CE-D94DD31FB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3DF21-9A80-44CC-871D-AEE046763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666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38A18-84C4-4387-941C-2D246BC91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493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3B221-943F-4059-A16A-9FA28491D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946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223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666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946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223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2B647-0808-4CAB-BBD9-C784079A7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2B9E-A518-4B11-BD02-E9AF79E0A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4F44-849B-4329-AB52-DE4BF1F61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5139-6569-4BA8-AD24-13970F6F3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2D12-9BCD-4804-AC45-EF4FBFE48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B414-6FB9-48D8-89B6-8B8C766CC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493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869C-3AC8-4FBC-950B-74D78F071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84BA-9660-482B-BD3D-3308370D0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"/>
          <p:cNvGrpSpPr/>
          <p:nvPr/>
        </p:nvGrpSpPr>
        <p:grpSpPr>
          <a:xfrm>
            <a:off x="0" y="0"/>
            <a:ext cx="8915400" cy="6858000"/>
            <a:chOff x="0" y="0"/>
            <a:chExt cx="8915400" cy="6858000"/>
          </a:xfrm>
        </p:grpSpPr>
        <p:pic>
          <p:nvPicPr>
            <p:cNvPr id="1" name="Picture 2" descr="Expbanna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Rectangle 3"/>
            <p:cNvSpPr/>
            <p:nvPr/>
          </p:nvSpPr>
          <p:spPr>
            <a:xfrm>
              <a:off x="914400" y="228600"/>
              <a:ext cx="8001000" cy="6172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F997A-F928-45F4-8521-A70973704100}" type="slidenum">
              <a:rPr b="0" lang="ru-RU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2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45" name="Picture 2" descr="Expbanna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icture 9" descr="EXPHORSA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ADD71-6E1D-4BA5-B775-3345E3C1F559}" type="slidenum">
              <a:rPr b="0" lang="ru-RU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image" Target="../media/image20.jpeg"/><Relationship Id="rId9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76000" y="765000"/>
            <a:ext cx="6676920" cy="2740320"/>
          </a:xfrm>
          <a:prstGeom prst="rect">
            <a:avLst/>
          </a:prstGeom>
          <a:solidFill>
            <a:srgbClr val="ffffff"/>
          </a:solidFill>
          <a:ln w="76320">
            <a:solidFill>
              <a:srgbClr val="96969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482400"/>
                </a:solidFill>
                <a:latin typeface="Times New Roman"/>
              </a:rPr>
              <a:t>Основные положения  современного экологического образования дошкольников</a:t>
            </a:r>
            <a:endParaRPr b="0" i="1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31640" y="3789000"/>
            <a:ext cx="7343640" cy="26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ЭКОЛОГИЯ  в переводе с латыни – наука о дом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ЭКОЛОГИЯ – наука о взаимосвязях всех обитателей нашей планет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853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82400"/>
                </a:solidFill>
                <a:latin typeface="Times New Roman"/>
              </a:rPr>
              <a:t>ОРГАНИЗАЦИЯ РАБОТЫ ПО ТЕХНОЛОГИИ «ДОБРО ПОЖАЛОВАТЬ В ЭКОЛОГИЮ»</a:t>
            </a:r>
            <a:endParaRPr b="0" i="1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55640" y="1752480"/>
            <a:ext cx="8569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приложении к плану даны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нспекты всех занятий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экологические игры и упражнения, примерное содержание бесед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фольклорный материал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итература о природ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диск с записью звуков природы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вукового сопровождения занят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26560" y="380880"/>
            <a:ext cx="8317080" cy="45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482400"/>
                </a:solidFill>
                <a:latin typeface="Times New Roman"/>
              </a:rPr>
              <a:t>Рабочие экологические тетради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4360" y="3789360"/>
            <a:ext cx="820872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тради представляют собой единое целое с книг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ждое задание в тетради содержит подсказки для взрослог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ед выполнением задания необходимо сначала обсудить его с ребёнк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традь включает в себя фиксацию наблюдений и опыт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традь содержит в себе педагогическую диагностик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1403280" y="1700280"/>
            <a:ext cx="691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82400"/>
                </a:solidFill>
                <a:latin typeface="Times New Roman"/>
              </a:rPr>
              <a:t>Работа в экологической тетради значительно обогащает опыт ребён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6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482400"/>
                </a:solidFill>
                <a:latin typeface="Times New Roman"/>
              </a:rPr>
              <a:t>Демонстрационные картины и динамические модели</a:t>
            </a:r>
            <a:endParaRPr b="0" i="1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72504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зработаны как методическое обеспечение к занятиям – это качественный современный иллюстративный материал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еалистичные картины помогают открыть ребёнку загадочный мир природ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инамические модели помогают скрытые для ребёнка связи в природе сделать наглядным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752480" y="1052280"/>
            <a:ext cx="6400800" cy="2452680"/>
          </a:xfrm>
          <a:prstGeom prst="rect">
            <a:avLst/>
          </a:prstGeom>
          <a:solidFill>
            <a:srgbClr val="ffffff"/>
          </a:solidFill>
          <a:ln w="76320">
            <a:solidFill>
              <a:srgbClr val="96969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482400"/>
                </a:solidFill>
                <a:latin typeface="Times New Roman"/>
              </a:rPr>
              <a:t>МЕТОДЫ ЭКОЛОГИЧЕСКОГО ВОСПИТАНИЯ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2340000" y="3886200"/>
            <a:ext cx="6804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РАДИЦИОННЫЕ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.НАГЛЯДНЫ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.СЛОВЕСНЫ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.ПРАКТИЧЕСК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752480" y="1052280"/>
            <a:ext cx="6400800" cy="2452680"/>
          </a:xfrm>
          <a:prstGeom prst="rect">
            <a:avLst/>
          </a:prstGeom>
          <a:solidFill>
            <a:srgbClr val="ffffff"/>
          </a:solidFill>
          <a:ln w="76320">
            <a:solidFill>
              <a:srgbClr val="96969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482400"/>
                </a:solidFill>
                <a:latin typeface="Times New Roman"/>
              </a:rPr>
              <a:t>МЕТОДЫ ЭКОЛОГИЧЕСКОГО ВОСПИТАНИЯ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763280" y="3886200"/>
            <a:ext cx="7380360" cy="22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НОВАЦИОННЫЕ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.МЕТОД ИГРОВОГО ПРОБЛЕМНОГО ОБУЧЕНИЯ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.ЭЛЕМЕНЕТЫ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РИЗ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системный оператор, приём «маленькие человечки», игра «хорошо-плохо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3. ЭЛЕМЕНТЫ МНЕМОТЕХНИКИ (МНЕМОТАБЛИЦЫ И КОЛЛАЖИ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4.МЕТОД НАГЛЯДНОГО МОДЕЛИРОВА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55280" y="189000"/>
            <a:ext cx="8388360" cy="1224000"/>
          </a:xfrm>
          <a:prstGeom prst="rect">
            <a:avLst/>
          </a:prstGeom>
          <a:solidFill>
            <a:srgbClr val="ffffff"/>
          </a:solidFill>
          <a:ln w="76320">
            <a:solidFill>
              <a:srgbClr val="96969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482400"/>
                </a:solidFill>
                <a:latin typeface="Times New Roman"/>
              </a:rPr>
              <a:t>МЕТОД ИГРОВОГО ПРОБЛЕМНОГО ОБУЧЕНИЯ</a:t>
            </a:r>
            <a:endParaRPr b="0" i="1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2340000" y="1484280"/>
            <a:ext cx="6804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СПОЛЬЗОВАНИЕ В ЭКОЛОГИЧЕСКОЙ ДЕЯТЕЛЬНОСТИ ИГРОВЫХ ПРОБЛЕМНЫХ СИТУАЦ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1116000" y="3357720"/>
            <a:ext cx="6912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ЦЕЛЬ: ПОСТАВИТЬ РЕБЁНКА В АКТИВНУЮ ПОЗИЦИЮ, РАЗВИВАТЬ ЛОГИЧЕСКОЕ МЫШЛЕНИЕ И САМОСТОЯТЕЛЬНОСТЬ В РЕШЕНИИ ПРОБЛЕМ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82400"/>
                </a:solidFill>
                <a:latin typeface="Times New Roman"/>
              </a:rPr>
              <a:t>ЭЛЕМЕНТЫ МНЕМОТЕХНИКИ (МНЕМОТАБЛИЦЫ И КОЛЛАЖИ)</a:t>
            </a:r>
            <a:endParaRPr b="0" i="1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Коллажи – это учебные пособия, решающие следующие задачи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1.Расширение словарного запаса детей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2.Развитие связной речи, умение составлять описательный рассказ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3.Развитие зрительной памяти и ассоциативных связе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640720" cy="1655640"/>
          </a:xfrm>
          <a:prstGeom prst="rect">
            <a:avLst/>
          </a:prstGeom>
          <a:solidFill>
            <a:srgbClr val="ffffff"/>
          </a:solidFill>
          <a:ln w="76320">
            <a:solidFill>
              <a:srgbClr val="96969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6633"/>
                </a:solidFill>
                <a:latin typeface="Times New Roman"/>
              </a:rPr>
              <a:t>ИСПОЛЬЗОВАНИЕ МЕТОДА МОДЕЛИРОВАНИЯ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899640" y="2637000"/>
            <a:ext cx="799308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МОДЕЛЬ –ЭТО УСЛОВНОЕ ИЗОБРАЖЕНИЕ ОБЪЕКТА, ЗАМЕСТИТЕЛЬ ОБЪЕКТ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●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Модели помогают ребёнку сравнивать, анализировать, обобща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●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ли делают скрытые в природе связи наглядным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1619280" y="4941720"/>
            <a:ext cx="396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482400"/>
                </a:solidFill>
                <a:latin typeface="Times New Roman"/>
              </a:rPr>
              <a:t>ВИДЫ МОДЕЛЕЙ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76360" y="1752480"/>
            <a:ext cx="7362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МОДЕЛИ ДЛЯ ФОРМИРОВАНИЯ ПОНЯТИЙ О РАЗНЫХ ГРУППАХ ЖИВОТНЫХ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ЗВЕР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РЫБ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НАСЕКОМЫ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ПТИЦ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826920" y="1700280"/>
            <a:ext cx="3313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ОНЯТИЕ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«НАСЕ-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КОМЫЕ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5028840" y="17524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4" descr="призн насекомых"/>
          <p:cNvPicPr/>
          <p:nvPr/>
        </p:nvPicPr>
        <p:blipFill>
          <a:blip r:embed="rId2"/>
          <a:stretch/>
        </p:blipFill>
        <p:spPr>
          <a:xfrm>
            <a:off x="4232160" y="0"/>
            <a:ext cx="4973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280360" cy="1152720"/>
          </a:xfrm>
          <a:prstGeom prst="rect">
            <a:avLst/>
          </a:prstGeom>
          <a:solidFill>
            <a:srgbClr val="ffffff"/>
          </a:solidFill>
          <a:ln w="76320">
            <a:solidFill>
              <a:srgbClr val="96969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482400"/>
                </a:solidFill>
                <a:latin typeface="Times New Roman"/>
              </a:rPr>
              <a:t>1.Системное строение природы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186920" y="2060640"/>
            <a:ext cx="741708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Цель №1. Довести до сознания детей понятие, что каждый объект природы – это единая систем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Цель №2. Сформировать у детей представления об экологических система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482400"/>
                </a:solidFill>
                <a:latin typeface="Times New Roman"/>
              </a:rPr>
              <a:t>ПОНЯТИЕ «РЫБЫ»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42920" y="907920"/>
            <a:ext cx="77961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4" descr="признаки рыбы"/>
          <p:cNvPicPr/>
          <p:nvPr/>
        </p:nvPicPr>
        <p:blipFill>
          <a:blip r:embed="rId1"/>
          <a:stretch/>
        </p:blipFill>
        <p:spPr>
          <a:xfrm>
            <a:off x="755640" y="1123920"/>
            <a:ext cx="820908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55280" y="380880"/>
            <a:ext cx="8064360" cy="74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482400"/>
                </a:solidFill>
                <a:latin typeface="Times New Roman"/>
              </a:rPr>
              <a:t>СРЕДА ОБИТАНИЯ </a:t>
            </a:r>
            <a:br>
              <a:rPr sz="4000"/>
            </a:br>
            <a:r>
              <a:rPr b="1" i="1" lang="ru-RU" sz="4000" spc="-1" strike="noStrike">
                <a:solidFill>
                  <a:srgbClr val="482400"/>
                </a:solidFill>
                <a:latin typeface="Times New Roman"/>
              </a:rPr>
              <a:t>НАЗЕМНЫХ ЖИВОТНЫХ</a:t>
            </a:r>
            <a:endParaRPr b="0" i="1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4" descr="среда обитания"/>
          <p:cNvPicPr/>
          <p:nvPr/>
        </p:nvPicPr>
        <p:blipFill>
          <a:blip r:embed="rId1"/>
          <a:stretch/>
        </p:blipFill>
        <p:spPr>
          <a:xfrm>
            <a:off x="755640" y="1413000"/>
            <a:ext cx="8353440" cy="53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482400"/>
                </a:solidFill>
                <a:latin typeface="Times New Roman"/>
              </a:rPr>
              <a:t>МОДЕЛИ ПРИСПОСОБЛЕНИЯ ЗВЕРЕЙ К ЗИМЕ</a:t>
            </a:r>
            <a:endParaRPr b="0" i="1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4" descr="приспособление зверей к зиме"/>
          <p:cNvPicPr/>
          <p:nvPr/>
        </p:nvPicPr>
        <p:blipFill>
          <a:blip r:embed="rId1"/>
          <a:stretch/>
        </p:blipFill>
        <p:spPr>
          <a:xfrm>
            <a:off x="755640" y="1444680"/>
            <a:ext cx="8209080" cy="52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26920" y="2204640"/>
            <a:ext cx="8012160" cy="36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МОДЕЛ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ИЩЕВЫХ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ЦЕПОЧЕ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3" descr="пищевые цепочки"/>
          <p:cNvPicPr/>
          <p:nvPr/>
        </p:nvPicPr>
        <p:blipFill>
          <a:blip r:embed="rId1"/>
          <a:stretch/>
        </p:blipFill>
        <p:spPr>
          <a:xfrm>
            <a:off x="3294000" y="0"/>
            <a:ext cx="5850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755280" y="980640"/>
            <a:ext cx="8156520" cy="587700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611280" y="259920"/>
            <a:ext cx="85327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900" spc="-1" strike="noStrike">
                <a:solidFill>
                  <a:srgbClr val="482400"/>
                </a:solidFill>
                <a:latin typeface="Times New Roman"/>
              </a:rPr>
              <a:t>МОДЕЛИ СТРОЕНИЯ РАСТЕНИЯ</a:t>
            </a:r>
            <a:endParaRPr b="0" i="1" lang="en-US" sz="39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Picture 4" descr="труд9"/>
          <p:cNvPicPr/>
          <p:nvPr/>
        </p:nvPicPr>
        <p:blipFill>
          <a:blip r:embed="rId1"/>
          <a:stretch/>
        </p:blipFill>
        <p:spPr>
          <a:xfrm>
            <a:off x="2263680" y="979560"/>
            <a:ext cx="3387960" cy="20970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труд10"/>
          <p:cNvPicPr/>
          <p:nvPr/>
        </p:nvPicPr>
        <p:blipFill>
          <a:blip r:embed="rId2"/>
          <a:stretch/>
        </p:blipFill>
        <p:spPr>
          <a:xfrm>
            <a:off x="2724120" y="3213000"/>
            <a:ext cx="2927520" cy="16430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труд11"/>
          <p:cNvPicPr/>
          <p:nvPr/>
        </p:nvPicPr>
        <p:blipFill>
          <a:blip r:embed="rId3"/>
          <a:stretch/>
        </p:blipFill>
        <p:spPr>
          <a:xfrm>
            <a:off x="5937120" y="1077840"/>
            <a:ext cx="2955960" cy="17179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7" descr="труд12"/>
          <p:cNvPicPr/>
          <p:nvPr/>
        </p:nvPicPr>
        <p:blipFill>
          <a:blip r:embed="rId4"/>
          <a:stretch/>
        </p:blipFill>
        <p:spPr>
          <a:xfrm>
            <a:off x="826920" y="3213000"/>
            <a:ext cx="1793880" cy="35290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8" descr="труд13"/>
          <p:cNvPicPr/>
          <p:nvPr/>
        </p:nvPicPr>
        <p:blipFill>
          <a:blip r:embed="rId5"/>
          <a:stretch/>
        </p:blipFill>
        <p:spPr>
          <a:xfrm>
            <a:off x="5940360" y="2814480"/>
            <a:ext cx="2935440" cy="17812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9" descr="труд14"/>
          <p:cNvPicPr/>
          <p:nvPr/>
        </p:nvPicPr>
        <p:blipFill>
          <a:blip r:embed="rId6"/>
          <a:stretch/>
        </p:blipFill>
        <p:spPr>
          <a:xfrm>
            <a:off x="5724360" y="4911840"/>
            <a:ext cx="3083040" cy="18223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0" descr="труд15"/>
          <p:cNvPicPr/>
          <p:nvPr/>
        </p:nvPicPr>
        <p:blipFill>
          <a:blip r:embed="rId7"/>
          <a:stretch/>
        </p:blipFill>
        <p:spPr>
          <a:xfrm>
            <a:off x="3708360" y="4916520"/>
            <a:ext cx="1932120" cy="18208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1" descr="труд16"/>
          <p:cNvPicPr/>
          <p:nvPr/>
        </p:nvPicPr>
        <p:blipFill>
          <a:blip r:embed="rId8"/>
          <a:stretch/>
        </p:blipFill>
        <p:spPr>
          <a:xfrm>
            <a:off x="826920" y="1039680"/>
            <a:ext cx="135576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00000" y="380880"/>
            <a:ext cx="8244000" cy="52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82400"/>
                </a:solidFill>
                <a:latin typeface="Times New Roman"/>
              </a:rPr>
              <a:t>МОДЕЛИ ПОТРЕБНОСТЕЙ РАСТЕНИЙ</a:t>
            </a:r>
            <a:endParaRPr b="0" i="1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51" name="Picture 3" descr="потребности растений"/>
          <p:cNvPicPr/>
          <p:nvPr/>
        </p:nvPicPr>
        <p:blipFill>
          <a:blip r:embed="rId1"/>
          <a:stretch/>
        </p:blipFill>
        <p:spPr>
          <a:xfrm>
            <a:off x="969840" y="1128600"/>
            <a:ext cx="7705800" cy="568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потребность в воде"/>
          <p:cNvPicPr/>
          <p:nvPr/>
        </p:nvPicPr>
        <p:blipFill>
          <a:blip r:embed="rId1"/>
          <a:stretch/>
        </p:blipFill>
        <p:spPr>
          <a:xfrm>
            <a:off x="4502160" y="333360"/>
            <a:ext cx="4556160" cy="652464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3"/>
          <p:cNvSpPr/>
          <p:nvPr/>
        </p:nvSpPr>
        <p:spPr>
          <a:xfrm>
            <a:off x="826920" y="1700280"/>
            <a:ext cx="388944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МОДЕЛ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ОТРЕБНОСТ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РАСТЕНИЯ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В ВОД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18864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482400"/>
                </a:solidFill>
                <a:latin typeface="Times New Roman"/>
              </a:rPr>
              <a:t>КАРТОТЕКА РАСТЕНИЙ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Picture 4" descr="картотека растений"/>
          <p:cNvPicPr/>
          <p:nvPr/>
        </p:nvPicPr>
        <p:blipFill>
          <a:blip r:embed="rId1"/>
          <a:stretch/>
        </p:blipFill>
        <p:spPr>
          <a:xfrm>
            <a:off x="971640" y="1089000"/>
            <a:ext cx="7921440" cy="53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971640" y="1752480"/>
            <a:ext cx="3168720" cy="22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МОДЕЛИ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ОРГАНОВ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ЧУВСТ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Picture 3" descr="оргпны чувств"/>
          <p:cNvPicPr/>
          <p:nvPr/>
        </p:nvPicPr>
        <p:blipFill>
          <a:blip r:embed="rId1"/>
          <a:stretch/>
        </p:blipFill>
        <p:spPr>
          <a:xfrm>
            <a:off x="4145040" y="404640"/>
            <a:ext cx="4668840" cy="58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71640" y="259920"/>
            <a:ext cx="7921440" cy="1297080"/>
          </a:xfrm>
          <a:prstGeom prst="rect">
            <a:avLst/>
          </a:prstGeom>
          <a:solidFill>
            <a:srgbClr val="ffffff"/>
          </a:solidFill>
          <a:ln w="76320">
            <a:solidFill>
              <a:srgbClr val="96969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482400"/>
                </a:solidFill>
                <a:latin typeface="Times New Roman"/>
              </a:rPr>
              <a:t>ЭЛЕМЕНЕТЫ</a:t>
            </a:r>
            <a:r>
              <a:rPr b="0" i="1" lang="ru-RU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i="1" lang="ru-RU" sz="4400" spc="-1" strike="noStrike">
                <a:solidFill>
                  <a:srgbClr val="482400"/>
                </a:solidFill>
                <a:latin typeface="Times New Roman"/>
              </a:rPr>
              <a:t>ТРИЗ:</a:t>
            </a:r>
            <a:r>
              <a:rPr b="0" i="1" lang="ru-RU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i="1" lang="ru-RU" sz="4400" spc="-1" strike="noStrike">
                <a:solidFill>
                  <a:srgbClr val="482400"/>
                </a:solidFill>
                <a:latin typeface="Times New Roman"/>
              </a:rPr>
              <a:t>СИСТЕМНЫЙ ОПЕРАТОР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826560" y="1844280"/>
            <a:ext cx="8317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●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МОГАЕТ СФОРМИРОВАТЬ У РЕБЁНКА ЦЕЛОСТНОЕ ПРЕДСТАВЛЕНИЕ О ПРИРОДЕ, РАЗВИВАЕТ ЛОГИЧЕСКОЕ, СИСТЕМНОЕ   МЫШЛЕНИЕ    И    РЕЧ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●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УТЬ СИСТЕМНОСТИ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○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Ё СОСТОИТ ИЗ ЧЕГО-ТО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○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ХОДИТ ВО ЧТО-ТО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○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ЕТ НАСТОЯЩЕЕ, ПРОШЛОЕ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ДУЩЕ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19280" y="836640"/>
            <a:ext cx="6624720" cy="2736720"/>
          </a:xfrm>
          <a:prstGeom prst="rect">
            <a:avLst/>
          </a:prstGeom>
          <a:solidFill>
            <a:srgbClr val="ffffff"/>
          </a:solidFill>
          <a:ln w="76320">
            <a:solidFill>
              <a:srgbClr val="969696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482400"/>
                </a:solidFill>
                <a:latin typeface="Times New Roman"/>
              </a:rPr>
              <a:t>2.В основу экологического образования дошкольников положено понятие «ЖИВОЕ</a:t>
            </a:r>
            <a:r>
              <a:rPr b="0" i="1" lang="ru-RU" sz="4000" spc="-1" strike="noStrike">
                <a:solidFill>
                  <a:srgbClr val="482400"/>
                </a:solidFill>
                <a:latin typeface="Times New Roman"/>
              </a:rPr>
              <a:t>»</a:t>
            </a:r>
            <a:endParaRPr b="0" i="1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00000" y="189000"/>
            <a:ext cx="7632720" cy="792000"/>
          </a:xfrm>
          <a:prstGeom prst="rect">
            <a:avLst/>
          </a:prstGeom>
          <a:solidFill>
            <a:srgbClr val="ffffff"/>
          </a:solidFill>
          <a:ln w="76320">
            <a:solidFill>
              <a:srgbClr val="96969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482400"/>
                </a:solidFill>
                <a:latin typeface="Times New Roman"/>
              </a:rPr>
              <a:t>СИСТЕМНЫЙ ОПЕРАТОР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900000" y="1413000"/>
          <a:ext cx="7920000" cy="5040360"/>
        </p:xfrm>
        <a:graphic>
          <a:graphicData uri="http://schemas.openxmlformats.org/drawingml/2006/table">
            <a:tbl>
              <a:tblPr/>
              <a:tblGrid>
                <a:gridCol w="2640240"/>
                <a:gridCol w="2639880"/>
                <a:gridCol w="2639880"/>
              </a:tblGrid>
              <a:tr h="163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ДСИСТЕМ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ДСИСТЕМ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ДСИСТЕМ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ШЛО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482400"/>
                          </a:solidFill>
                          <a:latin typeface="Times New Roman"/>
                        </a:rPr>
                        <a:t>СИСТЕМ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УДУЩЕ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ДСИСТЕМ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ДСИСТЕМ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ДСИСТЕМ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Text Box 21"/>
          <p:cNvSpPr/>
          <p:nvPr/>
        </p:nvSpPr>
        <p:spPr>
          <a:xfrm>
            <a:off x="8512200" y="15066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00000" y="189000"/>
            <a:ext cx="7632720" cy="792000"/>
          </a:xfrm>
          <a:prstGeom prst="rect">
            <a:avLst/>
          </a:prstGeom>
          <a:solidFill>
            <a:srgbClr val="ffffff"/>
          </a:solidFill>
          <a:ln w="76320">
            <a:solidFill>
              <a:srgbClr val="96969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482400"/>
                </a:solidFill>
                <a:latin typeface="Times New Roman"/>
              </a:rPr>
              <a:t>СИСТЕМНЫЙ ОПЕРАТОР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900000" y="1413000"/>
          <a:ext cx="7920000" cy="5040360"/>
        </p:xfrm>
        <a:graphic>
          <a:graphicData uri="http://schemas.openxmlformats.org/drawingml/2006/table">
            <a:tbl>
              <a:tblPr/>
              <a:tblGrid>
                <a:gridCol w="2640240"/>
                <a:gridCol w="2639880"/>
                <a:gridCol w="2639880"/>
              </a:tblGrid>
              <a:tr h="163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ИМНИЕ МЕСЯЦЫ: 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ЕКАБРЬ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ЯНВАРЬ, ФЕВРА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РЕМЕНА ГО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ЕТНИЕ МЕСЯЦЫ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ЮНЬ, ИЮЛЬ, АВГУС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ИМ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ЕСНА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ЕТ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ЗНАКИ ЗИМ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ЗНАКИ ВЕСН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ЗНАКИ ЛЕ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Text Box 21"/>
          <p:cNvSpPr/>
          <p:nvPr/>
        </p:nvSpPr>
        <p:spPr>
          <a:xfrm>
            <a:off x="8512200" y="15066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482400"/>
                </a:solidFill>
                <a:latin typeface="Times New Roman"/>
              </a:rPr>
              <a:t>Метод моделирования «маленькими человечками»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етод эффективен для познания свойств и качеств окружающего мира при проведении с детьми опытов и экспериментов. Используется для обозначения твёрдого, жидкого и газообразного веществ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482400"/>
                </a:solidFill>
                <a:latin typeface="Times New Roman"/>
              </a:rPr>
              <a:t>Метод моделирования «маленькими человечками»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26560" y="1773360"/>
            <a:ext cx="4681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«Твёрдые человечки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«жидкие человечки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«газообразные человечки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Picture 4" descr="человески 1"/>
          <p:cNvPicPr/>
          <p:nvPr/>
        </p:nvPicPr>
        <p:blipFill>
          <a:blip r:embed="rId4"/>
          <a:stretch/>
        </p:blipFill>
        <p:spPr>
          <a:xfrm>
            <a:off x="5292720" y="1628640"/>
            <a:ext cx="355608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482400"/>
                </a:solidFill>
                <a:latin typeface="Times New Roman"/>
              </a:rPr>
              <a:t>Примеры моделирования «маленькими человечками»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7280" y="2276640"/>
            <a:ext cx="72504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Кусок льда принесли в тёплую комнату и он начал таят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482400"/>
                </a:solidFill>
                <a:latin typeface="Times New Roman"/>
              </a:rPr>
              <a:t>Примеры моделирования «маленькими человечками»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331640" y="2205000"/>
            <a:ext cx="7250040" cy="35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На стол поставили чашку с горячим дымящимся чаем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00000" y="380520"/>
            <a:ext cx="82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600" spc="-1" strike="noStrike">
                <a:solidFill>
                  <a:srgbClr val="482400"/>
                </a:solidFill>
                <a:latin typeface="Times New Roman"/>
              </a:rPr>
              <a:t>Игра «хорошо-плохо»  (ТРИЗ)</a:t>
            </a:r>
            <a:r>
              <a:rPr b="0" i="1" lang="ru-RU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26560" y="1268280"/>
            <a:ext cx="396108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Развивает диалектическое мышление ребёнка, умение анализировать, устанавливать связ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Picture 4" descr="хорошо-плохо"/>
          <p:cNvPicPr/>
          <p:nvPr/>
        </p:nvPicPr>
        <p:blipFill>
          <a:blip r:embed="rId2"/>
          <a:stretch/>
        </p:blipFill>
        <p:spPr>
          <a:xfrm>
            <a:off x="5292720" y="1558800"/>
            <a:ext cx="3130560" cy="235440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5"/>
          <p:cNvSpPr/>
          <p:nvPr/>
        </p:nvSpPr>
        <p:spPr>
          <a:xfrm>
            <a:off x="5651640" y="3716280"/>
            <a:ext cx="92376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0" spc="-1" strike="noStrike">
                <a:solidFill>
                  <a:srgbClr val="ff3300"/>
                </a:solidFill>
                <a:latin typeface="Times New Roman"/>
              </a:rPr>
              <a:t>+</a:t>
            </a: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6"/>
          <p:cNvSpPr/>
          <p:nvPr/>
        </p:nvSpPr>
        <p:spPr>
          <a:xfrm>
            <a:off x="7309800" y="2897280"/>
            <a:ext cx="88020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0" spc="-1" strike="noStrike">
                <a:solidFill>
                  <a:srgbClr val="000000"/>
                </a:solidFill>
                <a:latin typeface="Times New Roman"/>
              </a:rPr>
              <a:t>_</a:t>
            </a: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7"/>
          <p:cNvSpPr/>
          <p:nvPr/>
        </p:nvSpPr>
        <p:spPr>
          <a:xfrm>
            <a:off x="5223240" y="5156280"/>
            <a:ext cx="343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пример: что хорошег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 что плохого приноси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м осен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87280" y="765000"/>
            <a:ext cx="7561440" cy="2880000"/>
          </a:xfrm>
          <a:prstGeom prst="rect">
            <a:avLst/>
          </a:prstGeom>
          <a:solidFill>
            <a:srgbClr val="ffffff"/>
          </a:solidFill>
          <a:ln w="76320">
            <a:solidFill>
              <a:srgbClr val="96969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482400"/>
                </a:solidFill>
                <a:latin typeface="Times New Roman"/>
              </a:rPr>
              <a:t>3.У детей формируется представление о единстве живой и неживой природы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31640" y="404280"/>
            <a:ext cx="7326360" cy="792360"/>
          </a:xfrm>
          <a:prstGeom prst="rect">
            <a:avLst/>
          </a:prstGeom>
          <a:solidFill>
            <a:srgbClr val="ffffff"/>
          </a:solidFill>
          <a:ln w="76320">
            <a:solidFill>
              <a:srgbClr val="96969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82400"/>
                </a:solidFill>
                <a:latin typeface="Times New Roman"/>
              </a:rPr>
              <a:t>4.ПРИСПОСОБЛЕНИЕ ЖИВОГО</a:t>
            </a:r>
            <a:endParaRPr b="0" i="1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763640" y="1844280"/>
            <a:ext cx="6408720" cy="15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 СРЕДЕ ОБИТАНИЯ 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 СЕЗОНУ – ОСНОВНОЙ ЗАКОН ЖИЗН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07640" y="475920"/>
            <a:ext cx="6264360" cy="2089080"/>
          </a:xfrm>
          <a:prstGeom prst="rect">
            <a:avLst/>
          </a:prstGeom>
          <a:solidFill>
            <a:srgbClr val="ffffff"/>
          </a:solidFill>
          <a:ln w="76320">
            <a:solidFill>
              <a:srgbClr val="969696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82400"/>
                </a:solidFill>
                <a:latin typeface="Times New Roman"/>
              </a:rPr>
              <a:t>5.У ДЕТЕЙ ФОРМИРУЮТСЯ ПРЕДСТАВЛЕНИЯ ОБ ИЗМЕНЧИВОСТИ ПРИРОДЫ</a:t>
            </a:r>
            <a:endParaRPr b="0" i="1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7236000" y="4350600"/>
            <a:ext cx="917280" cy="195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55280" y="-360"/>
            <a:ext cx="8388360" cy="1413000"/>
          </a:xfrm>
          <a:prstGeom prst="rect">
            <a:avLst/>
          </a:prstGeom>
          <a:solidFill>
            <a:srgbClr val="ffffff"/>
          </a:solidFill>
          <a:ln w="76320">
            <a:solidFill>
              <a:srgbClr val="96969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482400"/>
                </a:solidFill>
                <a:latin typeface="Times New Roman"/>
              </a:rPr>
              <a:t>6.ОСНОВЫ ВЗАИМОДЕЙСТВИЯ ЧЕЛОВЕКА И ПРИРОДЫ</a:t>
            </a:r>
            <a:endParaRPr b="0" i="1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547280" y="3789000"/>
            <a:ext cx="6913800" cy="81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природе не бывает растений и животных вредных и полезных: они все природе нужн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1476360" y="2133720"/>
            <a:ext cx="69832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ЧЕЛОВЕК-всего лишь звено в цепочке Природ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42560" y="477360"/>
            <a:ext cx="7845480" cy="57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482400"/>
                </a:solidFill>
                <a:latin typeface="Times New Roman"/>
              </a:rPr>
              <a:t>ТЕХНОЛОГИЯ «ДОБРО ПОЖАЛОВАТЬ В ЭКОЛОГИЮ»</a:t>
            </a:r>
            <a:endParaRPr b="0" i="1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2" name="Oval 6"/>
          <p:cNvSpPr/>
          <p:nvPr/>
        </p:nvSpPr>
        <p:spPr>
          <a:xfrm>
            <a:off x="1187280" y="1268280"/>
            <a:ext cx="7488360" cy="496908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10920" y="404280"/>
            <a:ext cx="8064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82400"/>
                </a:solidFill>
                <a:latin typeface="Times New Roman"/>
              </a:rPr>
              <a:t>ОРГАНИЗАЦИЯ РАБОТЫ ПО ТЕХНОЛОГИИ «ДОБРО ПОЖАЛОВАТЬ В ЭКОЛОГИЮ»</a:t>
            </a:r>
            <a:endParaRPr b="0" i="1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76360" y="2205000"/>
            <a:ext cx="691200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хнология представлена в виде перспективного плана работы на каждый месяц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держание плана построено в трёх блоках педагогического процесса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рганизованное обучение в форме занят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вместная деятельность взрослого с деть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вободная самостоятельная деятельность детей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1T17:15:05Z</dcterms:created>
  <dc:creator>Воронкевич И.А.</dc:creator>
  <dc:description/>
  <dc:language>en-US</dc:language>
  <cp:lastModifiedBy>Галюша</cp:lastModifiedBy>
  <dcterms:modified xsi:type="dcterms:W3CDTF">2016-11-29T20:54:41Z</dcterms:modified>
  <cp:revision>45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90171049</vt:lpwstr>
  </property>
</Properties>
</file>