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A454-4824-40B5-9379-E1BA68EB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626-B6BA-49B2-B90D-E7F2875F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F8D7-9AA8-40C5-89D0-7247759A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ED9C-ECD4-44B9-8B07-48864ADA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7770-3952-4997-83E9-7ECF9B53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CC9E-6CDD-423A-ACAF-65BE5EE2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1706-F3EB-41CA-B9DB-1B33877D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5CB-87C9-43E2-9859-E9DF1682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5130-C714-4EFC-93FF-7C44F681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E8FD-4CC5-4D70-A538-B9FEEF81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C305-CE07-4A80-9EB2-5667B6EB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16E8-F823-4390-869F-78631209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F265-2BEB-46E0-9E95-A2C38B35BB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6C06-10B2-4508-AD60-41DADE6DB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здание условий в группах по реализации образовательной области «Речевое развитие» по ФГОС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готовка детей к обучению грамоте.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овременные подходы. Гризик Татьяны Ивановн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готовила воспитатель первой категор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кетова О.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вуки реч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ти уча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узнавать, различать и выделять из слов отдельные звуки, определять их позицию в слове (начало, середина и конец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анализировать особенности произнесения и звучания звука (анализ артикуляции): положение губ, зубов, языка, участие голоса, прохождение воздушной струи– знакомство с гласными и согласными, твердыми и мягкими зву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устанавливать последовательность звуков в сло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ловные обозначения при работе со зву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Волшебные звуковые бусы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тям вводится условный образ бус, построенный на следующей ассоциации:звуки, как бусинки в бусах, последовательно нанизываются и получаются слова; каждая бусинка- это отдельный звук в слове; сколько звуков в слове- столько бусин в бус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</a:rPr>
              <a:t>красный ц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ругов- бусин)- служит для обозначения гласных зву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иний цвет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ужит для обозначения согласных (твердых) зву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Зеленый цвет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ужит для обозначения согласных (мягких) зву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:  Л     И     С     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211640" y="5661000"/>
            <a:ext cx="457200" cy="457200"/>
          </a:xfrm>
          <a:prstGeom prst="flowChartConnector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566100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5661000"/>
            <a:ext cx="457200" cy="45720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566100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з бук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ква- знак (образ) звука или зву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ква демонстрируется детям в виде заглавной и строчной (большой и маленькой), черного цв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а    Бб    Вв   Гг   Д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етском саду детей знакомят с буквами печатного шриф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браз бу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зучение буквы предполагает восприятие и запоминание её целостного обр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ети закрепляют образы букв, упражняются в их узнавании через выбор буквы из цепочки букв разной величины, цвета, материала; украшают буквы, раскрашивают, вырезают их из различных печатных источников и т.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ети ищут образы знакомых букв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 «Зашифрованных рисунках»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что позволяет им дифференцировать  схожие по изображению букв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Особое внимани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уделяется умениям детей соотносить буквы с соответствующим звук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идактические игры  на закрепление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браза бук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оя азбу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: упражнять детей в умение соотносить звук с образом бук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лиса,лес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шахматы, шашка, шап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лнце, сушка, сердце и т.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одготовка к обучению письм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дготовка к обучению письму включает в себ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Подготовки руки к пись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Аналитико- синтетическую дея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Подготовка к технике пись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Формирование элементарных графических ум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ервоначальное чт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 введением согласных звуков и букв детям дается практическое представление об основном механизме чтения слогов- позиционном чтение, то есть путем упражнений дошкольники учатся ориентироваться на гласную в слоге при его чтении. Они определяют, как читать впереди стоящую согласную(твердо или мягк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пример: мал – мял, лук- лю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ложение. Сл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одержание обучения грамоте включено первоначальное ознакомление с предложением и словом. Сюда входи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ставление нераспространенных и распространенных предлож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вильное и отчетливое их произнес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 слышать отдельные предложения в потоке реч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ленение предложений на слова, последовательное выделение их из предлож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ение количества слов в предлож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методике детям даются первоначальные представления о слоге и ударе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хемы предло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ложение выделяется обозначается прямоугольником (полоской бумаг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дельные слова обозначаются короткими линиями, которые вписываются в прямоуголь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ма  мыла  ра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2637000"/>
            <a:ext cx="3456000" cy="43164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4221000"/>
            <a:ext cx="3311640" cy="360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    ----------  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ло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я в словах слоги, дети разделяют линии – слова вертикальными штрихами. Ударный слог обозначается маленькой черточкой (поставленный над слогом или  над соответствующей гласно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: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        ши      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3348000" y="371628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1164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0048400">
            <a:off x="3203640" y="3216240"/>
            <a:ext cx="457200" cy="45252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3213000"/>
            <a:ext cx="457200" cy="45720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84720" y="3213000"/>
            <a:ext cx="457200" cy="45720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3213000"/>
            <a:ext cx="457200" cy="45720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08720" y="3213000"/>
            <a:ext cx="457200" cy="45720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068800">
            <a:off x="6060600" y="3208320"/>
            <a:ext cx="432000" cy="45252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ГОС Д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евое развитие включ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владение речью как средством общения и куль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обогащение активного словар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азвитие связной, грамматически правильной диалогической и монологической реч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азвитие речевого творч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развитие звуковой и интонационной культуры речи, фонематического слух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знакомство с книжной культурой, детской литературой, понимание на слух текстов различных жанров детской литера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 формирование звуковой аналитико- синтетической активности как предпосылки обучения грам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433C-B9D0-4E31-9ECD-1F6500EB48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46E0-956F-4ABF-AEE7-4B3271141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ка к обучению пись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Письмо- сложный навык и  в полном объёме не доступен ребенку- дошкольни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этому в детском саду  проводиться целенаправленная работа по подготовке к обучению пись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ка к обучению письму включает в себ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ки руки к пись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тико- синтетическую дея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ку к технике пись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элементарных графических ум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дготовка руки к письм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ключает в себ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мелкой моторики осуществляется на занятии и в основном в свободной деятельности де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ироко используются пальчиковые игры (3-4 раза вдень), ручной тру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алитико- синтетическую дея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е с буквами предшествуют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игровые упражне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умение проводить анализ и синтез графических условных  изображений предме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ку к технике письм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ключает в себ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пространственной ориентиров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исание «горизонтальных» линий с лева направо и «вертикальных» линий сверху вни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чувства ритма в упражнениях на слух и в практических заданиях типа «бордю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2"/>
          <p:cNvPicPr/>
          <p:nvPr/>
        </p:nvPicPr>
        <p:blipFill>
          <a:blip r:embed="rId2"/>
          <a:stretch/>
        </p:blipFill>
        <p:spPr>
          <a:xfrm>
            <a:off x="1820880" y="1600200"/>
            <a:ext cx="5500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м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мот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ка к обучению грамо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сьм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ость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еличайшее изобретение человечества, которое помогает ему сохранить наиболее ценное, что создано им, и передавать другим поколениям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еспечивает общение с культурой своего и других народ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этому освоение письменности, то есть сознательное владение родным языком, -всегда считалось одним из важнейших средств развития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е основных понят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Грамо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это овладение умением читать и писать тексты, излагать свои мысли в письменной форме, понимать при чтении не только значение отдельных слов и предложений, но и смысл текста, то есть овладение письменной реч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Грамотнос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это определённая степень владения человеком навыками и умениями чтения и письма в соответствии с нормами родного (изучаемого) языка, один из базовых показателей социально-культурного развития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дготовка к обучению грамо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ап в процессе непосредственного обучения чтению и пись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апы обучения грамо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эта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уквеный (подготовка к обучению грамот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работа со звуками, слогами, словами, предложениям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этап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сные звуки и буквы (6 или 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эта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согласные звуки или буквы (+4 гласных), формирование механизма чт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сылки к обучению грамо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зиологические предпосы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уровень развития головного мозга и рук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сихологические предпосы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уровень сформированности психических процес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дагогические предпосы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степень педагогически грамотного содействия развитию устной реч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товность к обучению грамо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Готовность ребенка к обучению грамоте складывается  из многих составляющи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развитый речевой слух (который лежит в основе профилактики дисграфии и дислекс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четкая артикуляция звуков родного языка (что обеспечивает правильное проговарива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ние зрительных образов букв и умение соотносить звук с букв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работка гибкости и точности движения рук, глазомера, чувства ритма (что особенно важно для овладения письмом) и п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учение дошкольников чтени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ое содержание  обучения детей чтению представлено следующими направлениями рабо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. Звуки ре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. Образ бук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. Первоначальное чт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.Предложение. Сло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09:41:06Z</dcterms:created>
  <dc:creator>user</dc:creator>
  <dc:description>http://aida.ucoz.ru</dc:description>
  <dc:language>en-US</dc:language>
  <cp:lastModifiedBy>user</cp:lastModifiedBy>
  <dcterms:modified xsi:type="dcterms:W3CDTF">2015-02-03T09:32:14Z</dcterms:modified>
  <cp:revision>11</cp:revision>
  <dc:subject/>
  <dc:title>Создание условий в группах по реализации образовательной области «Речевое развитие» по ФГОС. Подготовка к обучению грамоте.</dc:title>
</cp:coreProperties>
</file>