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A34C-4E81-4358-8131-9232E6B9E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820D-3118-4522-B754-14C7E7DE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5DEA-E401-4A6A-8DA8-6CCA661C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BFD1-2617-4491-A889-4AF063322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4F9D-FAB1-415C-A45E-04C36104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96F5-5AE4-4C20-940F-C47F88A9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3F55-001F-4057-BD07-7457E69A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4550-F3D3-4C44-A86A-F495A642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E840-0F05-4BFA-B93E-285564BE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5C2F-D32E-4D70-97DF-003F587A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397E-8D97-46C0-B9E0-373A1C7F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D23D-DD97-4DA2-9AA0-20A0FBEE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6C2B-F267-46D0-B2B8-7A961F96B8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86B5-CAD6-4CE8-8C2A-DA30E86009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31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здание условий в группах по реализации образовательной области «Речевое развитие» по ФГОС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готовка детей к обучению грамоте.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Современные подходы. Гризик Татьяны Ивановн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готовила воспитатель первой категори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кетова О.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вуки реч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ти уча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узнавать, различать и выделять из слов отдельные звуки, определять их позицию в слове (начало, середина и конец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анализировать особенности произнесения и звучания звука (анализ артикуляции): положение губ, зубов, языка, участие голоса, прохождение воздушной струи– знакомство с гласными и согласными, твердыми и мягкими звук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устанавливать последовательность звуков в сло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ловные обозначения при работе со звук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Волшебные звуковые бусы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етям вводится условный образ бус, построенный на следующей ассоциации:звуки, как бусинки в бусах, последовательно нанизываются и получаются слова; каждая бусинка- это отдельный звук в слове; сколько звуков в слове- столько бусин в бус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Arial"/>
              </a:rPr>
              <a:t>красный цв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ругов- бусин)- служит для обозначения гласных зву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иний цвет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ужит для обозначения согласных (твердых) зву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Зеленый цвет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лужит для обозначения согласных (мягких) зву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:  Л     И     С     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4211640" y="5661000"/>
            <a:ext cx="457200" cy="457200"/>
          </a:xfrm>
          <a:prstGeom prst="flowChartConnector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16360" y="566100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92720" y="5661000"/>
            <a:ext cx="457200" cy="45720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566100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з бук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ква- знак (образ) звука или зву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ква демонстрируется детям в виде заглавной и строчной (большой и маленькой), черного цв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а    Бб    Вв   Гг   Д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етском саду детей знакомят с буквами печатного шриф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браз букв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зучение буквы предполагает восприятие и запоминание её целостного обра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ети закрепляют образы букв, упражняются в их узнавании через выбор буквы из цепочки букв разной величины, цвета, материала; украшают буквы, раскрашивают, вырезают их из различных печатных источников и т.п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ети ищут образы знакомых букв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в «Зашифрованных рисунках»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что позволяет им дифференцировать  схожие по изображению букв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Особое внимани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уделяется умениям детей соотносить буквы с соответствующим звук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идактические игры  на закрепление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браза букв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Моя азбу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ль: упражнять детей в умение соотносить звук с образом букв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лиса,лес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шахматы, шашка, шап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олнце, сушка, сердце и т.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Подготовка к обучению письм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дготовка к обучению письму включает в себ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Подготовки руки к пись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Аналитико- синтетическую деяте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Подготовка к технике пись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Формирование элементарных графических ум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ервоначальное чт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 введением согласных звуков и букв детям дается практическое представление об основном механизме чтения слогов- позиционном чтение, то есть путем упражнений дошкольники учатся ориентироваться на гласную в слоге при его чтении. Они определяют, как читать впереди стоящую согласную(твердо или мягк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пример: мал – мял, лук- лю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ложение. Сло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одержание обучения грамоте включено первоначальное ознакомление с предложением и словом. Сюда входи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ставление нераспространенных и распространенных предлож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авильное и отчетливое их произнес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ение слышать отдельные предложения в потоке реч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ленение предложений на слова, последовательное выделение их из предлож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ение количества слов в предлож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 методике детям даются первоначальные представления о слоге и ударен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хемы предлож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ложение выделяется обозначается прямоугольником (полоской бумаг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дельные слова обозначаются короткими линиями, которые вписываются в прямоугольн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ма  мыла  ра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2637000"/>
            <a:ext cx="3456000" cy="43164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68360" y="4221000"/>
            <a:ext cx="3311640" cy="360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    ----------  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лог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яя в словах слоги, дети разделяют линии – слова вертикальными штрихами. Ударный слог обозначается маленькой черточкой (поставленный над слогом или  над соответствующей гласно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: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        ши      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3348000" y="371628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11640" y="35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35640" y="35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0048400">
            <a:off x="3203640" y="3216240"/>
            <a:ext cx="457200" cy="45252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08360" y="3213000"/>
            <a:ext cx="457200" cy="45720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84720" y="3213000"/>
            <a:ext cx="457200" cy="45720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59280" y="3213000"/>
            <a:ext cx="457200" cy="45720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08720" y="3213000"/>
            <a:ext cx="457200" cy="45720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068800">
            <a:off x="6060600" y="3208320"/>
            <a:ext cx="432000" cy="45252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ГОС Д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чевое развитие включ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владение речью как средством общения и куль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обогащение активного словар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развитие связной, грамматически правильной диалогической и монологической реч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развитие речевого творче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развитие звуковой и интонационной культуры речи, фонематического слух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знакомство с книжной культурой, детской литературой, понимание на слух текстов различных жанров детской литера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 формирование звуковой аналитико- синтетической активности как предпосылки обучения грам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6B29-F288-4164-AB18-B8A86563A2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6CCF-7C92-440B-BF80-4A671867E1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ка к обучению пись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Письмо- сложный навык и  в полном объёме не доступен ребенку- дошкольни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этому в детском саду  проводиться целенаправленная работа по подготовке к обучению пись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готовка к обучению письму включает в себ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готовки руки к пись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литико- синтетическую деяте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готовку к технике пись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ирование элементарных графических ум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дготовка руки к письм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ключает в себ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мелкой моторики осуществляется на занятии и в основном в свободной деятельности де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ироко используются пальчиковые игры (3-4 раза вдень), ручной тру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алитико- синтетическую деяте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е с буквами предшествуют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игровые упражнен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умение проводить анализ и синтез графических условных  изображений предме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ку к технике письм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ключает в себ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пространственной ориентиров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исание «горизонтальных» линий с лева направо и «вертикальных» линий сверху вни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чувства ритма в упражнениях на слух и в практических заданиях типа «бордюр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2"/>
          <p:cNvPicPr/>
          <p:nvPr/>
        </p:nvPicPr>
        <p:blipFill>
          <a:blip r:embed="rId2"/>
          <a:stretch/>
        </p:blipFill>
        <p:spPr>
          <a:xfrm>
            <a:off x="1820880" y="1600200"/>
            <a:ext cx="5500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м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мот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ка к обучению грамо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исьмен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сьменность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еличайшее изобретение человечества, которое помогает ему сохранить наиболее ценное, что создано им, и передавать другим поколениям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еспечивает общение с культурой своего и других народ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этому освоение письменности, то есть сознательное владение родным языком, -всегда считалось одним из важнейших средств развития ребе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е основных понят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Грамо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это овладение умением читать и писать тексты, излагать свои мысли в письменной форме, понимать при чтении не только значение отдельных слов и предложений, но и смысл текста, то есть овладение письменной речь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Грамотност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это определённая степень владения человеком навыками и умениями чтения и письма в соответствии с нормами родного (изучаемого) языка, один из базовых показателей социально-культурного развития челове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одготовка к обучению грамо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ап в процессе непосредственного обучения чтению и пись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апы обучения грамо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эта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буквеный (подготовка к обучению грамоте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работа со звуками, слогами, словами, предложениям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этап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сные звуки и буквы (6 или 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эта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согласные звуки или буквы (+4 гласных), формирование механизма чт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сылки к обучению грамо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изиологические предпосыл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уровень развития головного мозга и рук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сихологические предпосыл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уровень сформированности психических процесс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дагогические предпосыл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степень педагогически грамотного содействия развитию устной реч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товность к обучению грамо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Готовность ребенка к обучению грамоте складывается  из многих составляющих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развитый речевой слух (который лежит в основе профилактики дисграфии и дислекси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четкая артикуляция звуков родного языка (что обеспечивает правильное проговарива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ние зрительных образов букв и умение соотносить звук с букв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работка гибкости и точности движения рук, глазомера, чувства ритма (что особенно важно для овладения письмом) и п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бучение дошкольников чтени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новное содержание  обучения детей чтению представлено следующими направлениями рабо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. Звуки реч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. Образ букв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. Первоначальное чт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4.Предложение. Сло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09:41:06Z</dcterms:created>
  <dc:creator>user</dc:creator>
  <dc:description>http://aida.ucoz.ru</dc:description>
  <dc:language>en-US</dc:language>
  <cp:lastModifiedBy>user</cp:lastModifiedBy>
  <dcterms:modified xsi:type="dcterms:W3CDTF">2015-02-03T09:32:14Z</dcterms:modified>
  <cp:revision>11</cp:revision>
  <dc:subject/>
  <dc:title>Создание условий в группах по реализации образовательной области «Речевое развитие» по ФГОС. Подготовка к обучению грамоте.</dc:title>
</cp:coreProperties>
</file>