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2.png" ContentType="image/png"/>
  <Override PartName="/ppt/media/audio4.wav" ContentType="audio/x-wav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audio2.wav" ContentType="audio/x-wav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89C-CF88-4E00-B90E-18078D7F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FD1-122B-4DEB-AF16-3C876AA6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052-4488-43B6-884B-A13B6587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327-2CA7-4022-8570-AB643CCD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83A1-9F75-43B7-B983-919F18C5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4EF-D20A-4385-A49D-CD83E314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DAAA-D7F3-44F7-AEAA-CBCDB98D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34E2-D7A8-465F-9532-4A3D3C9B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F726-F55C-45E0-A82F-5C4E226B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3781-01A8-473F-932B-9B2A9ED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83E4-A040-4993-9595-E0D65F7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A2E-61EF-44F0-9432-CE74F942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6635-93FB-4939-AA3B-321267C2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946E-53BD-4A0F-B7E3-52F0BD1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7F3-328A-4F1A-A6E0-509ADE68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1F8D-748D-4B74-A867-88F77201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20DF-60A2-4013-B72C-597312D2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FF7F-6C79-4405-BDA6-5D8B9173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1FF3-A646-4C1B-81F3-2F9D500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BB5C-2007-41DC-9192-62F52C3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92F1-54AC-4894-8FDC-38B5FFB5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7DAF-29A0-4723-8209-1E72422C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963-BD2A-4162-87D7-73C905D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4F07-471F-4A2E-9E3A-FFF6811D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B8EF-15E0-450C-B829-874CECE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04E0-7986-4D88-BBE5-D39E6E07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A45B-2FDA-4143-A605-61E9DA65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B980-9696-487A-B45D-68B8649B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B3F3-6BCA-4804-B812-D289C982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F081-E074-4C46-860B-BEA544F0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F1D2-2250-47DC-A166-9FFC2D97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486C7-1F95-4AED-933E-B2AE89BE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07F9-7672-4418-98AA-AEE88E1B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24F-D0DB-49BD-8FF7-CCDEF75D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12C6-4471-4018-AA14-DDD68BB0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BB0F-EF0D-4B64-AD16-10173E1C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B32F-DAEE-4327-B2F6-0C1F6FD2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11A5-BC07-43B6-9C2E-B9D8E073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97FB-D286-4C74-B532-0FB506E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C534-0DED-41C9-86F0-05D2D51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1D5FD-59F1-4970-9A9B-C98F9227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2646-6F05-40A1-9CE9-E2666D91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6C6B-478F-400B-8398-8D855B99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971-9C21-4889-8601-B2C17DBF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DB7-F9F2-41DD-8FB5-1DD29028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3E5-09BB-4115-846D-7A04DD2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5AC-86DD-4AF7-AA58-8A79D64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B38-DA38-4E54-B623-F152ADB8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>
                <a:alpha val="40000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Скругленный прямоугольник 7"/>
          <p:cNvSpPr/>
          <p:nvPr/>
        </p:nvSpPr>
        <p:spPr>
          <a:xfrm>
            <a:off x="63360" y="69840"/>
            <a:ext cx="9013320" cy="669240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Прямоугольник 3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Скругленный прямоугольник 4"/>
          <p:cNvSpPr/>
          <p:nvPr/>
        </p:nvSpPr>
        <p:spPr>
          <a:xfrm>
            <a:off x="65160" y="69840"/>
            <a:ext cx="9013320" cy="669096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Прямоугольник 5"/>
          <p:cNvSpPr/>
          <p:nvPr/>
        </p:nvSpPr>
        <p:spPr>
          <a:xfrm>
            <a:off x="63360" y="1449360"/>
            <a:ext cx="9019800" cy="15267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63360" y="1397160"/>
            <a:ext cx="901980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6" name="Прямоугольник 9"/>
          <p:cNvSpPr/>
          <p:nvPr/>
        </p:nvSpPr>
        <p:spPr>
          <a:xfrm>
            <a:off x="63360" y="2976480"/>
            <a:ext cx="9019800" cy="11088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E6530D-5688-477A-977A-8404022979C7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>
                <a:alpha val="40000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Скругленный прямоугольник 7"/>
          <p:cNvSpPr/>
          <p:nvPr/>
        </p:nvSpPr>
        <p:spPr>
          <a:xfrm>
            <a:off x="63360" y="69840"/>
            <a:ext cx="9013320" cy="669240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646b86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ccb4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4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DDD8EC-A289-4E2D-931B-B94706C3F91D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>
                <a:alpha val="40000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92" name="Скругленный прямоугольник 7"/>
          <p:cNvSpPr/>
          <p:nvPr/>
        </p:nvSpPr>
        <p:spPr>
          <a:xfrm>
            <a:off x="63360" y="69840"/>
            <a:ext cx="9013320" cy="669240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ccb400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10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4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CD7F8D-87F9-4F30-9BA9-305D15245C1F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>
                <a:alpha val="40000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35" name="Скругленный прямоугольник 7"/>
          <p:cNvSpPr/>
          <p:nvPr/>
        </p:nvSpPr>
        <p:spPr>
          <a:xfrm>
            <a:off x="63360" y="69840"/>
            <a:ext cx="9013320" cy="669240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52764B0-8D83-44D1-A114-8D868E83A33A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in/&#1058;&#1088;&#1072;&#1085;&#1089;&#1092;&#1086;&#1088;&#1084;&#1072;&#1090;&#1086;&#1088;.avi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" Target="slide4.xml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audio2.wav"/><Relationship Id="rId3" Type="http://schemas.openxmlformats.org/officeDocument/2006/relationships/audio" Target="../media/audio2.wav"/><Relationship Id="rId4" Type="http://schemas.openxmlformats.org/officeDocument/2006/relationships/audio" Target="../media/audio2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udio4.wav"/><Relationship Id="rId2" Type="http://schemas.openxmlformats.org/officeDocument/2006/relationships/audio" Target="../media/audio4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776640" cy="15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</a:tabLst>
            </a:pPr>
            <a:r>
              <a:rPr b="0" lang="ru-RU" sz="2600" spc="-1" strike="noStrike">
                <a:solidFill>
                  <a:srgbClr val="646b86"/>
                </a:solidFill>
                <a:latin typeface="Perpetua"/>
              </a:rPr>
              <a:t>Выполнил: обуч – ся гр. 2 Св Курлышев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</a:tabLst>
            </a:pPr>
            <a:r>
              <a:rPr b="0" lang="ru-RU" sz="2600" spc="-1" strike="noStrike">
                <a:solidFill>
                  <a:srgbClr val="646b86"/>
                </a:solidFill>
                <a:latin typeface="Perpetua"/>
              </a:rPr>
              <a:t>Преподаватель:Дмитриев А.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НОВНЫЕ СВЕДЕНИЯ ОБ ИСТОЧНИКАХ ПИТАНИ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4352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646b86"/>
                </a:solidFill>
                <a:latin typeface="Times New Roman"/>
              </a:rPr>
              <a:t>Регулирование сварочного то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6714720" cy="4026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cxnSp>
        <p:nvCxnSpPr>
          <p:cNvPr id="243" name="Прямая со стрелкой 5"/>
          <p:cNvCxnSpPr/>
          <p:nvPr/>
        </p:nvCxnSpPr>
        <p:spPr>
          <a:xfrm flipH="1">
            <a:off x="1000080" y="4786200"/>
            <a:ext cx="143280" cy="12862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4" name="Прямая со стрелкой 7"/>
          <p:cNvCxnSpPr/>
          <p:nvPr/>
        </p:nvCxnSpPr>
        <p:spPr>
          <a:xfrm flipH="1" flipV="1">
            <a:off x="714240" y="1285560"/>
            <a:ext cx="357480" cy="1000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5" name="Прямоугольник 10"/>
          <p:cNvSpPr/>
          <p:nvPr/>
        </p:nvSpPr>
        <p:spPr>
          <a:xfrm>
            <a:off x="285840" y="785880"/>
            <a:ext cx="3071520" cy="455400"/>
          </a:xfrm>
          <a:prstGeom prst="rect">
            <a:avLst/>
          </a:prstGeom>
          <a:gradFill rotWithShape="0">
            <a:gsLst>
              <a:gs pos="0">
                <a:srgbClr val="f49f94"/>
              </a:gs>
              <a:gs pos="100000">
                <a:srgbClr val="fae2df"/>
              </a:gs>
            </a:gsLst>
            <a:path path="circle">
              <a:fillToRect l="50000" t="50000" r="50000" b="50000"/>
            </a:path>
          </a:gradFill>
          <a:ln w="0">
            <a:noFill/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ая обмо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1"/>
          <p:cNvSpPr/>
          <p:nvPr/>
        </p:nvSpPr>
        <p:spPr>
          <a:xfrm>
            <a:off x="500040" y="6215040"/>
            <a:ext cx="3071520" cy="455400"/>
          </a:xfrm>
          <a:prstGeom prst="rect">
            <a:avLst/>
          </a:prstGeom>
          <a:gradFill rotWithShape="0">
            <a:gsLst>
              <a:gs pos="0">
                <a:srgbClr val="f49f94"/>
              </a:gs>
              <a:gs pos="100000">
                <a:srgbClr val="fae2df"/>
              </a:gs>
            </a:gsLst>
            <a:path path="circle">
              <a:fillToRect l="50000" t="50000" r="50000" b="50000"/>
            </a:path>
          </a:gradFill>
          <a:ln w="0"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ая обмо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7"/>
          <p:cNvSpPr/>
          <p:nvPr/>
        </p:nvSpPr>
        <p:spPr>
          <a:xfrm>
            <a:off x="4214880" y="5429160"/>
            <a:ext cx="4714560" cy="1186920"/>
          </a:xfrm>
          <a:prstGeom prst="rect">
            <a:avLst/>
          </a:prstGeom>
          <a:gradFill rotWithShape="0">
            <a:gsLst>
              <a:gs pos="0">
                <a:srgbClr val="f49f94"/>
              </a:gs>
              <a:gs pos="100000">
                <a:srgbClr val="fae2df"/>
              </a:gs>
            </a:gsLst>
            <a:path path="circle">
              <a:fillToRect l="50000" t="50000" r="50000" b="50000"/>
            </a:path>
          </a:gradFill>
          <a:ln w="38100">
            <a:solidFill>
              <a:srgbClr val="000000"/>
            </a:solidFill>
            <a:round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р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меньше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зора  между обмоткам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пряж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цеп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да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ок раст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4429080" y="714240"/>
            <a:ext cx="4500360" cy="1552680"/>
          </a:xfrm>
          <a:prstGeom prst="rect">
            <a:avLst/>
          </a:prstGeom>
          <a:gradFill rotWithShape="0">
            <a:gsLst>
              <a:gs pos="0">
                <a:srgbClr val="f49f94"/>
              </a:gs>
              <a:gs pos="100000">
                <a:srgbClr val="fae2df"/>
              </a:gs>
            </a:gsLst>
            <a:path path="circle">
              <a:fillToRect l="50000" t="50000" r="50000" b="50000"/>
            </a:path>
          </a:gradFill>
          <a:ln w="38100"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р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величе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зора  между обмоткам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пряж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цеп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ст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меньша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8"/>
          <p:cNvSpPr/>
          <p:nvPr/>
        </p:nvSpPr>
        <p:spPr>
          <a:xfrm>
            <a:off x="0" y="3286080"/>
            <a:ext cx="1713960" cy="439920"/>
          </a:xfrm>
          <a:prstGeom prst="rect">
            <a:avLst/>
          </a:prstGeom>
          <a:gradFill rotWithShape="0">
            <a:gsLst>
              <a:gs pos="0">
                <a:srgbClr val="f49f94"/>
              </a:gs>
              <a:gs pos="100000">
                <a:srgbClr val="fae2df"/>
              </a:gs>
            </a:gsLst>
            <a:path path="circle">
              <a:fillToRect l="50000" t="50000" r="50000" b="50000"/>
            </a:path>
          </a:gradFill>
          <a:ln w="0">
            <a:noFill/>
          </a:ln>
          <a:effectLst>
            <a:outerShdw algn="bl" blurRad="50760" dir="189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ердечни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Прямая со стрелкой 25"/>
          <p:cNvCxnSpPr/>
          <p:nvPr/>
        </p:nvCxnSpPr>
        <p:spPr>
          <a:xfrm flipV="1">
            <a:off x="5429160" y="2357280"/>
            <a:ext cx="428760" cy="14292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51" name="Прямая со стрелкой 27"/>
          <p:cNvCxnSpPr/>
          <p:nvPr/>
        </p:nvCxnSpPr>
        <p:spPr>
          <a:xfrm flipH="1">
            <a:off x="5643360" y="4071600"/>
            <a:ext cx="643320" cy="135792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252" name="AutoShape 24">
            <a:hlinkClick r:id="rId2"/>
          </p:cNvPr>
          <p:cNvSpPr/>
          <p:nvPr/>
        </p:nvSpPr>
        <p:spPr>
          <a:xfrm>
            <a:off x="8317080" y="3645000"/>
            <a:ext cx="576000" cy="537840"/>
          </a:xfrm>
          <a:prstGeom prst="actionButtonMovi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1869840" cy="3001680"/>
          </a:xfrm>
          <a:prstGeom prst="rect">
            <a:avLst/>
          </a:prstGeom>
          <a:ln w="9525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2144520" cy="2533320"/>
          </a:xfrm>
          <a:prstGeom prst="rect">
            <a:avLst/>
          </a:prstGeom>
          <a:ln w="9525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285840" y="4429080"/>
            <a:ext cx="3493800" cy="2147400"/>
          </a:xfrm>
          <a:prstGeom prst="rect">
            <a:avLst/>
          </a:prstGeom>
          <a:ln w="9525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4"/>
          <a:stretch/>
        </p:blipFill>
        <p:spPr>
          <a:xfrm>
            <a:off x="6072120" y="214200"/>
            <a:ext cx="2819160" cy="2239560"/>
          </a:xfrm>
          <a:prstGeom prst="rect">
            <a:avLst/>
          </a:prstGeom>
          <a:ln w="9525">
            <a:noFill/>
          </a:ln>
        </p:spPr>
      </p:pic>
      <p:sp>
        <p:nvSpPr>
          <p:cNvPr id="257" name="Заголовок 1"/>
          <p:cNvSpPr/>
          <p:nvPr/>
        </p:nvSpPr>
        <p:spPr>
          <a:xfrm>
            <a:off x="3214800" y="2857680"/>
            <a:ext cx="235692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9"/>
          <p:cNvCxnSpPr/>
          <p:nvPr/>
        </p:nvCxnSpPr>
        <p:spPr>
          <a:xfrm flipH="1" flipV="1">
            <a:off x="2428560" y="1928520"/>
            <a:ext cx="1500840" cy="10004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59" name="Прямая со стрелкой 11"/>
          <p:cNvCxnSpPr/>
          <p:nvPr/>
        </p:nvCxnSpPr>
        <p:spPr>
          <a:xfrm flipV="1">
            <a:off x="4929120" y="1785600"/>
            <a:ext cx="928800" cy="10720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60" name="Прямая со стрелкой 13"/>
          <p:cNvCxnSpPr/>
          <p:nvPr/>
        </p:nvCxnSpPr>
        <p:spPr>
          <a:xfrm>
            <a:off x="4857480" y="3500280"/>
            <a:ext cx="1572120" cy="14292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61" name="Прямая со стрелкой 15"/>
          <p:cNvCxnSpPr/>
          <p:nvPr/>
        </p:nvCxnSpPr>
        <p:spPr>
          <a:xfrm flipH="1">
            <a:off x="2571480" y="3500280"/>
            <a:ext cx="1072080" cy="85752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262" name="AutoShape 12">
            <a:hlinkClick r:id="rId5" action="ppaction://hlinksldjump"/>
          </p:cNvPr>
          <p:cNvSpPr/>
          <p:nvPr/>
        </p:nvSpPr>
        <p:spPr>
          <a:xfrm>
            <a:off x="8388360" y="6093000"/>
            <a:ext cx="502920" cy="49320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43040" y="3000240"/>
            <a:ext cx="564336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571760" y="214200"/>
            <a:ext cx="2214360" cy="2765160"/>
          </a:xfrm>
          <a:prstGeom prst="rect">
            <a:avLst/>
          </a:prstGeom>
          <a:ln w="9525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1214280" y="4000680"/>
            <a:ext cx="2499840" cy="2499840"/>
          </a:xfrm>
          <a:prstGeom prst="rect">
            <a:avLst/>
          </a:prstGeom>
          <a:ln w="9525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3"/>
          <a:stretch/>
        </p:blipFill>
        <p:spPr>
          <a:xfrm>
            <a:off x="5429160" y="187200"/>
            <a:ext cx="2214360" cy="270324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4"/>
          <a:stretch/>
        </p:blipFill>
        <p:spPr>
          <a:xfrm>
            <a:off x="5143680" y="3929040"/>
            <a:ext cx="2619000" cy="2428560"/>
          </a:xfrm>
          <a:prstGeom prst="rect">
            <a:avLst/>
          </a:prstGeom>
          <a:ln w="9525">
            <a:noFill/>
          </a:ln>
        </p:spPr>
      </p:pic>
      <p:sp>
        <p:nvSpPr>
          <p:cNvPr id="268" name="AutoShape 8">
            <a:hlinkClick r:id="rId5" action="ppaction://hlinksldjump"/>
          </p:cNvPr>
          <p:cNvSpPr/>
          <p:nvPr/>
        </p:nvSpPr>
        <p:spPr>
          <a:xfrm>
            <a:off x="8317080" y="6021360"/>
            <a:ext cx="504360" cy="54900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880" y="3000240"/>
            <a:ext cx="7772040" cy="84564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П ПОСТОЯННОГО ТО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5564160" y="214200"/>
            <a:ext cx="3327120" cy="2642760"/>
          </a:xfrm>
          <a:prstGeom prst="rect">
            <a:avLst/>
          </a:prstGeom>
          <a:ln w="9525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2786040" y="4071960"/>
            <a:ext cx="3493800" cy="2147400"/>
          </a:xfrm>
          <a:prstGeom prst="rect">
            <a:avLst/>
          </a:prstGeom>
          <a:ln w="9525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3"/>
          <a:stretch/>
        </p:blipFill>
        <p:spPr>
          <a:xfrm>
            <a:off x="642960" y="214200"/>
            <a:ext cx="3071520" cy="2641320"/>
          </a:xfrm>
          <a:prstGeom prst="rect">
            <a:avLst/>
          </a:prstGeom>
          <a:ln w="9525">
            <a:noFill/>
          </a:ln>
        </p:spPr>
      </p:pic>
      <p:sp>
        <p:nvSpPr>
          <p:cNvPr id="273" name="AutoShape 7">
            <a:hlinkClick r:id="rId4" action="ppaction://hlinksldjump"/>
          </p:cNvPr>
          <p:cNvSpPr/>
          <p:nvPr/>
        </p:nvSpPr>
        <p:spPr>
          <a:xfrm>
            <a:off x="8317080" y="6093000"/>
            <a:ext cx="431280" cy="46620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15120" cy="127440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Б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СТОЧНИКАХ ПИТАНИ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7120" y="1447920"/>
            <a:ext cx="8572320" cy="519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 пит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образует высокое напряжение сети в низкое напряжение сварочной цепи.</a:t>
            </a:r>
            <a:endParaRPr b="0" lang="ru-RU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ческие показатели источников питания:</a:t>
            </a:r>
            <a:endParaRPr b="0" lang="ru-RU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Franklin Gothic Book"/>
              <a:buAutoNum type="arabicPeriod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ешняя характеристика</a:t>
            </a:r>
            <a:endParaRPr b="0" lang="ru-RU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Franklin Gothic Book"/>
              <a:buAutoNum type="arabicPeriod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елы регулирования сварочного тока</a:t>
            </a:r>
            <a:endParaRPr b="0" lang="ru-RU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Franklin Gothic Book"/>
              <a:buAutoNum type="arabicPeriod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яжение холостого хода</a:t>
            </a:r>
            <a:endParaRPr b="0" lang="ru-RU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Franklin Gothic Book"/>
              <a:buAutoNum type="arabicPeriod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инальный сварочный ток и напряжение</a:t>
            </a:r>
            <a:endParaRPr b="0" lang="ru-RU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4-конечная звезда 3">
            <a:hlinkClick r:id="rId1" action="ppaction://hlinksldjump"/>
          </p:cNvPr>
          <p:cNvSpPr/>
          <p:nvPr/>
        </p:nvSpPr>
        <p:spPr>
          <a:xfrm>
            <a:off x="3571920" y="2643120"/>
            <a:ext cx="428400" cy="356760"/>
          </a:xfrm>
          <a:prstGeom prst="star4">
            <a:avLst>
              <a:gd name="adj" fmla="val 125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14400" y="428760"/>
            <a:ext cx="7772040" cy="6000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апряжение холостого хода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</a:rPr>
              <a:t>Х.Х.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напряжение на выходных клеммах при разомкнутой сварочной цепи (не более 80-90 В).</a:t>
            </a:r>
            <a:endParaRPr b="0" lang="ru-RU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оминальный сварочный ток и напряжение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НОМ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Н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ток и напряжение, на которые рассчитан нормально работающий источник питания.</a:t>
            </a:r>
            <a:endParaRPr b="0" lang="ru-RU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2940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ИСТОЧНИКОВ ПИТАНИЯ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точники питания переменного тока (трансформаторы)</a:t>
            </a:r>
            <a:endParaRPr b="0" lang="ru-RU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точники постоянного тока (выпрямители и инверторные источники питания)</a:t>
            </a:r>
            <a:endParaRPr b="0" lang="ru-RU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ятно 1 3">
            <a:hlinkClick r:id="rId1" action="ppaction://hlinksldjump"/>
          </p:cNvPr>
          <p:cNvSpPr/>
          <p:nvPr/>
        </p:nvSpPr>
        <p:spPr>
          <a:xfrm>
            <a:off x="6000840" y="2143080"/>
            <a:ext cx="485280" cy="499680"/>
          </a:xfrm>
          <a:prstGeom prst="irregularSeal1">
            <a:avLst/>
          </a:prstGeom>
          <a:solidFill>
            <a:schemeClr val="bg2"/>
          </a:solidFill>
          <a:ln w="1270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86" name="Пятно 1 4">
            <a:hlinkClick r:id="rId2" action="ppaction://hlinksldjump"/>
          </p:cNvPr>
          <p:cNvSpPr/>
          <p:nvPr/>
        </p:nvSpPr>
        <p:spPr>
          <a:xfrm>
            <a:off x="5429160" y="5214960"/>
            <a:ext cx="414000" cy="356760"/>
          </a:xfrm>
          <a:prstGeom prst="irregularSeal1">
            <a:avLst/>
          </a:prstGeom>
          <a:solidFill>
            <a:schemeClr val="bg2"/>
          </a:solidFill>
          <a:ln w="1270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Group 27"/>
          <p:cNvGraphicFramePr/>
          <p:nvPr/>
        </p:nvGraphicFramePr>
        <p:xfrm>
          <a:off x="500040" y="1214280"/>
          <a:ext cx="8229240" cy="4978800"/>
        </p:xfrm>
        <a:graphic>
          <a:graphicData uri="http://schemas.openxmlformats.org/drawingml/2006/table">
            <a:tbl>
              <a:tblPr/>
              <a:tblGrid>
                <a:gridCol w="2928600"/>
                <a:gridCol w="5300640"/>
              </a:tblGrid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ип источника пит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</a:t>
                      </a: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– трансформато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- выпрямите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ид свар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</a:t>
                      </a: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– дуговая свар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пособ сварки (отсутствует для РДС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У</a:t>
                      </a: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- универсальны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ополнительная информ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ля трансформаторов: </a:t>
                      </a:r>
                      <a:r>
                        <a:rPr b="1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– механическое регулиро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ля выпрямителей: </a:t>
                      </a:r>
                      <a:r>
                        <a:rPr b="1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</a:t>
                      </a: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– многопостовой источ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– инверт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1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– для импульсной свар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оминальный сварочный то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9"/>
                        </a:spcBef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ире и две цифры (умножать на 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16349"/>
                      </a:solidFill>
                    </a:lnL>
                    <a:lnR w="12240">
                      <a:solidFill>
                        <a:srgbClr val="d16349"/>
                      </a:solidFill>
                    </a:lnR>
                    <a:lnT w="12240">
                      <a:solidFill>
                        <a:srgbClr val="d16349"/>
                      </a:solidFill>
                    </a:lnT>
                    <a:lnB w="12240">
                      <a:solidFill>
                        <a:srgbClr val="d16349"/>
                      </a:solidFill>
                    </a:lnB>
                    <a:solidFill>
                      <a:srgbClr val="f6eae8"/>
                    </a:solidFill>
                  </a:tcPr>
                </a:tc>
              </a:tr>
            </a:tbl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ЗНАЧЕНИ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ТОЧНИКОВ ПИТАНИЯ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Р ОБОЗНАЧЕНИЯ ИСТОЧНИКОВ ПИТАНИЯ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3286080" y="1714680"/>
            <a:ext cx="2928600" cy="713880"/>
          </a:xfrm>
          <a:prstGeom prst="rect">
            <a:avLst/>
          </a:prstGeom>
          <a:blipFill rotWithShape="0">
            <a:blip r:embed="rId1"/>
            <a:srcRect/>
            <a:tile tx="0" ty="0" sx="69858" sy="68571" algn="ctr"/>
          </a:blipFill>
          <a:ln>
            <a:solidFill>
              <a:srgbClr val="000000"/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ДМ - 3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 стрелкой 43"/>
          <p:cNvCxnSpPr/>
          <p:nvPr/>
        </p:nvCxnSpPr>
        <p:spPr>
          <a:xfrm flipH="1">
            <a:off x="2143080" y="2214360"/>
            <a:ext cx="1428840" cy="5720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3" name="Прямая со стрелкой 45"/>
          <p:cNvCxnSpPr/>
          <p:nvPr/>
        </p:nvCxnSpPr>
        <p:spPr>
          <a:xfrm flipH="1">
            <a:off x="2428560" y="2286000"/>
            <a:ext cx="1715040" cy="1500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4" name="Прямая со стрелкой 47"/>
          <p:cNvCxnSpPr/>
          <p:nvPr/>
        </p:nvCxnSpPr>
        <p:spPr>
          <a:xfrm flipH="1">
            <a:off x="3786120" y="2286000"/>
            <a:ext cx="785880" cy="3000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5" name="Прямая со стрелкой 49"/>
          <p:cNvCxnSpPr/>
          <p:nvPr/>
        </p:nvCxnSpPr>
        <p:spPr>
          <a:xfrm>
            <a:off x="5357520" y="2357280"/>
            <a:ext cx="714960" cy="2143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6" name="Прямая со стрелкой 51"/>
          <p:cNvCxnSpPr/>
          <p:nvPr/>
        </p:nvCxnSpPr>
        <p:spPr>
          <a:xfrm>
            <a:off x="5857560" y="2071440"/>
            <a:ext cx="1286280" cy="1357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7" name="Скругленный прямоугольник 52"/>
          <p:cNvSpPr/>
          <p:nvPr/>
        </p:nvSpPr>
        <p:spPr>
          <a:xfrm>
            <a:off x="214200" y="2857680"/>
            <a:ext cx="2557080" cy="49968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 w="12700">
            <a:solidFill>
              <a:srgbClr val="646b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АНСФОР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53"/>
          <p:cNvSpPr/>
          <p:nvPr/>
        </p:nvSpPr>
        <p:spPr>
          <a:xfrm>
            <a:off x="214200" y="3857760"/>
            <a:ext cx="2214360" cy="642600"/>
          </a:xfrm>
          <a:prstGeom prst="roundRect">
            <a:avLst>
              <a:gd name="adj" fmla="val 16667"/>
            </a:avLst>
          </a:prstGeom>
          <a:solidFill>
            <a:schemeClr val="bg2"/>
          </a:solidFill>
          <a:ln w="1270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ДУГОВОЙ СВ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54"/>
          <p:cNvSpPr/>
          <p:nvPr/>
        </p:nvSpPr>
        <p:spPr>
          <a:xfrm>
            <a:off x="2714760" y="5286240"/>
            <a:ext cx="2499840" cy="5713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 w="1270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ХАНИЧЕСК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55"/>
          <p:cNvSpPr/>
          <p:nvPr/>
        </p:nvSpPr>
        <p:spPr>
          <a:xfrm>
            <a:off x="5500800" y="4572000"/>
            <a:ext cx="2356920" cy="571320"/>
          </a:xfrm>
          <a:prstGeom prst="roundRect">
            <a:avLst>
              <a:gd name="adj" fmla="val 16667"/>
            </a:avLst>
          </a:prstGeom>
          <a:solidFill>
            <a:schemeClr val="bg2"/>
          </a:solidFill>
          <a:ln w="1270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МИНАЛЬНЫЙ ТОК  310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56"/>
          <p:cNvSpPr/>
          <p:nvPr/>
        </p:nvSpPr>
        <p:spPr>
          <a:xfrm>
            <a:off x="6500880" y="3429000"/>
            <a:ext cx="2428560" cy="5713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 w="12700">
            <a:solidFill>
              <a:srgbClr val="9947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ИМАТИЧЕСКИЕ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4"/>
          <p:cNvSpPr/>
          <p:nvPr/>
        </p:nvSpPr>
        <p:spPr>
          <a:xfrm>
            <a:off x="3000240" y="2000160"/>
            <a:ext cx="2928600" cy="785520"/>
          </a:xfrm>
          <a:prstGeom prst="ellipse">
            <a:avLst/>
          </a:prstGeom>
          <a:blipFill rotWithShape="0">
            <a:blip r:embed="rId1"/>
            <a:srcRect/>
            <a:tile tx="0" ty="0" sx="69858" sy="68571" algn="ctr"/>
          </a:blipFill>
          <a:ln>
            <a:solidFill>
              <a:srgbClr val="718d6f"/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Д - 3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Прямая со стрелкой 6"/>
          <p:cNvCxnSpPr/>
          <p:nvPr/>
        </p:nvCxnSpPr>
        <p:spPr>
          <a:xfrm flipH="1">
            <a:off x="2571480" y="2500200"/>
            <a:ext cx="1000440" cy="8575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4" name="Прямая со стрелкой 8"/>
          <p:cNvCxnSpPr/>
          <p:nvPr/>
        </p:nvCxnSpPr>
        <p:spPr>
          <a:xfrm flipH="1">
            <a:off x="3071520" y="2643120"/>
            <a:ext cx="857880" cy="2214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5" name="Прямая со стрелкой 10"/>
          <p:cNvCxnSpPr/>
          <p:nvPr/>
        </p:nvCxnSpPr>
        <p:spPr>
          <a:xfrm>
            <a:off x="4786200" y="2571480"/>
            <a:ext cx="1571760" cy="2072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6" name="Прямая со стрелкой 12"/>
          <p:cNvCxnSpPr/>
          <p:nvPr/>
        </p:nvCxnSpPr>
        <p:spPr>
          <a:xfrm>
            <a:off x="5357520" y="2500200"/>
            <a:ext cx="1857960" cy="357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7" name="Блок-схема: перфолента 18"/>
          <p:cNvSpPr/>
          <p:nvPr/>
        </p:nvSpPr>
        <p:spPr>
          <a:xfrm>
            <a:off x="6000840" y="2786040"/>
            <a:ext cx="2571480" cy="999720"/>
          </a:xfrm>
          <a:prstGeom prst="flowChartPunchedTape">
            <a:avLst/>
          </a:prstGeom>
          <a:solidFill>
            <a:srgbClr val="339966"/>
          </a:solidFill>
          <a:ln w="1270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ИМАТИЧЕСКИЕ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ОБОЗНАЧЕНИЯ ИСТОЧНИКОВ ПИТА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Блок-схема: перфолента 11"/>
          <p:cNvSpPr/>
          <p:nvPr/>
        </p:nvSpPr>
        <p:spPr>
          <a:xfrm>
            <a:off x="500040" y="3357720"/>
            <a:ext cx="2571480" cy="999720"/>
          </a:xfrm>
          <a:prstGeom prst="flowChartPunchedTape">
            <a:avLst/>
          </a:prstGeom>
          <a:solidFill>
            <a:srgbClr val="339966"/>
          </a:solidFill>
          <a:ln w="1270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РЯМ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Блок-схема: перфолента 13"/>
          <p:cNvSpPr/>
          <p:nvPr/>
        </p:nvSpPr>
        <p:spPr>
          <a:xfrm>
            <a:off x="2143080" y="4714920"/>
            <a:ext cx="2571480" cy="999720"/>
          </a:xfrm>
          <a:prstGeom prst="flowChartPunchedTape">
            <a:avLst/>
          </a:prstGeom>
          <a:solidFill>
            <a:srgbClr val="339966"/>
          </a:solidFill>
          <a:ln w="1270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ДУГОВОЙ СВ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Блок-схема: перфолента 14"/>
          <p:cNvSpPr/>
          <p:nvPr/>
        </p:nvSpPr>
        <p:spPr>
          <a:xfrm>
            <a:off x="5429160" y="4429080"/>
            <a:ext cx="2571480" cy="999720"/>
          </a:xfrm>
          <a:prstGeom prst="flowChartPunchedTape">
            <a:avLst/>
          </a:prstGeom>
          <a:solidFill>
            <a:srgbClr val="339966"/>
          </a:solidFill>
          <a:ln w="1270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АРОЧНЫЙ ТОК 300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1506600"/>
            <a:ext cx="900072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ffffff"/>
                </a:solidFill>
                <a:latin typeface="Times New Roman"/>
              </a:rPr>
              <a:t>3. СВАРОЧНЫЙ ТРАНСФОРМАТОР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500120" y="1214280"/>
            <a:ext cx="4928760" cy="5283000"/>
          </a:xfrm>
          <a:prstGeom prst="rect">
            <a:avLst/>
          </a:prstGeom>
          <a:ln w="9525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узлы сварочного трансформатор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Прямоугольник 8"/>
          <p:cNvGrpSpPr/>
          <p:nvPr/>
        </p:nvGrpSpPr>
        <p:grpSpPr>
          <a:xfrm>
            <a:off x="5992920" y="1779480"/>
            <a:ext cx="2189520" cy="401040"/>
            <a:chOff x="5992920" y="1779480"/>
            <a:chExt cx="2189520" cy="401040"/>
          </a:xfrm>
        </p:grpSpPr>
        <p:pic>
          <p:nvPicPr>
            <p:cNvPr id="21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5992920" y="1779480"/>
              <a:ext cx="1955520" cy="3837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17" name="Text Box 5"/>
            <p:cNvSpPr/>
            <p:nvPr/>
          </p:nvSpPr>
          <p:spPr>
            <a:xfrm>
              <a:off x="6004800" y="1785960"/>
              <a:ext cx="2177640" cy="394560"/>
            </a:xfrm>
            <a:prstGeom prst="rec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рышка корпу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Прямоугольник 9"/>
          <p:cNvSpPr/>
          <p:nvPr/>
        </p:nvSpPr>
        <p:spPr>
          <a:xfrm>
            <a:off x="6429240" y="3929040"/>
            <a:ext cx="2246040" cy="1004400"/>
          </a:xfrm>
          <a:prstGeom prst="rect">
            <a:avLst/>
          </a:prstGeom>
          <a:solidFill>
            <a:srgbClr val="cce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одвиж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м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Прямоугольник 10"/>
          <p:cNvGrpSpPr/>
          <p:nvPr/>
        </p:nvGrpSpPr>
        <p:grpSpPr>
          <a:xfrm>
            <a:off x="6424560" y="3067200"/>
            <a:ext cx="1933560" cy="704160"/>
            <a:chOff x="6424560" y="3067200"/>
            <a:chExt cx="1933560" cy="704160"/>
          </a:xfrm>
        </p:grpSpPr>
        <p:pic>
          <p:nvPicPr>
            <p:cNvPr id="220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424560" y="3067200"/>
              <a:ext cx="1804680" cy="657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1" name="Text Box 9"/>
            <p:cNvSpPr/>
            <p:nvPr/>
          </p:nvSpPr>
          <p:spPr>
            <a:xfrm>
              <a:off x="6441120" y="3071880"/>
              <a:ext cx="1917000" cy="699480"/>
            </a:xfrm>
            <a:prstGeom prst="rec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Ходовая гай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ин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11"/>
          <p:cNvSpPr/>
          <p:nvPr/>
        </p:nvSpPr>
        <p:spPr>
          <a:xfrm>
            <a:off x="6431760" y="2357280"/>
            <a:ext cx="2532600" cy="394560"/>
          </a:xfrm>
          <a:prstGeom prst="rect">
            <a:avLst/>
          </a:prstGeom>
          <a:solidFill>
            <a:srgbClr val="cce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тикальный ви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2"/>
          <p:cNvSpPr/>
          <p:nvPr/>
        </p:nvSpPr>
        <p:spPr>
          <a:xfrm>
            <a:off x="1144440" y="1714680"/>
            <a:ext cx="879120" cy="394560"/>
          </a:xfrm>
          <a:prstGeom prst="rect">
            <a:avLst/>
          </a:prstGeom>
          <a:solidFill>
            <a:srgbClr val="cce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Прямоугольник 13"/>
          <p:cNvGrpSpPr/>
          <p:nvPr/>
        </p:nvGrpSpPr>
        <p:grpSpPr>
          <a:xfrm>
            <a:off x="6424560" y="4992840"/>
            <a:ext cx="2468160" cy="1317240"/>
            <a:chOff x="6424560" y="4992840"/>
            <a:chExt cx="2468160" cy="1317240"/>
          </a:xfrm>
        </p:grpSpPr>
        <p:pic>
          <p:nvPicPr>
            <p:cNvPr id="225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6424560" y="4992840"/>
              <a:ext cx="2468160" cy="12124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6" name="Text Box 14"/>
            <p:cNvSpPr/>
            <p:nvPr/>
          </p:nvSpPr>
          <p:spPr>
            <a:xfrm>
              <a:off x="6430320" y="5000760"/>
              <a:ext cx="2451240" cy="1309320"/>
            </a:xfrm>
            <a:prstGeom prst="rec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ервич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(неподвижная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мот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трансформато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Прямоугольник 14"/>
          <p:cNvGrpSpPr/>
          <p:nvPr/>
        </p:nvGrpSpPr>
        <p:grpSpPr>
          <a:xfrm>
            <a:off x="920880" y="3638520"/>
            <a:ext cx="1019520" cy="399240"/>
            <a:chOff x="920880" y="3638520"/>
            <a:chExt cx="1019520" cy="399240"/>
          </a:xfrm>
        </p:grpSpPr>
        <p:pic>
          <p:nvPicPr>
            <p:cNvPr id="228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920880" y="3638520"/>
              <a:ext cx="944280" cy="379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9" name="Text Box 17"/>
            <p:cNvSpPr/>
            <p:nvPr/>
          </p:nvSpPr>
          <p:spPr>
            <a:xfrm>
              <a:off x="939240" y="3643200"/>
              <a:ext cx="1001160" cy="394560"/>
            </a:xfrm>
            <a:prstGeom prst="rec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рпу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Прямоугольник 15"/>
          <p:cNvGrpSpPr/>
          <p:nvPr/>
        </p:nvGrpSpPr>
        <p:grpSpPr>
          <a:xfrm>
            <a:off x="208080" y="2567160"/>
            <a:ext cx="1721160" cy="704160"/>
            <a:chOff x="208080" y="2567160"/>
            <a:chExt cx="1721160" cy="704160"/>
          </a:xfrm>
        </p:grpSpPr>
        <p:pic>
          <p:nvPicPr>
            <p:cNvPr id="231" name="Прямоугольник 15" descr=""/>
            <p:cNvPicPr/>
            <p:nvPr/>
          </p:nvPicPr>
          <p:blipFill>
            <a:blip r:embed="rId6"/>
            <a:stretch/>
          </p:blipFill>
          <p:spPr>
            <a:xfrm>
              <a:off x="208080" y="2567160"/>
              <a:ext cx="1669680" cy="657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32" name="Text Box 20"/>
            <p:cNvSpPr/>
            <p:nvPr/>
          </p:nvSpPr>
          <p:spPr>
            <a:xfrm>
              <a:off x="225720" y="2571840"/>
              <a:ext cx="1703520" cy="699480"/>
            </a:xfrm>
            <a:prstGeom prst="rec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Заж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ля пров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Прямоугольник 16"/>
          <p:cNvSpPr/>
          <p:nvPr/>
        </p:nvSpPr>
        <p:spPr>
          <a:xfrm>
            <a:off x="1789560" y="1214280"/>
            <a:ext cx="1436760" cy="394560"/>
          </a:xfrm>
          <a:prstGeom prst="rect">
            <a:avLst/>
          </a:prstGeom>
          <a:solidFill>
            <a:srgbClr val="cce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рде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Прямоугольник 17"/>
          <p:cNvGrpSpPr/>
          <p:nvPr/>
        </p:nvGrpSpPr>
        <p:grpSpPr>
          <a:xfrm>
            <a:off x="3706920" y="1133640"/>
            <a:ext cx="1277280" cy="403920"/>
            <a:chOff x="3706920" y="1133640"/>
            <a:chExt cx="1277280" cy="403920"/>
          </a:xfrm>
        </p:grpSpPr>
        <p:pic>
          <p:nvPicPr>
            <p:cNvPr id="235" name="Прямоугольник 17" descr=""/>
            <p:cNvPicPr/>
            <p:nvPr/>
          </p:nvPicPr>
          <p:blipFill>
            <a:blip r:embed="rId7"/>
            <a:stretch/>
          </p:blipFill>
          <p:spPr>
            <a:xfrm>
              <a:off x="3706920" y="1133640"/>
              <a:ext cx="1163160" cy="3837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36" name="Text Box 24"/>
            <p:cNvSpPr/>
            <p:nvPr/>
          </p:nvSpPr>
          <p:spPr>
            <a:xfrm>
              <a:off x="3720960" y="1143000"/>
              <a:ext cx="1263240" cy="394560"/>
            </a:xfrm>
            <a:prstGeom prst="rec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укоят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8"/>
          <p:cNvSpPr/>
          <p:nvPr/>
        </p:nvSpPr>
        <p:spPr>
          <a:xfrm>
            <a:off x="573840" y="5000760"/>
            <a:ext cx="1590840" cy="394560"/>
          </a:xfrm>
          <a:prstGeom prst="rect">
            <a:avLst/>
          </a:prstGeom>
          <a:solidFill>
            <a:srgbClr val="cce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нтиля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19"/>
          <p:cNvGrpSpPr/>
          <p:nvPr/>
        </p:nvGrpSpPr>
        <p:grpSpPr>
          <a:xfrm>
            <a:off x="5065560" y="1279440"/>
            <a:ext cx="1319400" cy="401040"/>
            <a:chOff x="5065560" y="1279440"/>
            <a:chExt cx="1319400" cy="401040"/>
          </a:xfrm>
        </p:grpSpPr>
        <p:pic>
          <p:nvPicPr>
            <p:cNvPr id="239" name="Прямоугольник 19" descr=""/>
            <p:cNvPicPr/>
            <p:nvPr/>
          </p:nvPicPr>
          <p:blipFill>
            <a:blip r:embed="rId8"/>
            <a:stretch/>
          </p:blipFill>
          <p:spPr>
            <a:xfrm>
              <a:off x="5065560" y="1279440"/>
              <a:ext cx="1248840" cy="3837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40" name="Text Box 28"/>
            <p:cNvSpPr/>
            <p:nvPr/>
          </p:nvSpPr>
          <p:spPr>
            <a:xfrm>
              <a:off x="5076000" y="1285920"/>
              <a:ext cx="1308960" cy="394560"/>
            </a:xfrm>
            <a:prstGeom prst="rect">
              <a:avLst/>
            </a:prstGeom>
            <a:solidFill>
              <a:srgbClr val="ccec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ым-бол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праведливость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праведливость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праведливость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праведливость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667</TotalTime>
  <Application>LibreOffice/7.4.7.2$Linux_X86_64 LibreOffice_project/40$Build-2</Application>
  <AppVersion>15.0000</AppVersion>
  <Words>265</Words>
  <Paragraphs>7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2:03:14Z</dcterms:created>
  <dc:creator>Admin</dc:creator>
  <dc:description/>
  <dc:language>en-US</dc:language>
  <cp:lastModifiedBy>1</cp:lastModifiedBy>
  <dcterms:modified xsi:type="dcterms:W3CDTF">2016-11-10T06:56:21Z</dcterms:modified>
  <cp:revision>62</cp:revision>
  <dc:subject/>
  <dc:title>ИСТОЧНИКИ ПИТАНИЯ СВАРОЧНОЙ ДУГ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