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634-FDBF-4E98-9BE0-D5D904C0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658-2CC7-4EB6-9FAD-86158D92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B3D-B2E4-41DD-9617-09BB3B93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861-DD74-44B9-B427-118812A8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24AB-402B-443E-BBA3-574BCDDD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B9EF-5630-42EC-A999-04C8BDDF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F7FD-C130-475A-AE00-13656468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6B7E-C5FE-4E2C-9664-1D1CD1A0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5ED2-C18E-4BA0-809F-F77CD874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C1EF-3007-40FE-99DC-36059736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16D6-5561-4178-8331-0EE79129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385-C040-410F-AF51-A20E0BB0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2BD4-CF12-4AD7-90B8-46F7D95F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78D9-7AAF-4EDC-98BE-D2A7E245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9371-55CA-4F84-A165-CB676E52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54F4-624B-4843-90D5-86AFCAF0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E4F3-D2A6-49EB-ABD6-A93A9D59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751-E7C1-4277-B2A9-39033292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86B-DEF6-4870-AC7A-AA676F8D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6A3-AABE-4B9B-AE4D-457EB43E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5C4-13E3-4F0F-B90F-DA3451FF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151-1BEE-465D-BFA3-9942B6C1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B61-3B45-4C45-A424-38FDE4D5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60F-42CC-4C75-888A-6B3EA9F2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11A4-6303-42E4-9861-5EC56A3FE5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9965-FDA0-4BE3-935B-9F1236E2C8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Турнир по тем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«Морфемик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Arial"/>
              </a:rPr>
              <a:t>Основа слова (2 балла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: выделите основу только у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возди, сколько, вечерело, морем, оттенков, весенних, никто, кафтан, представление, согласие, зна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гвоз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мо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оттен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кафта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представле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соглас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знаме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Arial"/>
              </a:rPr>
              <a:t>Основа слова (3 балла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: выпишите только неизменяемые слова и выделите у них осн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росила, пальто, зачем, очевидн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блоко, попытавшейся, что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3300"/>
                </a:solidFill>
                <a:uFillTx/>
                <a:latin typeface="Arial"/>
              </a:rPr>
              <a:t>паль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3300"/>
                </a:solidFill>
                <a:uFillTx/>
                <a:latin typeface="Arial"/>
              </a:rPr>
              <a:t>зач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3300"/>
                </a:solidFill>
                <a:uFillTx/>
                <a:latin typeface="Arial"/>
              </a:rPr>
              <a:t>очевид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3300"/>
                </a:solidFill>
                <a:uFillTx/>
                <a:latin typeface="Arial"/>
              </a:rPr>
              <a:t>чтоб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Суффикс (1 балл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подберите однокоренные с суффиксом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– Т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 следующим сло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тать, преподавать, наблюдать, учить, водить, строи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Провер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та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подава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блюда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чи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ди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и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тел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Суффикс ( 2 балла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выделите в словах суффик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Лётчики, артиллеристы, парашютисты, синеватых, полчища, сокровища, убежищ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Проверка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ёт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чи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ртиллер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ис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арашют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ис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ин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ева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ы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ч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и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кров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и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беж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и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Основа слова (3 балла)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: при помощи суффикса образуйте слова, которые обозначают проф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итара, баян, виолончель, груз, охота, паркет, вертолё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Провер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итар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аян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олончел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уз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хот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ркет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ртолёт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Тур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Оконч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Основа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Суффи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рист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4c3e"/>
                </a:solidFill>
                <a:latin typeface="Arial"/>
              </a:rPr>
              <a:t>Корень</a:t>
            </a:r>
            <a:r>
              <a:rPr b="0" lang="en-US" sz="4000" spc="-1" strike="noStrike">
                <a:solidFill>
                  <a:srgbClr val="6666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Шара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48320" y="1523880"/>
          <a:ext cx="3886200" cy="464832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4c3e"/>
                          </a:solidFill>
                          <a:latin typeface="Arial"/>
                        </a:rPr>
                        <a:t>1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4c3e"/>
                          </a:solidFill>
                          <a:latin typeface="Arial"/>
                        </a:rPr>
                        <a:t>2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4c3e"/>
                          </a:solidFill>
                          <a:latin typeface="Arial"/>
                        </a:rPr>
                        <a:t>3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00"/>
                </a:solidFill>
                <a:latin typeface="Arial"/>
              </a:rPr>
              <a:t>Приставка (1 балл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 распределите слова по следующим групп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лишённый чего-т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крыта чем-нибудь спло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ство, находящееся позади чего-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злесный, укутаться, заречье, бессрочный, устлать, задворки, безучастный, уставить, запеч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Приставка (2 балла)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: вставьте букву, выдели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е_шумный, _давать, ра_чертить, бе_вкусный, ра_дать, ра_свет, бе_совестный, бе_душны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00"/>
                </a:solidFill>
                <a:latin typeface="Arial"/>
              </a:rPr>
              <a:t>Провер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925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Б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ум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Ра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Бе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у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Ра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Ра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Б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е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Бе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уш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Приставка (3 балла)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 распределите слова по групп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 основу входя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у входя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ркетный, привезут, грузчик, переписчик, переход, выбегут, пришкольный, безвредный, безголосый, зацепить, облет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00"/>
                </a:solidFill>
                <a:latin typeface="Arial"/>
              </a:rPr>
              <a:t>Проверка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 основу входят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¬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∩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^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писчик, пришкольный, безвредный, зацеп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 основу входят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¬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ход, выбегут, безголосый, облет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df5d2"/>
                </a:solidFill>
                <a:latin typeface="Arial"/>
              </a:rPr>
              <a:t>Корень (1 балл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: подберите к словам однокоренные (существ. – что? существ. – кто? прилаг., глаг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ё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м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ряз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df5d2"/>
                </a:solidFill>
                <a:latin typeface="Arial"/>
              </a:rPr>
              <a:t>Корень (2 балла)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: определите, какие слова в каждой четвёрке не являются «родственниками». Выделите 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маленький, малявка, маляр, малы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гроза, грозный, гроздь, гроз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конница, конник, подоконник, конюш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df5d2"/>
                </a:solidFill>
                <a:latin typeface="Arial"/>
              </a:rPr>
              <a:t>Проверка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3200" spc="-1" strike="noStrike">
                <a:solidFill>
                  <a:srgbClr val="3df5d2"/>
                </a:solidFill>
                <a:latin typeface="Arial"/>
              </a:rPr>
              <a:t>ма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нький, </a:t>
            </a:r>
            <a:r>
              <a:rPr b="0" lang="en-US" sz="3200" spc="-1" strike="noStrike">
                <a:solidFill>
                  <a:srgbClr val="3df5d2"/>
                </a:solidFill>
                <a:latin typeface="Arial"/>
              </a:rPr>
              <a:t>ма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ка, </a:t>
            </a:r>
            <a:r>
              <a:rPr b="0" lang="en-US" sz="3200" spc="-1" strike="noStrike">
                <a:solidFill>
                  <a:srgbClr val="3df5d2"/>
                </a:solidFill>
                <a:latin typeface="Arial"/>
              </a:rPr>
              <a:t>ма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ы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3200" spc="-1" strike="noStrike">
                <a:solidFill>
                  <a:srgbClr val="3df5d2"/>
                </a:solidFill>
                <a:latin typeface="Arial"/>
              </a:rPr>
              <a:t>гро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en-US" sz="3200" spc="-1" strike="noStrike">
                <a:solidFill>
                  <a:srgbClr val="3df5d2"/>
                </a:solidFill>
                <a:latin typeface="Arial"/>
              </a:rPr>
              <a:t>гро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ый, </a:t>
            </a:r>
            <a:r>
              <a:rPr b="0" lang="en-US" sz="3200" spc="-1" strike="noStrike">
                <a:solidFill>
                  <a:srgbClr val="3df5d2"/>
                </a:solidFill>
                <a:latin typeface="Arial"/>
              </a:rPr>
              <a:t>гро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3200" spc="-1" strike="noStrike">
                <a:solidFill>
                  <a:srgbClr val="3df5d2"/>
                </a:solidFill>
                <a:latin typeface="Arial"/>
              </a:rPr>
              <a:t>ко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ца, </a:t>
            </a:r>
            <a:r>
              <a:rPr b="0" lang="en-US" sz="3200" spc="-1" strike="noStrike">
                <a:solidFill>
                  <a:srgbClr val="3df5d2"/>
                </a:solidFill>
                <a:latin typeface="Arial"/>
              </a:rPr>
              <a:t>ко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к, </a:t>
            </a:r>
            <a:r>
              <a:rPr b="0" lang="en-US" sz="3200" spc="-1" strike="noStrike">
                <a:solidFill>
                  <a:srgbClr val="3df5d2"/>
                </a:solidFill>
                <a:latin typeface="Arial"/>
              </a:rPr>
              <a:t>ко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юш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Корень (3 балла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тавьте пропущенные буквы, выделите корень в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л_скать ребёнка – пол_скать бель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отв_рить дверь – отв_рить свёк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пло_ с дерева – пло_ из дер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вып_лить из ружья – вып_лет  гря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df5d2"/>
                </a:solidFill>
                <a:latin typeface="Arial"/>
              </a:rPr>
              <a:t>Проверка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пол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ать ребёнка – пол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ать бель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отв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ть дверь – отв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ть свёк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пло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 дерева – пло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з дер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вып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ть из ружья – вып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 гряд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Окончание (1 балл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Задание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выделите окончание у   с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орона, мороз, сегодняшний, завтра, гуляю, стан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Провер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орон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мороз   сегодняшн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втра     гуля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станци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я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44956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4956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51055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4572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44956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464832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5257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5181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47242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4952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Шара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кло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рилагатель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игр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Окончание (2 балла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Просклоняйте слова по падежа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верг ( в ед.ч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сто, дело ( во мн.ч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Выделите оконч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Проверка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.п. – четверг, мест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а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.п. – четверг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а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, 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п. – четверг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у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ам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п. – четверг, места, 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.п. – четверг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ом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ами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.п. – о четверг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е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ах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Окончание (3 балла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Зада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делите окончания у существительных и глаголов по образ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н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 скл., И.п, ед.ч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ежал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ош.время, мн.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, в раме, темнеет, торчат, мётлы, снегом, одичал, балкон, гуашь, ту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Провер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(2 скл,И.п., ед.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ам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 скл, П.п., мн.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не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аст.вр, ед.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ч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аст.вр, мн.ч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ётл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1 скл., И.п., ед.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г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о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 скл., Т.п., ед.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чал (прош.вр, ед.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кон (2 скл., И.п., ед.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ашь (3 скл, И.п., ед.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ч (1 скл., Р.п., мн.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Arial"/>
              </a:rPr>
              <a:t>Основа слова (1 балл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дание: выделите основу у с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олодная, зима, белые, снежинки, клевер, шмели, настроение, сделать, распустилась, умываеш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Холод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я          </a:t>
            </a: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Сдел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Зи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                 </a:t>
            </a: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Распусти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Б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ые                </a:t>
            </a: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Умы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шь</a:t>
            </a: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Снежин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          </a:t>
            </a: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Кле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Шм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               </a:t>
            </a:r>
            <a:r>
              <a:rPr b="0" lang="en-US" sz="4000" spc="-1" strike="noStrike" u="sng">
                <a:solidFill>
                  <a:srgbClr val="003300"/>
                </a:solidFill>
                <a:uFillTx/>
                <a:latin typeface="Arial"/>
              </a:rPr>
              <a:t>Настрое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3:51:05Z</dcterms:created>
  <dc:creator>User</dc:creator>
  <dc:description/>
  <dc:language>en-US</dc:language>
  <cp:lastModifiedBy>User</cp:lastModifiedBy>
  <dcterms:modified xsi:type="dcterms:W3CDTF">2016-03-22T15:12:5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