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121-4EC2-4FA1-BBA1-36B340CD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95F-B338-4A04-BCCF-01D90603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B26-4827-470C-8395-34BE6BB9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992-6B53-4CFA-8CBC-C12566DB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CF4A7-781D-462D-9882-D109AA81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BA382-C590-4798-8712-996686F4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0493F-5A98-4062-B29C-CFBCED4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8745A-D1E2-4F0A-A2B4-F417D0A5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14386-9552-4C27-B63E-EF24AC68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E8F3A-C0F2-4397-A1C6-50207C51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4089A-20F1-4105-882C-7642F053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7E5-4CA6-44B2-8927-2DD4841F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D9EB7-CAF0-4A44-A21C-05590B4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352E0-5138-41F0-B035-7738EFC0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28A9E-08B7-496A-820D-7C4FC664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9BED3-80BD-444A-9118-81A76BDF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EAA8D-3DAD-4453-B463-DFB69099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03F-FD51-403F-9DDB-9F1D99EC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B51-AD27-4F45-9B9E-31E6E348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A8C-A107-4794-847A-72522408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9F8-671A-49BB-A59C-6B288A2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9F6-C6C0-4B42-84A1-5CE646C2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FE8-A78A-4F03-8FA4-7AB87595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B9F-3686-4644-B305-ACF77227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5C89-D73E-40D8-9344-53C219613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1DE9-7FF4-44F3-AD4D-1EC190E8E5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905120" y="1219320"/>
            <a:ext cx="5790960" cy="13075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  <p:txBody>
          <a:bodyPr lIns="6120" rIns="6120" tIns="6120" bIns="612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12"/>
          <p:cNvSpPr txBox="1"/>
          <p:nvPr/>
        </p:nvSpPr>
        <p:spPr>
          <a:xfrm>
            <a:off x="609480" y="3048120"/>
            <a:ext cx="8001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страну десятичной дроб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6858000" y="593244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4d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6" descr="природа острова"/>
          <p:cNvPicPr/>
          <p:nvPr/>
        </p:nvPicPr>
        <p:blipFill>
          <a:blip r:embed="rId1"/>
          <a:stretch/>
        </p:blipFill>
        <p:spPr>
          <a:xfrm>
            <a:off x="6095880" y="4648320"/>
            <a:ext cx="30481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3"/>
          <p:cNvSpPr/>
          <p:nvPr/>
        </p:nvSpPr>
        <p:spPr>
          <a:xfrm>
            <a:off x="2514600" y="609480"/>
            <a:ext cx="594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d"/>
                </a:solidFill>
                <a:latin typeface="Tahoma"/>
              </a:rPr>
              <a:t>Цели урок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4d"/>
                </a:solidFill>
                <a:latin typeface="Tahoma"/>
              </a:rPr>
              <a:t>Дидактическая</a:t>
            </a: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повторить правила сложения, вычитания, умножения, деления десятичных дроб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уметь выполнять действия с десятичными дроб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уметь решать уравн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4d"/>
                </a:solidFill>
                <a:latin typeface="Tahoma"/>
              </a:rPr>
              <a:t>Воспитательная</a:t>
            </a: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оспитывать дружеские отношения в класс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умение работать в парах, развивать интерес к математи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99920" y="228600"/>
            <a:ext cx="83055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4d"/>
                </a:solidFill>
                <a:latin typeface="Tahoma"/>
              </a:rPr>
              <a:t>1. Прочитайт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1,1;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5,678;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6,7 ;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 0,001;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12,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4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4d"/>
                </a:solidFill>
                <a:latin typeface="Tahoma"/>
              </a:rPr>
              <a:t>2. Вычисли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d"/>
                </a:solidFill>
                <a:latin typeface="Tahoma"/>
              </a:rPr>
              <a:t>3,06•0,2 + 0,4 •0,2+ 0,3 : 2•0,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4d"/>
                </a:solidFill>
                <a:latin typeface="Tahoma"/>
              </a:rPr>
              <a:t>3. Упрости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4,5a + 5,6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733920" y="3809880"/>
            <a:ext cx="121896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,7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809880" y="5486400"/>
            <a:ext cx="121932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,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самолет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33520" y="1447920"/>
          <a:ext cx="8229600" cy="4495680"/>
        </p:xfrm>
        <a:graphic>
          <a:graphicData uri="http://schemas.openxmlformats.org/drawingml/2006/table">
            <a:tbl>
              <a:tblPr/>
              <a:tblGrid>
                <a:gridCol w="1598400"/>
                <a:gridCol w="1600200"/>
                <a:gridCol w="1365480"/>
                <a:gridCol w="1833480"/>
                <a:gridCol w="183204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,5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,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,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,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5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,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,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,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,88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,34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,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,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5,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AutoShape 498"/>
          <p:cNvSpPr/>
          <p:nvPr/>
        </p:nvSpPr>
        <p:spPr>
          <a:xfrm>
            <a:off x="1143000" y="2895480"/>
            <a:ext cx="380880" cy="228600"/>
          </a:xfrm>
          <a:custGeom>
            <a:avLst/>
            <a:gdLst/>
            <a:ahLst/>
            <a:rect l="l" t="t" r="r" b="b"/>
            <a:pathLst>
              <a:path w="381000" h="228600">
                <a:moveTo>
                  <a:pt x="0" y="87317"/>
                </a:moveTo>
                <a:lnTo>
                  <a:pt x="145530" y="87318"/>
                </a:lnTo>
                <a:lnTo>
                  <a:pt x="190500" y="0"/>
                </a:lnTo>
                <a:lnTo>
                  <a:pt x="235470" y="87318"/>
                </a:lnTo>
                <a:lnTo>
                  <a:pt x="381000" y="87317"/>
                </a:lnTo>
                <a:lnTo>
                  <a:pt x="263263" y="141282"/>
                </a:lnTo>
                <a:lnTo>
                  <a:pt x="308235" y="228599"/>
                </a:lnTo>
                <a:lnTo>
                  <a:pt x="190500" y="174634"/>
                </a:lnTo>
                <a:lnTo>
                  <a:pt x="72765" y="228599"/>
                </a:lnTo>
                <a:lnTo>
                  <a:pt x="117737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499"/>
          <p:cNvSpPr/>
          <p:nvPr/>
        </p:nvSpPr>
        <p:spPr>
          <a:xfrm>
            <a:off x="2743200" y="5562720"/>
            <a:ext cx="380880" cy="228600"/>
          </a:xfrm>
          <a:custGeom>
            <a:avLst/>
            <a:gdLst/>
            <a:ahLst/>
            <a:rect l="l" t="t" r="r" b="b"/>
            <a:pathLst>
              <a:path w="381000" h="228600">
                <a:moveTo>
                  <a:pt x="0" y="87317"/>
                </a:moveTo>
                <a:lnTo>
                  <a:pt x="145530" y="87318"/>
                </a:lnTo>
                <a:lnTo>
                  <a:pt x="190500" y="0"/>
                </a:lnTo>
                <a:lnTo>
                  <a:pt x="235470" y="87318"/>
                </a:lnTo>
                <a:lnTo>
                  <a:pt x="381000" y="87317"/>
                </a:lnTo>
                <a:lnTo>
                  <a:pt x="263263" y="141282"/>
                </a:lnTo>
                <a:lnTo>
                  <a:pt x="308235" y="228599"/>
                </a:lnTo>
                <a:lnTo>
                  <a:pt x="190500" y="174634"/>
                </a:lnTo>
                <a:lnTo>
                  <a:pt x="72765" y="228599"/>
                </a:lnTo>
                <a:lnTo>
                  <a:pt x="117737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500"/>
          <p:cNvSpPr/>
          <p:nvPr/>
        </p:nvSpPr>
        <p:spPr>
          <a:xfrm>
            <a:off x="4267080" y="4724280"/>
            <a:ext cx="381240" cy="228600"/>
          </a:xfrm>
          <a:custGeom>
            <a:avLst/>
            <a:gdLst/>
            <a:ahLst/>
            <a:rect l="l" t="t" r="r" b="b"/>
            <a:pathLst>
              <a:path w="381000" h="228600">
                <a:moveTo>
                  <a:pt x="0" y="87317"/>
                </a:moveTo>
                <a:lnTo>
                  <a:pt x="145530" y="87318"/>
                </a:lnTo>
                <a:lnTo>
                  <a:pt x="190500" y="0"/>
                </a:lnTo>
                <a:lnTo>
                  <a:pt x="235470" y="87318"/>
                </a:lnTo>
                <a:lnTo>
                  <a:pt x="381000" y="87317"/>
                </a:lnTo>
                <a:lnTo>
                  <a:pt x="263263" y="141282"/>
                </a:lnTo>
                <a:lnTo>
                  <a:pt x="308235" y="228599"/>
                </a:lnTo>
                <a:lnTo>
                  <a:pt x="190500" y="174634"/>
                </a:lnTo>
                <a:lnTo>
                  <a:pt x="72765" y="228599"/>
                </a:lnTo>
                <a:lnTo>
                  <a:pt x="117737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501"/>
          <p:cNvSpPr/>
          <p:nvPr/>
        </p:nvSpPr>
        <p:spPr>
          <a:xfrm>
            <a:off x="5791320" y="3809880"/>
            <a:ext cx="380880" cy="228600"/>
          </a:xfrm>
          <a:custGeom>
            <a:avLst/>
            <a:gdLst/>
            <a:ahLst/>
            <a:rect l="l" t="t" r="r" b="b"/>
            <a:pathLst>
              <a:path w="381000" h="228600">
                <a:moveTo>
                  <a:pt x="0" y="87317"/>
                </a:moveTo>
                <a:lnTo>
                  <a:pt x="145530" y="87318"/>
                </a:lnTo>
                <a:lnTo>
                  <a:pt x="190500" y="0"/>
                </a:lnTo>
                <a:lnTo>
                  <a:pt x="235470" y="87318"/>
                </a:lnTo>
                <a:lnTo>
                  <a:pt x="381000" y="87317"/>
                </a:lnTo>
                <a:lnTo>
                  <a:pt x="263263" y="141282"/>
                </a:lnTo>
                <a:lnTo>
                  <a:pt x="308235" y="228599"/>
                </a:lnTo>
                <a:lnTo>
                  <a:pt x="190500" y="174634"/>
                </a:lnTo>
                <a:lnTo>
                  <a:pt x="72765" y="228599"/>
                </a:lnTo>
                <a:lnTo>
                  <a:pt x="117737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502"/>
          <p:cNvSpPr/>
          <p:nvPr/>
        </p:nvSpPr>
        <p:spPr>
          <a:xfrm>
            <a:off x="7696080" y="1981080"/>
            <a:ext cx="381240" cy="228600"/>
          </a:xfrm>
          <a:custGeom>
            <a:avLst/>
            <a:gdLst/>
            <a:ahLst/>
            <a:rect l="l" t="t" r="r" b="b"/>
            <a:pathLst>
              <a:path w="381000" h="228600">
                <a:moveTo>
                  <a:pt x="0" y="87317"/>
                </a:moveTo>
                <a:lnTo>
                  <a:pt x="145530" y="87318"/>
                </a:lnTo>
                <a:lnTo>
                  <a:pt x="190500" y="0"/>
                </a:lnTo>
                <a:lnTo>
                  <a:pt x="235470" y="87318"/>
                </a:lnTo>
                <a:lnTo>
                  <a:pt x="381000" y="87317"/>
                </a:lnTo>
                <a:lnTo>
                  <a:pt x="263263" y="141282"/>
                </a:lnTo>
                <a:lnTo>
                  <a:pt x="308235" y="228599"/>
                </a:lnTo>
                <a:lnTo>
                  <a:pt x="190500" y="174634"/>
                </a:lnTo>
                <a:lnTo>
                  <a:pt x="72765" y="228599"/>
                </a:lnTo>
                <a:lnTo>
                  <a:pt x="117737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503"/>
          <p:cNvSpPr/>
          <p:nvPr/>
        </p:nvSpPr>
        <p:spPr>
          <a:xfrm>
            <a:off x="3276720" y="5335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У - 3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8" descr="салон самолета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2" name="Text Box 9"/>
          <p:cNvSpPr/>
          <p:nvPr/>
        </p:nvSpPr>
        <p:spPr>
          <a:xfrm>
            <a:off x="533520" y="5181480"/>
            <a:ext cx="8458200" cy="2399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Математическое лот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77"/>
          <p:cNvSpPr/>
          <p:nvPr/>
        </p:nvSpPr>
        <p:spPr>
          <a:xfrm>
            <a:off x="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457200"/>
          <a:ext cx="8763120" cy="1665360"/>
        </p:xfrm>
        <a:graphic>
          <a:graphicData uri="http://schemas.openxmlformats.org/drawingml/2006/table">
            <a:tbl>
              <a:tblPr/>
              <a:tblGrid>
                <a:gridCol w="1392120"/>
                <a:gridCol w="1719360"/>
                <a:gridCol w="1884240"/>
                <a:gridCol w="2324160"/>
                <a:gridCol w="14432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50% от 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2:5+0,7):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,86x –2,86x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сли x = 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8,53 • 0,8+1,47• 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8•5,6•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,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2,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105" name="Прямоугольник 1"/>
          <p:cNvSpPr/>
          <p:nvPr/>
        </p:nvSpPr>
        <p:spPr>
          <a:xfrm>
            <a:off x="304920" y="1447920"/>
            <a:ext cx="1218960" cy="5331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1828800" y="1447920"/>
            <a:ext cx="1143000" cy="5331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657600" y="1422360"/>
            <a:ext cx="137160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5410080" y="1447920"/>
            <a:ext cx="1752840" cy="5331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656480" y="1447920"/>
            <a:ext cx="1143000" cy="5331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остр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533520" y="243360"/>
            <a:ext cx="8153280" cy="2837160"/>
          </a:xfrm>
          <a:prstGeom prst="rect">
            <a:avLst/>
          </a:prstGeom>
          <a:solidFill>
            <a:srgbClr val="000099">
              <a:alpha val="52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числит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2,36 • 1,5 +24,9) • 4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(61,5 – 5,16) : 30 +5,0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477120" y="838080"/>
            <a:ext cx="19810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 1279,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77120" y="1905120"/>
            <a:ext cx="19810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 1,92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4800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x – 5,6): 12 =3,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12x + 14x + 4,2 =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( x + 2,1) • 4 = 15,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(9,1 – x ) – 2,8 = 2,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4,6x + 3,8x – 1,6=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аборигены"/>
          <p:cNvPicPr/>
          <p:nvPr/>
        </p:nvPicPr>
        <p:blipFill>
          <a:blip r:embed="rId1"/>
          <a:stretch/>
        </p:blipFill>
        <p:spPr>
          <a:xfrm>
            <a:off x="4800600" y="222120"/>
            <a:ext cx="4135320" cy="5791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1523880" y="1219320"/>
            <a:ext cx="13716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523880" y="2286000"/>
            <a:ext cx="13716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0,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23880" y="3505320"/>
            <a:ext cx="13716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1,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600200" y="5791320"/>
            <a:ext cx="137160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X=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600200" y="4724280"/>
            <a:ext cx="1371600" cy="381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3,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Чунга-Чанга.mp3" descr=""/>
          <p:cNvPicPr/>
          <p:nvPr/>
        </p:nvPicPr>
        <p:blipFill>
          <a:blip r:embed="rId2"/>
          <a:stretch/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3937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132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4d"/>
                </a:solidFill>
                <a:latin typeface="Tahoma"/>
              </a:rPr>
              <a:t>Задача</a:t>
            </a:r>
            <a:br>
              <a:rPr sz="2800"/>
            </a:br>
            <a:r>
              <a:rPr b="0" lang="ru-RU" sz="2800" spc="-1" strike="noStrike">
                <a:solidFill>
                  <a:srgbClr val="00004d"/>
                </a:solidFill>
                <a:latin typeface="Tahoma"/>
              </a:rPr>
              <a:t>Запас мяса - 42 килограмма ;на стол приготовили этого количества. Женщины собрали 9,2 килограммов абрикосов, а дети насобирали бананов в 1,5 раза больше. Сколько мяса и сколько фруктов на стол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тропический стол"/>
          <p:cNvPicPr/>
          <p:nvPr/>
        </p:nvPicPr>
        <p:blipFill>
          <a:blip r:embed="rId1"/>
          <a:stretch/>
        </p:blipFill>
        <p:spPr>
          <a:xfrm>
            <a:off x="1371600" y="2743200"/>
            <a:ext cx="6553080" cy="3946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1295280" y="2743200"/>
            <a:ext cx="6629400" cy="3962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2: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2= 28 (кг) – приготовили мя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9,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1,5= 13,8 (кг) – собрали банан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9,2+13,8=23 (кг) – всего фру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Ответ: на стол приготовили 28 кг мя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и 23 кг фру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2052720" y="39492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4d"/>
                </a:solidFill>
                <a:latin typeface="Arial"/>
              </a:rPr>
              <a:t>Размеры у хижины такие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4d"/>
                </a:solidFill>
                <a:latin typeface="Arial"/>
              </a:rPr>
              <a:t>высота –2,5 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4d"/>
                </a:solidFill>
                <a:latin typeface="Arial"/>
              </a:rPr>
              <a:t>длина - 6,25 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4d"/>
                </a:solidFill>
                <a:latin typeface="Arial"/>
              </a:rPr>
              <a:t>ширина – 5 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4d"/>
                </a:solidFill>
                <a:latin typeface="Arial"/>
              </a:rPr>
              <a:t>Найти объем жилища, площадь его потол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722600" y="3657600"/>
            <a:ext cx="5562360" cy="2819520"/>
          </a:xfrm>
          <a:prstGeom prst="rect">
            <a:avLst/>
          </a:prstGeom>
          <a:solidFill>
            <a:srgbClr val="ff9966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V=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 2,5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  <a:ea typeface="Tahoma"/>
              </a:rPr>
              <a:t>6,25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  <a:ea typeface="Tahoma"/>
              </a:rPr>
              <a:t>5=78,125 м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  <a:ea typeface="Tahoma"/>
              </a:rPr>
              <a:t>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S= 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6,25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</a:rPr>
              <a:t>·</a:t>
            </a: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5=31,25 м</a:t>
            </a:r>
            <a:r>
              <a:rPr b="0" lang="en-US" sz="3200" spc="-1" strike="noStrike">
                <a:solidFill>
                  <a:srgbClr val="00004d"/>
                </a:solidFill>
                <a:latin typeface="Tahoma"/>
                <a:ea typeface="Tahoma"/>
              </a:rPr>
              <a:t>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на</cp:lastModifiedBy>
  <dcterms:modified xsi:type="dcterms:W3CDTF">2016-11-29T18:25:07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