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C9A-E417-4358-9ABF-BEE57EDC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260-5E14-4408-AEE6-794F0122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E31-2E7A-4E4C-B3F5-9A5B71F1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5FB-A74E-490F-800F-3AAB2A80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0D3-4BE7-4979-AC81-E3D57122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9FC-9852-4B29-97F4-78F97E85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43C-8ED5-4803-851D-F8A02D20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47C-BEEA-4190-8505-8A9390B3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D68-0C3B-48D2-85BC-05DCE6CE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CBF-5721-4511-9C20-32AA9F06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721-1907-435E-ABEE-4C824673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98E-F148-412A-8A93-62AE4AE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6CC9-0F25-479D-A6A4-D403ECC1F7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Thema:Was wir schon wissen und konnen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8000" y="2565360"/>
            <a:ext cx="287964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Klass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.L.B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P1220121"/>
          <p:cNvPicPr/>
          <p:nvPr/>
        </p:nvPicPr>
        <p:blipFill>
          <a:blip r:embed="rId1"/>
          <a:stretch/>
        </p:blipFill>
        <p:spPr>
          <a:xfrm>
            <a:off x="324000" y="198900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202320" y="5667480"/>
            <a:ext cx="648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:Сердега Ольга Сергее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немецкого языка  МКОУ «Розентальская О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(домашнее задани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989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жи о доме,в котором ты живёшь,по опора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Ich wohne …..strasse,N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Das ist ein 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Mein Haus ist (Wie?)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Vor dem Haus ist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Das Haus hat….Zimm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Das sind…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Ich liebe mein Ha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340000" y="404640"/>
            <a:ext cx="45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usaufgab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5" descr="P1220127"/>
          <p:cNvPicPr/>
          <p:nvPr/>
        </p:nvPicPr>
        <p:blipFill>
          <a:blip r:embed="rId1"/>
          <a:stretch/>
        </p:blipFill>
        <p:spPr>
          <a:xfrm>
            <a:off x="468360" y="2349360"/>
            <a:ext cx="3960720" cy="3527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476360" y="1700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in H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1912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50920" y="90792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reut mich, dass ihr in der Stun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916360" y="3573360"/>
            <a:ext cx="622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ktiv und fleißig gearbeitet habt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is bald!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6" descr="sw58"/>
          <p:cNvPicPr/>
          <p:nvPr/>
        </p:nvPicPr>
        <p:blipFill>
          <a:blip r:embed="rId1"/>
          <a:stretch/>
        </p:blipFill>
        <p:spPr>
          <a:xfrm>
            <a:off x="468360" y="4076640"/>
            <a:ext cx="202248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519408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Mundgymnasti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92000" y="764640"/>
            <a:ext cx="56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.Was passt nich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n die logische Reih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s G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ästezimmer,die Küche,das Arbeitszimmer,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  <a:ea typeface="Arial"/>
              </a:rPr>
              <a:t>das Lehrerzimm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die  Kirche,das Rathaus, der Hu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das Schloss,die Burg, die Schul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das Geschä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Laut,still,sauber,schmal,freundlich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schmutzig,niedrig,breit,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Das Hochha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das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Mehrfamilienha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das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Rathaus,das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Einfamilienha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Hoch,gross,klein,bequem,schön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modern,neu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trauri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1"/>
          <p:cNvPicPr/>
          <p:nvPr/>
        </p:nvPicPr>
        <p:blipFill>
          <a:blip r:embed="rId1"/>
          <a:stretch/>
        </p:blipFill>
        <p:spPr>
          <a:xfrm>
            <a:off x="0" y="907920"/>
            <a:ext cx="360504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Mundgymnasti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8920" y="1700280"/>
            <a:ext cx="403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ahoma"/>
              </a:rPr>
              <a:t>2.Lesen wi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Ich woh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h wohne………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ht hier………..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 Nummer……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 seht ihr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ist ……..und………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ist nicht …..,nicht…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h sorge hier …   …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 freu’ mich:…  ….  me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P1220157"/>
          <p:cNvPicPr/>
          <p:nvPr/>
        </p:nvPicPr>
        <p:blipFill>
          <a:blip r:embed="rId1"/>
          <a:stretch/>
        </p:blipFill>
        <p:spPr>
          <a:xfrm>
            <a:off x="324000" y="1700280"/>
            <a:ext cx="4430520" cy="46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Findet  Antonyme!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06560" y="2205000"/>
            <a:ext cx="39290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hoch    a)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neu     b)hin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rechts  c)niedr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vorn    d)h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)dort     e)lin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1,2"/>
          <p:cNvPicPr/>
          <p:nvPr/>
        </p:nvPicPr>
        <p:blipFill>
          <a:blip r:embed="rId1"/>
          <a:stretch/>
        </p:blipFill>
        <p:spPr>
          <a:xfrm>
            <a:off x="7524720" y="4869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,2"/>
          <p:cNvPicPr/>
          <p:nvPr/>
        </p:nvPicPr>
        <p:blipFill>
          <a:blip r:embed="rId2"/>
          <a:stretch/>
        </p:blipFill>
        <p:spPr>
          <a:xfrm>
            <a:off x="4859280" y="3141720"/>
            <a:ext cx="22636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380880"/>
            <a:ext cx="4826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ate die W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  <a:ea typeface="Tahoma"/>
              </a:rPr>
              <a:t>örter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114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 miMehfralineh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as  Mehrfamilienh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ine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iedr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o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fSchimzm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as Schlafzim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otSk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er St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perT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e Trep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5580000" y="2421000"/>
            <a:ext cx="2952720" cy="2554200"/>
          </a:xfrm>
          <a:custGeom>
            <a:avLst/>
            <a:gdLst>
              <a:gd name="textAreaLeft" fmla="*/ 165240 w 2952720"/>
              <a:gd name="textAreaRight" fmla="*/ 2787480 w 2952720"/>
              <a:gd name="textAreaTop" fmla="*/ 165240 h 2554200"/>
              <a:gd name="textAreaBottom" fmla="*/ 2388960 h 2554200"/>
            </a:gdLst>
            <a:ahLst/>
            <a:rect l="textAreaLeft" t="textAreaTop" r="textAreaRight" b="textAreaBottom"/>
            <a:pathLst>
              <a:path w="24970" h="21600">
                <a:moveTo>
                  <a:pt x="0" y="0"/>
                </a:moveTo>
                <a:lnTo>
                  <a:pt x="24970" y="0"/>
                </a:lnTo>
                <a:lnTo>
                  <a:pt x="24970" y="21600"/>
                </a:lnTo>
                <a:lnTo>
                  <a:pt x="0" y="21600"/>
                </a:lnTo>
                <a:close/>
              </a:path>
              <a:path fill="lightenLess" w="24970" h="21600">
                <a:moveTo>
                  <a:pt x="0" y="0"/>
                </a:moveTo>
                <a:lnTo>
                  <a:pt x="24970" y="0"/>
                </a:lnTo>
                <a:lnTo>
                  <a:pt x="23570" y="1400"/>
                </a:lnTo>
                <a:lnTo>
                  <a:pt x="1400" y="1400"/>
                </a:lnTo>
                <a:close/>
              </a:path>
              <a:path fill="darken" w="24970" h="21600">
                <a:moveTo>
                  <a:pt x="24970" y="0"/>
                </a:moveTo>
                <a:lnTo>
                  <a:pt x="24970" y="21600"/>
                </a:lnTo>
                <a:lnTo>
                  <a:pt x="23570" y="20200"/>
                </a:lnTo>
                <a:lnTo>
                  <a:pt x="23570" y="1400"/>
                </a:lnTo>
                <a:close/>
              </a:path>
              <a:path fill="darkenLess" w="24970" h="21600">
                <a:moveTo>
                  <a:pt x="24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0" y="20200"/>
                </a:lnTo>
                <a:close/>
              </a:path>
              <a:path fill="lighten" w="24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0" h="21600">
                <a:moveTo>
                  <a:pt x="1248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70" h="21600">
                <a:moveTo>
                  <a:pt x="13590" y="14281"/>
                </a:moveTo>
                <a:lnTo>
                  <a:pt x="13590" y="12323"/>
                </a:lnTo>
                <a:cubicBezTo>
                  <a:pt x="13590" y="11496"/>
                  <a:pt x="13921" y="10800"/>
                  <a:pt x="14522" y="10800"/>
                </a:cubicBezTo>
                <a:cubicBezTo>
                  <a:pt x="15653" y="10800"/>
                  <a:pt x="16549" y="9434"/>
                  <a:pt x="16549" y="7849"/>
                </a:cubicBezTo>
                <a:cubicBezTo>
                  <a:pt x="16549" y="5534"/>
                  <a:pt x="14696" y="3794"/>
                  <a:pt x="12485" y="3794"/>
                </a:cubicBezTo>
                <a:cubicBezTo>
                  <a:pt x="10274" y="3794"/>
                  <a:pt x="8603" y="5534"/>
                  <a:pt x="8603" y="7849"/>
                </a:cubicBezTo>
                <a:lnTo>
                  <a:pt x="10457" y="7849"/>
                </a:lnTo>
                <a:cubicBezTo>
                  <a:pt x="10457" y="6709"/>
                  <a:pt x="11379" y="5821"/>
                  <a:pt x="12485" y="5821"/>
                </a:cubicBezTo>
                <a:cubicBezTo>
                  <a:pt x="13590" y="5821"/>
                  <a:pt x="14522" y="6709"/>
                  <a:pt x="14522" y="7849"/>
                </a:cubicBezTo>
                <a:cubicBezTo>
                  <a:pt x="14522" y="8589"/>
                  <a:pt x="14052" y="9320"/>
                  <a:pt x="13590" y="9320"/>
                </a:cubicBezTo>
                <a:cubicBezTo>
                  <a:pt x="12485" y="9320"/>
                  <a:pt x="11379" y="10800"/>
                  <a:pt x="11379" y="12323"/>
                </a:cubicBezTo>
                <a:lnTo>
                  <a:pt x="11379" y="1428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Was passt zusammen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то подходит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6280" y="2201400"/>
            <a:ext cx="821520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Vogelbauer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1)гости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das Erdgeschoss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исад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 Vorgarten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вореч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das Wohnzimmer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й эта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die Leuchte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ар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die Gardine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с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teilen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7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ор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das Reinemachen                  8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ж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das Geschirr abwaschen         9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ел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pflanzen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0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ть посу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Selbstkontrolle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моконтроль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5977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3                  6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-4                  7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-2                  8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-1                  9-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-6                  10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156360" y="515772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оставьте оценку: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ошибок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»;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1,2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ошибки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»;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3,4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ошибки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00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Wo steht das Bett?</a:t>
            </a:r>
            <a:br>
              <a:rPr sz="40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Wo hangt das Bild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0" y="1989000"/>
            <a:ext cx="698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2" descr="C:\Documents and Settings\Admin\Рабочий стол\спальн.jpg"/>
          <p:cNvPicPr/>
          <p:nvPr/>
        </p:nvPicPr>
        <p:blipFill>
          <a:blip r:embed="rId1"/>
          <a:stretch/>
        </p:blipFill>
        <p:spPr>
          <a:xfrm>
            <a:off x="2143080" y="214200"/>
            <a:ext cx="5421240" cy="43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\Рабочий стол\гост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Admin\Рабочий стол\детск.jpg"/>
          <p:cNvPicPr/>
          <p:nvPr/>
        </p:nvPicPr>
        <p:blipFill>
          <a:blip r:embed="rId2"/>
          <a:srcRect l="0" t="1298" r="0" b="1298"/>
          <a:stretch/>
        </p:blipFill>
        <p:spPr>
          <a:xfrm>
            <a:off x="4881600" y="0"/>
            <a:ext cx="42624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Admin\Рабочий стол\спал 2.jpeg"/>
          <p:cNvPicPr/>
          <p:nvPr/>
        </p:nvPicPr>
        <p:blipFill>
          <a:blip r:embed="rId3"/>
          <a:srcRect l="0" t="1850" r="0" b="1850"/>
          <a:stretch/>
        </p:blipFill>
        <p:spPr>
          <a:xfrm>
            <a:off x="1357200" y="3429000"/>
            <a:ext cx="514368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1020600" y="4643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06360" y="2857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663800" y="27147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4:26:44Z</dcterms:created>
  <dc:creator>ученик</dc:creator>
  <dc:description/>
  <dc:language>en-US</dc:language>
  <cp:lastModifiedBy>Admin</cp:lastModifiedBy>
  <dcterms:modified xsi:type="dcterms:W3CDTF">2013-02-09T10:18:52Z</dcterms:modified>
  <cp:revision>49</cp:revision>
  <dc:subject/>
  <dc:title>Thema:Wo und wie wohnen hier die Menschen?</dc:title>
</cp:coreProperties>
</file>