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700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66360" y="19159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700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66360" y="4173120"/>
            <a:ext cx="26654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000" y="620280"/>
            <a:ext cx="827892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0240" y="41731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240" y="1915920"/>
            <a:ext cx="4039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" y="4173120"/>
            <a:ext cx="82789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78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68000" y="1915920"/>
            <a:ext cx="8278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1640" y="512640"/>
            <a:ext cx="828072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leopatra"/>
              </a:rPr>
              <a:t>Я Р М А Р К А</a:t>
            </a:r>
            <a:endParaRPr b="1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77" name="Picture 2" descr="C:\Documents and Settings\Татьяна.708E4A09096E4D2\Рабочий стол\новое.jpg"/>
          <p:cNvPicPr/>
          <p:nvPr/>
        </p:nvPicPr>
        <p:blipFill>
          <a:blip r:embed="rId1"/>
          <a:stretch/>
        </p:blipFill>
        <p:spPr>
          <a:xfrm>
            <a:off x="611280" y="1376280"/>
            <a:ext cx="8061120" cy="47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Татьяна.708E4A09096E4D2\Рабочий стол\ЯРМАРКА\Картинки для презентации\0_8ba88_e551d933_orig.jpg"/>
          <p:cNvPicPr/>
          <p:nvPr/>
        </p:nvPicPr>
        <p:blipFill>
          <a:blip r:embed="rId1"/>
          <a:stretch/>
        </p:blipFill>
        <p:spPr>
          <a:xfrm>
            <a:off x="431640" y="1268280"/>
            <a:ext cx="4248360" cy="46087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5111640" y="1413000"/>
            <a:ext cx="363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от и солнце закатил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аша ярмарка закрыла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51280" y="404640"/>
            <a:ext cx="507672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700"/>
            </a:br>
            <a:r>
              <a:rPr b="1" lang="ru-RU" sz="4000" spc="-1" strike="noStrike">
                <a:solidFill>
                  <a:srgbClr val="c00000"/>
                </a:solidFill>
                <a:latin typeface="Cleopatra"/>
                <a:ea typeface="Arial Unicode MS"/>
              </a:rPr>
              <a:t>ЯРМАРКА</a:t>
            </a:r>
            <a:br>
              <a:rPr sz="8000"/>
            </a:br>
            <a:br>
              <a:rPr sz="2800"/>
            </a:b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79" name="Picture 2" descr="C:\Мои рисунки\Спасибо пожалуйста\1970_4545fb68054d5.jpg"/>
          <p:cNvPicPr/>
          <p:nvPr/>
        </p:nvPicPr>
        <p:blipFill>
          <a:blip r:embed="rId1"/>
          <a:stretch/>
        </p:blipFill>
        <p:spPr>
          <a:xfrm>
            <a:off x="216000" y="765000"/>
            <a:ext cx="3409920" cy="44136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4284720" y="1125360"/>
            <a:ext cx="43909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Мы рады гостям,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Как добрым вестям!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Всех привечаем,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Душевно встречаем,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НА ЯРМАРКУ ПРИГЛАША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6"/>
          <p:cNvSpPr/>
          <p:nvPr/>
        </p:nvSpPr>
        <p:spPr>
          <a:xfrm>
            <a:off x="5003640" y="1521000"/>
            <a:ext cx="414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рмарка, ярмар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гневая, ярмарка,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рмарка, ярмар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лясовая, жаркая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Documents and Settings\Татьяна.708E4A09096E4D2\Рабочий стол\ЯРМАРКА\Картинки для презентации\взяла\06.jpg"/>
          <p:cNvPicPr/>
          <p:nvPr/>
        </p:nvPicPr>
        <p:blipFill>
          <a:blip r:embed="rId1"/>
          <a:stretch/>
        </p:blipFill>
        <p:spPr>
          <a:xfrm>
            <a:off x="287280" y="1125360"/>
            <a:ext cx="4716360" cy="449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Татьяна.708E4A09096E4D2\Рабочий стол\ЯРМАРКА\Картинки для презентации\Ярмарка Совр миниатюра.jpg"/>
          <p:cNvPicPr/>
          <p:nvPr/>
        </p:nvPicPr>
        <p:blipFill>
          <a:blip r:embed="rId1"/>
          <a:stretch/>
        </p:blipFill>
        <p:spPr>
          <a:xfrm>
            <a:off x="1079640" y="441360"/>
            <a:ext cx="7345080" cy="48927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900000" y="5265720"/>
            <a:ext cx="73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Глянешь налево – лавки с товаром!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Глянешь направо – веселье дар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73475-i_764.jpg"/>
          <p:cNvPicPr/>
          <p:nvPr/>
        </p:nvPicPr>
        <p:blipFill>
          <a:blip r:embed="rId1"/>
          <a:stretch/>
        </p:blipFill>
        <p:spPr>
          <a:xfrm>
            <a:off x="971640" y="765000"/>
            <a:ext cx="741672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745448633.jpg"/>
          <p:cNvPicPr/>
          <p:nvPr/>
        </p:nvPicPr>
        <p:blipFill>
          <a:blip r:embed="rId1"/>
          <a:srcRect l="0" t="0" r="3278" b="3817"/>
          <a:stretch/>
        </p:blipFill>
        <p:spPr>
          <a:xfrm>
            <a:off x="684360" y="981000"/>
            <a:ext cx="8100720" cy="511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rusmatreshka.ru/upload/iblock/213/213d3420f92fdee99b82362095fe73e6.jpg"/>
          <p:cNvPicPr/>
          <p:nvPr/>
        </p:nvPicPr>
        <p:blipFill>
          <a:blip r:embed="rId1"/>
          <a:stretch/>
        </p:blipFill>
        <p:spPr>
          <a:xfrm>
            <a:off x="468360" y="836640"/>
            <a:ext cx="7991280" cy="501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instruments"/>
          <p:cNvPicPr/>
          <p:nvPr/>
        </p:nvPicPr>
        <p:blipFill>
          <a:blip r:embed="rId1"/>
          <a:stretch/>
        </p:blipFill>
        <p:spPr>
          <a:xfrm>
            <a:off x="431640" y="476280"/>
            <a:ext cx="813600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img1.liveinternet.ru/images/attach/c/10/109/460/109460859_large_4882572_1328441380_29592946b92c_resize.jpg"/>
          <p:cNvPicPr/>
          <p:nvPr/>
        </p:nvPicPr>
        <p:blipFill>
          <a:blip r:embed="rId1"/>
          <a:stretch/>
        </p:blipFill>
        <p:spPr>
          <a:xfrm>
            <a:off x="647640" y="800280"/>
            <a:ext cx="7956720" cy="53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Admin</cp:lastModifiedBy>
  <dcterms:modified xsi:type="dcterms:W3CDTF">2016-04-04T16:36:56Z</dcterms:modified>
  <cp:revision>293</cp:revision>
  <dc:subject/>
  <dc:title>Русская ярмарка</dc:title>
</cp:coreProperties>
</file>