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D8446-6AB8-4DF7-90FF-A442C21C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6B07-4B9E-467F-8456-E71DFF3E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703B-845D-49E7-851F-B92CCEE4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149B-04DC-4638-8A05-65C551FA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2253-8FA9-4AC5-86D0-DB70F592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51CE-74A3-44A6-8FD8-7CAB9606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6B11-1C83-4DF2-9683-904C7857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59BA-6898-429D-BB80-EA21B997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7B41-719F-4D47-AC8F-8DF883B2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0067-6A0C-42F3-BF6A-ADFE27C8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EE45-8C62-4011-A2BC-2775429F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686B-BECA-49DE-A210-C55351A4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5E60-11BD-486D-8A25-37853C3F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0E43-3C97-42F0-B7D0-B3BB42D7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2CA5-3F72-49A7-BAA2-E0C579E5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6F88-8BD6-41C5-A5E6-24D2000B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47D8-697F-458B-A5C9-67BDF5B6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E7F2-3D76-465D-826D-91FB6BEE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99F5-52B9-488F-9E0A-97A2A70F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63E1B-80CF-4C9F-A792-F063C545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3BCF-7604-4894-942E-F1AA2065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2FAB-3CF3-4BA2-83EB-FA4A94EB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BBBD-369B-4DCC-8029-C0A388D8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5A68-F74C-4D8D-AE2B-B3009BB9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F994-1085-4E9B-B5CB-7B802F30C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D15D-17F5-42EC-8F9B-4427E1B1D2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                 </a:t>
            </a: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Жить</a:t>
            </a:r>
            <a:endParaRPr b="1" lang="en-US" sz="8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53200" y="3573360"/>
            <a:ext cx="2890800" cy="3284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3046680" cy="3240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360" y="3500280"/>
            <a:ext cx="22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fdfe9"/>
                </a:solidFill>
                <a:latin typeface="Garamond"/>
              </a:rPr>
              <a:t>ил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32320" y="5229360"/>
            <a:ext cx="452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11111"/>
                </a:solidFill>
                <a:latin typeface="Garamond"/>
              </a:rPr>
              <a:t>курить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9280" cy="2676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Результаты анкетир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Кто курит в семье: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апа – 11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ма – 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рат – 1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естра –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икто не курит –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Пробовали ли кур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бовали –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пробовали -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Куришь ли ты сейчас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т -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Тебе это нрави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т -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fe9"/>
                </a:solidFill>
                <a:latin typeface="Garamond"/>
              </a:rPr>
              <a:t>Задача №3</a:t>
            </a:r>
            <a:endParaRPr b="1" lang="en-US" sz="4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4436640"/>
            <a:ext cx="403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Курит мам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0" y="4437000"/>
            <a:ext cx="40384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Курит пап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268280"/>
            <a:ext cx="8713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Средний вес новорожденного ребенка 3 кг 300 г. Если у ребенка отец курит, то его вес будет меньше среднего на 125 г, если курит мать - меньше на 300г.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Определите, сколько % теряет в весе новорожденный, есл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373720"/>
            <a:ext cx="8282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Ответ округлите до едини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229360"/>
            <a:ext cx="4038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000" y="148428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Определить, сколько процентов своего годового дохода тратит на сигареты человек, выкуривающий одну пачку в сутки, если пачка сигарет стоит         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0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рублей, ежемесячная зарплата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000 руб. (в месяце 30 дней)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Тема: «Проценты. Решение задач»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Тип урока: Урок-проблема  «Жить или курить»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1332000" y="3213000"/>
            <a:ext cx="640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700280"/>
            <a:ext cx="79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100000"/>
              </a:lnSpc>
              <a:spcBef>
                <a:spcPts val="7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Цели урок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99360" indent="-99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.   Актуализировать личностный смысл учащихся  к изучению темы учебного материала «Проценты», помочь развить познавательный интерес к вычислению процен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9360" indent="-99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.  Способствовать грамотному усвоению темы «Проценты» на приме­рах решения задач по вычислению процентов, отработке практических на­выков в вычислении процен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9360" indent="-99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3.  Содействовать сознательному пониманию актуальности вопроса в современной жизни «Жить или курить?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9360" indent="-9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4.  Содействовать развитию у школьников умения выделять главное в понимании поставленного вопроса, расширению знаний о вреде курения и понятии «здоровый образ жизни»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Задачи урока: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 организовать деятельность учащихся по обобщению знаний и способов деятельности при закреплении умения решения задач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вызвать интерес учащихся к занятию, придать ему проблемно-творческий характер, что отвечает личностным интересам и пот­ребностям учащихс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развить у учащихся потребность в творческой деятельности, в самовыражении через различные виды работ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. Организационно-деятельностные аспекты ориентированного урок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риентация на формирование де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рганизация     развивающего     пространства     (обеспечение развивающего потенциала урока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I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. Создание условия для развития субъектной позиции учеников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туализация и обогащение субъектного опыта ученик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активности учащихся в учебной деятельност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е условий для развития готовности к самоопределени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II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. Проявление личностно ориентированной позиции педагог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явление ценностного отношения к личности учащих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ализация учителем н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дагогических функций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V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. Обеспечение личностно-гуманных взаимоотношений между участниками учебного процесс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рганизация   равноправного   партнерского   общения   в   ходе учебного взаимодейств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е благоприятного психологического климата на уроке, атмосферы доброжелательности и комфорт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е атмосферы сотрудничеств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Вопросы анкеты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урят ли родите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урит брат или сестр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бовал(а) ли ты сам(а) курить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уришь ли ты сейчас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ебе это нравитс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Устный счет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  Прочитать число и представить в виде процент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0,5;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/2;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0,17;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,01;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/5;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1/25;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/4;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0,01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  Представить процент в виде дроб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3%;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%;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5%;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1,3%;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12%;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0,3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102,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102,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102,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102,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102,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102,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102,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102,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Задача №1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абачном дыме одной сигареты содержится много ядовитых веществ,  разрушающих организм.  Определите % содержание самых ядовитых веществ - синильной кислоты, табачного дегтя, окиси углерода, полония, - в одной сигарете, если никотина 2%, а синильная кислота составляет 1/2 часть никотина; табачного дегтя в 7,5 раз больше, чем никотина; окись углерода составляет 3/5 от количества табачного дегтя, радиоактивный полоний составляет 2/3 от количества окиси углер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Ядовитые вещества, содержащиеся в табачном дыме одной сигареты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икотин – 2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нильная кислота – 1/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бачный деготь – в 7,5 р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&gt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ись углерода – 3/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диоактивный полоний – 2/3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2995560"/>
            <a:ext cx="64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012000" y="234756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356000" y="2347920"/>
            <a:ext cx="1656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732720" y="2347920"/>
            <a:ext cx="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3645000"/>
            <a:ext cx="648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7280" y="2347920"/>
            <a:ext cx="505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4148280"/>
            <a:ext cx="230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164360" y="3500280"/>
            <a:ext cx="0" cy="64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940360" y="350028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516720" y="400356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740720" y="400320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00720" y="4653000"/>
            <a:ext cx="1438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Ядовитые вещества, содержащиеся в табачном дыме одной сигареты: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икотин – 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2%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инильная кислота – 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1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абачный деготь – 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кись углерода – 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9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диоактивный полоний – 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6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Задача №2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Статистика показывает, что курящих подростков мальчиков - 60%, девочек - 40%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пределите, сколько курящих детей в школе, если в ней 450 мальчиков и 620 девочек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360" y="260280"/>
          <a:ext cx="8351640" cy="616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8351640" cy="61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915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едняя продолжительность жизни в России 56 лет . Курящие дети сокращают жизнь на 15%. Поэтому продолжительность жизни (предположительно) нынешних курящих детей 47,6 г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79640" y="2924280"/>
          <a:ext cx="5329080" cy="36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924280"/>
                    <a:ext cx="532908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8:11:05Z</dcterms:created>
  <dc:creator>Orlova</dc:creator>
  <dc:description/>
  <dc:language>en-US</dc:language>
  <cp:lastModifiedBy>Orlova</cp:lastModifiedBy>
  <dcterms:modified xsi:type="dcterms:W3CDTF">2008-11-10T17:15:05Z</dcterms:modified>
  <cp:revision>19</cp:revision>
  <dc:subject/>
  <dc:title>Жить или курить?</dc:title>
</cp:coreProperties>
</file>