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52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43.xml" ContentType="application/vnd.openxmlformats-officedocument.theme+xml"/>
  <Override PartName="/ppt/theme/theme55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24.png" ContentType="image/png"/>
  <Override PartName="/ppt/media/image1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33.png" ContentType="image/png"/>
  <Override PartName="/ppt/media/image8.png" ContentType="image/png"/>
  <Override PartName="/ppt/media/image39.jpeg" ContentType="image/jpeg"/>
  <Override PartName="/ppt/media/image23.png" ContentType="image/png"/>
  <Override PartName="/ppt/media/image12.jpeg" ContentType="image/jpeg"/>
  <Override PartName="/ppt/media/image34.png" ContentType="image/png"/>
  <Override PartName="/ppt/media/image13.jpeg" ContentType="image/jpeg"/>
  <Override PartName="/ppt/media/image40.jpeg" ContentType="image/jpeg"/>
  <Override PartName="/ppt/media/image9.jpeg" ContentType="image/jpeg"/>
  <Override PartName="/ppt/media/image31.png" ContentType="image/png"/>
  <Override PartName="/ppt/media/image32.png" ContentType="image/png"/>
  <Override PartName="/ppt/media/image22.jpeg" ContentType="image/jpeg"/>
  <Override PartName="/ppt/media/image41.png" ContentType="image/png"/>
  <Override PartName="/ppt/media/image6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5.jpeg" ContentType="image/jpeg"/>
  <Override PartName="/ppt/media/image4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2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</p:sldMasterIdLst>
  <p:sldIdLst>
    <p:sldId id="256" r:id="rId57"/>
    <p:sldId id="257" r:id="rId58"/>
    <p:sldId id="258" r:id="rId59"/>
    <p:sldId id="259" r:id="rId60"/>
    <p:sldId id="260" r:id="rId61"/>
    <p:sldId id="261" r:id="rId62"/>
    <p:sldId id="262" r:id="rId63"/>
    <p:sldId id="263" r:id="rId64"/>
    <p:sldId id="264" r:id="rId65"/>
    <p:sldId id="265" r:id="rId66"/>
    <p:sldId id="266" r:id="rId67"/>
    <p:sldId id="267" r:id="rId68"/>
    <p:sldId id="268" r:id="rId69"/>
    <p:sldId id="269" r:id="rId70"/>
    <p:sldId id="270" r:id="rId71"/>
    <p:sldId id="271" r:id="rId72"/>
    <p:sldId id="272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" Target="slides/slide1.xml"/><Relationship Id="rId58" Type="http://schemas.openxmlformats.org/officeDocument/2006/relationships/slide" Target="slides/slide2.xml"/><Relationship Id="rId59" Type="http://schemas.openxmlformats.org/officeDocument/2006/relationships/slide" Target="slides/slide3.xml"/><Relationship Id="rId60" Type="http://schemas.openxmlformats.org/officeDocument/2006/relationships/slide" Target="slides/slide4.xml"/><Relationship Id="rId61" Type="http://schemas.openxmlformats.org/officeDocument/2006/relationships/slide" Target="slides/slide5.xml"/><Relationship Id="rId62" Type="http://schemas.openxmlformats.org/officeDocument/2006/relationships/slide" Target="slides/slide6.xml"/><Relationship Id="rId63" Type="http://schemas.openxmlformats.org/officeDocument/2006/relationships/slide" Target="slides/slide7.xml"/><Relationship Id="rId64" Type="http://schemas.openxmlformats.org/officeDocument/2006/relationships/slide" Target="slides/slide8.xml"/><Relationship Id="rId65" Type="http://schemas.openxmlformats.org/officeDocument/2006/relationships/slide" Target="slides/slide9.xml"/><Relationship Id="rId66" Type="http://schemas.openxmlformats.org/officeDocument/2006/relationships/slide" Target="slides/slide10.xml"/><Relationship Id="rId67" Type="http://schemas.openxmlformats.org/officeDocument/2006/relationships/slide" Target="slides/slide11.xml"/><Relationship Id="rId68" Type="http://schemas.openxmlformats.org/officeDocument/2006/relationships/slide" Target="slides/slide12.xml"/><Relationship Id="rId69" Type="http://schemas.openxmlformats.org/officeDocument/2006/relationships/slide" Target="slides/slide13.xml"/><Relationship Id="rId70" Type="http://schemas.openxmlformats.org/officeDocument/2006/relationships/slide" Target="slides/slide14.xml"/><Relationship Id="rId71" Type="http://schemas.openxmlformats.org/officeDocument/2006/relationships/slide" Target="slides/slide15.xml"/><Relationship Id="rId72" Type="http://schemas.openxmlformats.org/officeDocument/2006/relationships/slide" Target="slides/slide16.xml"/><Relationship Id="rId73" Type="http://schemas.openxmlformats.org/officeDocument/2006/relationships/slide" Target="slides/slide17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94C6-412C-468B-BFC6-F6871D711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3FC6-16E0-4538-90C3-7FA356E3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CF6DC-C3BB-480E-BDA8-14C40567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16D10-0481-4A7A-8DC8-A2A417F6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A77A5-FAE4-4394-A40C-18814FC1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012D0-4B5F-474A-B07E-38A254BD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F584CE-102D-4673-BA0A-87F2C853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765B2-9039-44E3-BCDB-AD90C245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3B191-B0FA-4CE2-BB5C-9E0438A3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70B20-73A5-4FD3-89F7-4EB215F4A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AAE86-55EF-41E2-8D73-3525D1AF2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4A429A-5EDB-4C8C-ACFF-6D5182FDB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55E2-602F-403E-9588-92696B475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79745-07B9-418E-A4A8-D905551E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FFF4D-BB19-4302-8E8E-4B4F1C03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14829F-28A5-4EBB-AA18-D7461282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21D90-160C-406A-9BF3-D946FC48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A8C09D-D3F4-4742-8D15-1C44221D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1D261-3C16-47FF-A1F1-282CBF89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DD2A8-F32C-4C03-B73B-1BE0A801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8C27A0-0554-4AA5-A0EE-0B822C89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16531-7B40-4B08-BFC7-4F3FBB98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01C441-F03C-4160-ACB3-4D91ACDF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264D-F1B8-4E7E-8081-1EC220BA3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7F33BE-335B-449A-AD3E-C14EEF172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65FA6-6230-4014-B237-A98DDEC5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6EB25-41DC-4E47-A494-C9E60A2C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4ED83-A5D9-4663-A455-A9AA6E91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4970E-FEB5-4E1D-B61F-2DF74824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2370F-596C-4EC2-8EC2-805248DB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5B185-D1F8-4104-B586-77ACABF2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52B63-BF4F-46F3-83CD-A9036012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F3B7A-CF85-43AA-9961-BB13B6AC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83C29-CF22-4903-AE4A-41D19EA6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FA9B-5B25-4ECB-AE6E-8FB739E3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098D2-A61B-4240-8F7C-6B9E270D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6A39D-6D8A-49E4-AEFC-DE43CD3DD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8DD24-33F9-45D5-AD1D-F16C205D5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C2B7FD-AEBF-4CD1-9761-374D98860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2EBFF-A902-487E-B120-7B8FAFEA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E9F02F-EB24-4229-99AA-088B21B2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AFF43F-1A20-4A0E-9A61-03815763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ABBBA-DCD0-4146-9C8B-41F65253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BF7FC9-955E-4D9D-85F2-EC8B2B2E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0CD03E-E48A-4F85-A977-BFF0B3F0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A3BD-2704-4B90-8E38-AB11547F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99206F-913E-4B7F-90C1-AFE28BD0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DB959-6A14-4A77-A428-832620A0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1F5184-A205-413A-97C4-BD87875D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8DF227-1586-4C95-90CB-8F173F4C2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68D9D5-6118-43B7-AC5C-D1D4AEDBF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9E78E9-87FB-42E0-911B-1EA753468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BC4981-AD73-47A9-8C38-37593AA3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54EC31-35E0-42F3-B673-EC131479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A13B7F-D25C-4E61-BA66-B3F4B474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8E084D-BD35-4566-99B1-FF5830F5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51F9-7D4C-4751-99FE-987052ED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86B890-C0CF-4CA1-9C99-AB5A9FB0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B0C4E3-FF06-4979-9441-4C19B489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9A1E11-2EF8-4061-A591-4FD5595F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0338A4-EC32-4D69-9402-2C1B95C8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AC1901-9BDF-4D00-B863-E0332D97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9F1106-A37B-4A98-9603-8D27AC662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C7FC4A-323F-4C96-9EB8-F3984C6E4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8F6663-BB6F-45B5-BF7B-98F0ABB81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762C8E-A263-462E-B6EC-0B987210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8FF16C-DCAE-42F9-8CE5-3BA509D1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C121-5B19-45DE-BABC-9BB46A95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9A8978-C4EB-42FD-A603-01151E4B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EF41F8-CBBE-498A-9307-54C21EB0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8DECEE-4F6C-433D-A40A-D3DD6081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2F2478-C182-4E89-8832-2628C209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D0E525-316B-43C3-BF4A-4524BB7C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3D4C01-5C3C-42EA-89CC-84ED3384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565759-F75D-43A7-B670-6FCC51C4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93E054-4FB2-4FD8-B7C4-4B90CC047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07DABD-5505-4A79-AE09-D3E8D3AB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220151-E2E4-473E-A6B1-2263CFE94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A3E2-EC9C-4712-B659-4C632109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A1583E-5F8E-4DCE-8AE4-95909577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0D5F86-F8CE-454E-B0E5-90D5CA9A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835FDE-EE45-41A6-801D-27A60021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4AC581-E633-4D61-BE89-3AA92DC8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2DD782-D4D0-444E-A877-E4C102FD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6F6C97-0B66-4A0F-AE3C-5A7F420E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280506-B151-41F8-96D6-09C28C0F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E67760-08EC-47FE-A3F8-A6BED912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98352F-9318-4E37-9D10-878464D0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F16CF0-093D-49FA-8AC3-73A45BD37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652B-F085-44B2-98AC-21C8663A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842CA2-9F88-4B84-92B3-A37BCCFC6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236F59-003F-4787-879A-A14CAE67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543B90-7A1C-4D05-AC79-83978C44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4EE766-C2E7-4F0D-8121-4903AF2C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516BF9-D972-40DE-8A4B-0C408B1A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8FA8C3-6BAF-4E1B-9F33-7A44606A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64BABC-5F2A-4553-9264-649CED89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5146DA-058A-4727-A82E-A4B6EBF7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2B9E19-2F35-4898-80AC-52F8D833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B08EC0-C155-49D9-B733-D3F830E4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9FA5-3ADC-4EFF-954A-A9E7AB8A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9AE053-5980-4A4C-93C7-0491E4B6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E93801-DA74-4E5F-A47A-F8BA34E82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AC8F62-27E8-4F5E-BECE-D59A7C864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2C975C-1A8D-47DD-A433-6799B7081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B57D7E-2938-4058-823B-73C65BF4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514A44-C651-43AA-BAC8-D9E3D798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769C4D-6C17-448F-BB83-3829AA96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1901FF-0766-44CD-9FCA-7F2CB271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DA83ED-8D00-4D94-B946-C4417D7F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7AE725-87E6-4BF3-BDE5-31D0AE48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F3E4-5079-45A1-A2B5-2C59DD31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B4CD-F6EF-45FD-9B1F-C48B0E1A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776493-B5AC-40DD-B4F2-2374EC7F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4BAA64-1D28-4DD9-B603-67547D75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F0425C-4F6C-4A71-AF2D-C14595AC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6B2D2D-F61F-4785-BD19-27D1DA51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DE03A8-35EE-459C-9A54-29665EC68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FCA65B-DD26-445C-8153-85DF68784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B071E1-9183-4C25-A96F-30DB06C4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87C62C-2710-4AD0-AB9C-B6EB5F94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E291E9-DD7B-471C-9839-9B41D8A5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1A1123-27D0-49FB-86E1-218F6A84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07C9-BC0E-4178-A66F-49F347DF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C67688-688E-4079-913C-185A4356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79F94D-8366-4302-AD76-6C592D05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966A26-3A0B-43B6-8209-24CB45C7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F0642E-CB65-43D9-BB80-B515C98F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2B7661-5A64-45C8-B462-3DC3C1BF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05857D-67AB-49FA-A3AF-88072CE01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73B2D6-3286-444F-8B20-A3F48EC58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502154-4B26-4773-81E5-7B4648440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3BF5D0-15E3-421B-A97B-E3399598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360334-32D7-4C01-A705-A34B0C48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EAA2-1143-4DEE-9972-58CFCC41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B845A8-428E-4255-B3B5-576B03B6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1033A7-9583-4F66-B04A-AA3D7340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D11B45-FB8C-4514-BAA2-490CD2E8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0F92A0-1569-4979-8B04-EBF05D2C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061553-493A-4A04-9830-E888644F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5125A0-5447-4D24-AB53-58F9CC83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4E5B01-E56E-4024-A605-DB3F50E1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E83A03-95A5-43D2-8FC1-40FB42D17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84163D-5D9C-48F1-8AC4-31FC1B91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F1E0C6-5401-4F3A-A8B4-DC01014B6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D6A8-13B6-40FC-B1CE-7DDEF8F98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C41AA7-0139-478B-AAD1-A272A856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CF5FC1-CD1D-43AC-9039-34157ED2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063750-C19A-4138-A31C-587C079C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C17D08-962E-412A-9352-9A3ED1ED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90877A-69DC-4E4D-8D76-DAA813C3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CAE919-6A3F-4BD4-9F48-A11A070B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959219-9CFB-458C-ABF7-5FAB5399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A10EA8-57BA-4381-85FA-9FEFC9FF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FD18CE-2F88-4757-A4C2-163DB3D7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1FE4CE-A60F-4133-B2E0-5E3B6898F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BDA5-914E-48A1-8C57-0F7FE7FB4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E49694-63AE-4375-89CB-5497C66C1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DC634A-7892-47C3-AF51-93F6FD136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E918FD-AF43-430B-86F3-723114A5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3AB381-F36C-461A-A437-5DA576D7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D6A264-C90B-4EFA-A5C0-78D56132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28D9BD-8023-4DE2-B184-659A7A3C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330EED-5933-4CED-BB06-2E0B827F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41553F-152E-462C-B284-D9F344C1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6E994C-188D-492D-A129-58ABF795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551D60-488E-498C-B341-D0BFBECC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77E97-F42C-4334-A87E-C9BAEE0B5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5CAC50-18BF-4E88-ABC4-D24C0761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196F82-F779-4B72-8387-563355969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C838EE-CCB8-4ADC-AAC9-E529AF19F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9F456E-6E70-4EC0-84B3-45D890B1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96010E-A885-4D43-A7B1-C7B75B37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5D8510-977A-4340-93BC-AD1EEEED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F43545-F0CE-4B67-939B-04D2B30B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412B5B-91E9-48C1-AAFF-FECF0623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194B7A-79D4-4B23-9C39-415C6A80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49CA6A-069E-428E-8AB3-07DE6F20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921FA-2B69-4237-955D-38DD176F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D377CD-85F0-4BA4-A325-757AA88C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4AE38F-5859-4900-B41A-7A507788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FDF92A-55A5-439A-9F6A-631122E8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0BAF40-B668-4E97-B0C6-59BDA3C0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2C962F-A2C9-4FDA-ADE9-DB8A191E5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BD1E4D-C34B-4EC5-9072-70F8450BE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5B9FB9-7E5F-47C4-A5D3-C55522EF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5C09BF-6E34-4144-B226-1499C693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5D744E-480C-4005-B578-7CD6888F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AFF608-313B-4DD5-8A8C-310203CA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E5FAD-6707-44DE-A42E-EE2B6207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B2E491-8DC0-44B8-B5C4-5CDE30EF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7F64FE-549E-4BCC-B091-8FFC4737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54A93B-9ECE-4EEE-883F-262A2580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A30AE5-EE79-4913-9B08-98E794FF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6E2535-A153-4D21-9608-6201CD50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E59B5D-0BC2-4B3A-BF1E-176E43E24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F6D629-6E0B-4069-BDF2-D7F2E4A16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8B5BF2-8D98-455D-B484-C4914AC3A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5DDBAC-D0A9-4895-B20F-F8E7D159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757576-A5B8-4D80-AB19-B8D1913D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C39C1-E547-47BD-9EA4-CE26B2EB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93075C-30A7-4442-8110-2B196A10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E60A98-622C-47EB-B0EF-C5FBAD3C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E5AAA5-0198-489D-BA0A-ED4EDDBC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A0C988-9179-44B3-BFB6-B57A840E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598851-C057-40F9-96C2-74C2A718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C31BDE-EDF4-4F3E-AEF7-05959909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D24607-930E-4072-B1A3-1DFFBA44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A58544-1DCD-481A-BBF1-3842EEBEF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E783FE-3B81-49E6-AAE1-94CCA5634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B3FB33-F4CB-4F02-BCFF-328ABE11D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4C6BB-D178-4DEA-B51F-ADD37AA9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487E33D-4A7D-41AA-8FD0-C35FF08C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A9C178-AD57-4AD8-8DCB-852E4EF2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B1DC5D-3A94-4163-86F9-09D34835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7ACA15-FC54-40D1-9426-F3DBC74E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0D0F546-0D49-4A0A-817C-0BA3781E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6A67F0-77E5-4D76-935D-EAD478A3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7C68050-E94F-4F21-B2E5-FDF87A0C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13EFEF2-747A-4ECF-8E5F-18689979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4C13B5-CC67-4395-9EF3-7A2515F7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2A814D-D821-43B4-A55C-671298754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8EA9-B3A5-4DF3-B3D7-AB5EC56F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9D2A1-1336-45B9-BFDC-E64F7346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45CA81C-190C-4428-A5FE-A3A74E0CF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E67B46-B38A-4350-973F-182397F84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7B00F5-1BCE-4555-84E9-680DD107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29F495-15C4-4C2B-91D4-E1BF5702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EF4D8D1-DD7B-4A8A-9AD3-5862EA14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B69B91-BE41-4CCD-8489-902298B7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37613FB-4C54-461D-B6AD-2CA5DA26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0C663EB-6B9F-4672-AE04-073FDAEB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F24BC7D-DB4A-49E4-967B-9FDF4CE1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B962410-3D69-470D-8565-AFE0D682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5832D-44A9-497B-9375-F6B6D4DA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3AD43FB-09E5-4D1F-A748-3CBDF803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E1ECCB-E068-4453-BE52-2131932B1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1FD35A-3EB1-4B84-B6EF-26725EB90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2E54556-D744-40E4-A57A-7EF25F4E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820927-B9D9-4F55-B7A9-F02F477B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9EF93C-FC6B-44FA-B773-4A2E0355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3DDCD50-5D95-4886-B14B-28410CE6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EAA7DC1-9C38-4132-B76E-95A50A0B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4C6F4D4-FD03-4391-A42A-0439ACA0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6900934-DFED-4E92-84BA-7B9AAAB3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3A286-132D-4B3C-AD7D-DF1B47B2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70C82E1-BC47-4909-94A0-FC817F0F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9A9CD6D-CB65-4DB5-A1B6-00C8A29D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69FF6E7-239A-4606-A918-1C732ABD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99DF448-D19B-4ED4-9756-2B58B372D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8650D1-76EC-4117-BF77-890E69BE2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9505B3A-D2B1-41DC-9ADE-CBC98352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1949639-5904-417E-98A7-6333D797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F8BC6B-4730-4B2E-BEC8-129FCA01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1669DCA-9221-4479-8D59-9F7B346F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6B44473-27C1-42DD-B89D-06582363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8BD8B-BC7B-4347-A721-38E6634D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09E83FD-066A-42F3-B481-59A72D09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99BC66-BB53-47A6-BC7F-18B07C48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6A54191-836F-4527-8D1A-8F10F330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C3B38CA-9858-4C0E-A845-E3FD520D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1A66566-6C4F-4B0F-8C67-BDEC14C3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6BAEBC2-5929-4230-81C7-C8A78C166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CD41929-B4C5-4161-BFCA-BC1D1626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0C7C7EA-D0DA-47A1-A7C1-A39134BDB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A60B901-B31A-4319-AABE-6C2AEAE9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0DEC20A-A2F2-462F-9A4E-BE861868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0329D-75FF-4E7E-B697-CAA84709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14FD123-DC72-4B67-812C-407788B7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AF09A54-3F7D-4B57-A410-CEA61C65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DDDCAC3-0420-4415-8A09-1262441C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B882877-39B3-4141-BEE4-09632DDE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0B2D55A-9B52-4731-9B06-B062C10A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D21F6B7-5277-4523-A802-B031D47F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AECE693-A447-40A0-8070-E46FD014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6885041-BD79-46AB-B689-89ECDE928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56EF0EE-8145-49D2-ACE3-9A44DB637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971C268-836F-43E4-922F-0A513E734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FCF20-37BF-450A-B711-D774132C2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2D4D999-2A0F-44EB-8FD7-1D9C738F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B16060C-FE5A-44D2-A828-F212B374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35B3172-C3DE-40B5-8681-E760BD62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EEFBDDB-E851-4F00-8A98-DBFEB5CA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5A74D8C-FD4D-4026-BD13-C8CC388E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1DDB190-F40A-4B2A-BE7A-86977EAC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05D6C31-4C41-4A2A-8317-D05AA7F4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FBC1CDE-524F-493B-B874-B06FDACC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738A890-B5E1-4D1A-A650-84C12BAE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B95C364-3438-44A1-829F-852748B23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0DFFE-CC29-4597-9566-6D61707EF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9016779-9996-4DA1-8E1C-9C0417932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C164637-5D65-4602-B0B6-098844E08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B3C5524-C078-4035-AD0C-4E150F95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AA8AF05-2D6C-41F8-93A2-AA751609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C631427-42FD-40A9-A36C-90AB0732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5AB1463-37C7-433F-8DE3-51BEFCAD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9B2DD0E-8C1D-465C-BDDA-A711DFDA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A83D4DE-97D9-4C4E-BD24-42F98041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1ACDE92-3161-41D7-B137-D76C93FC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4DFA1D9-6057-49D5-9B9C-718FC079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24FB0-9DF0-4B94-AEB8-94FCEDF54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E2F1518-AC9C-4A14-BE7E-ECD26637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C3930A8-C104-4212-89E7-E4128007C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548D3F7-FB2A-43E0-B324-03E40552C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BEA1E79-6EEB-49B8-822A-A48FC824B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32C51DC-91B0-42B1-AFC7-9186A372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A65C458-2339-4DAB-AE5F-2378654B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EFF0ECD-FFA5-4D65-AFD1-ED702290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9EBCB66-31CD-472D-8560-C380EBDC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BEFE0AF-2B42-4FB8-93AB-7AE12C5D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2E72933-6582-4D7C-9928-D1427B9E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AB089-14D4-40DC-88F2-438D6562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B1EAED6-DA19-4543-B352-31654D5F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42E561C-4441-4FBF-B5AC-78444EE4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3F62AEC-C0DB-46A2-AFB0-040FAE96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C98D3DC-6B96-4FCA-AF1B-23546F7B8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CDF19C9-2215-43B5-BCFE-3627FF209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FA00CC4-244F-41B7-8985-683FA152B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9E1F5CC-A6AA-40B7-AF8A-B52C13C3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368A886-E0B5-4A21-9AB4-F7E0BC69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B173C5B-83D2-455B-8678-7F999D8C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CC3C7AD-77BB-47CE-91EA-6CCD9B96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BE403-BC2B-4A48-81C6-6B91ABD3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97ABCE4-A070-4FAD-BA2B-8D0F1431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BF25340-F78D-41A9-81D9-39B4B4BE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A5CC86C-D089-4776-8306-03DC4083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DC97CFC-AD7E-4BDB-82D4-C1FF1C48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CD45D43-8065-4C68-A7FF-5174F1B7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13518E3-49E6-46CA-8622-DE07CE32D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BD4E6C6-9C90-4851-82C5-1ED7881FB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389FD45-E4ED-40BB-9A23-A6DFFB500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EDF4789-F91B-4716-9CC3-DADF1F31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97F6EA1-964A-4D13-A110-62C7DBA6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1BAE-D38D-4D1F-B93E-5C799CB2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409A6-FB7E-42D8-970A-A24CF385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D66EDD8-23D0-40B8-AFC0-E565EBA5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090CE49-2290-4254-83B3-49208602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6C3BFEB-2134-47FE-988E-B4B5499C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8EEC7CF-3DE4-4C3C-8EF2-B15E0CFC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F65E7E0-3055-4907-B6FA-0C26C020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9AB5F59-CD4D-4B0B-A8D2-C32A83BF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0F329BA-A35F-465A-A669-F266483E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47D8E0E-CB21-4E21-98E7-50E54E35C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952CFF8-D3E1-4273-90BC-C1500D51F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6907684-6779-4829-9866-2F6B15DA7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4C652-5593-4A6F-AD8F-E87C8149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236ECD6-F9B5-41DB-A82E-22855925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2FB268B-6C72-4906-9D1E-E45C96CE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DDB2ED9-ECAC-4452-B8E7-7F98E36C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70BF8C4-1039-4BFC-A274-5A1043A6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76418ED-2909-41FC-9672-2B7FDD69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1BDB216-AEA8-4913-BB25-66125728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D5FCC2B-7D7D-440A-AD9D-23FB4848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CE23E9C-C547-424B-9748-F4B58B1D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F1D0C03-B795-4AFE-923C-33935934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258E230-C367-48EB-99E8-EC2E05B8A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B94C7-E9D3-4E0B-97FF-04A26485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8F3BBF8-CA97-4B5E-B94E-211411EBF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38FCB4A-F9D1-4459-9227-6F9AE5557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37E567F-8207-4DEF-9811-FF5B527F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23293DF-636D-4198-9516-866C9BBB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1B1B035-74F2-4796-9234-8EED06B5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0A9D9D1-623B-482D-A7FB-DCB3D064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3420761-64D1-4F42-98E9-3C505C09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80478DF-5B6B-4FF1-B4E9-5EF2993E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5BE5429-9D1A-4F7B-B1AE-9AA02956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B7238FD-3815-47EE-814C-FE8B223B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0584D-FD14-48BA-A5FD-177B373B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03CDBAE-34BD-4EBE-9D26-2E5A5B9C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3B94D59-1880-4A17-B21F-6EE108FEF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1B6A060-2DF5-403B-BDDA-C1D3CE4B0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C8E39AF-5A5B-4D57-8FEB-0915DDCE1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1E1F0F9-AA46-4D46-BEA5-B1A0B228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F8EC479-19F2-4D69-99A6-3A174BD1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88EBA9F-E5D2-4810-804F-2FC89941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51612A2-8B05-4AC5-8028-D4EC79AF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4D9E580-9E38-4B29-9874-48A2B1E2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E86E802-A590-42D6-8347-76BFDD0B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99DF0-4C20-4CA3-A492-0DE5292B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A12C524-A6B2-4E55-A2DC-35CDE3FA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30506FD-94F1-4485-B9E8-99CC701E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7ECCE85-9A60-45B4-91F6-3AF4962B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A5C4C45-A1D1-4942-9636-0DBAECD30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DDAEC80-E0E9-4147-B4D7-FAC566C7F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6022ABD-2228-4767-9ED1-BE72E47FF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C734C90-E94F-449F-8484-ED08425D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48FC07D-0460-4EB2-AE7E-CAD1DEE0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5C9B1AA-931C-4D1A-9D59-78E47F13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5A9761F-26FE-4632-9472-4CC33BFB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FEBCA-BB47-417B-8D38-2AE30120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0F5F9AC-13A3-4BED-9151-1F94FAF0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F668E20-BAE9-407B-9B38-FADEC6A6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64CDFCD-6D23-4C06-88FC-500BEE08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E706C90-1883-4E6F-BBE8-0A04D787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B6994AD-1CA8-4A18-8379-6456395E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98D4912-21CB-4F04-952B-020200886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6C6392D-9C7A-4871-BA34-82895EBF6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0202979-3307-4D9B-93E6-875703C6A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180131D-EA3D-4ACE-8A26-E87B9D41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E2FC6D4-6E6B-4A10-AD65-2CD5CEAC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D081A-3203-4E41-B78B-4C3A542D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66A97F3-B871-491B-88C0-226D62FB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1804187-33A0-4160-BEA9-8A1A2B8A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BF973E0-16EB-4B6F-86A6-BA881ED2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A872A86-5091-494C-BF32-E47B83F5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BA63C82-2B4F-425B-AFFA-5203A293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CFDE634-3059-4310-A53D-5A04FA7F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BCF9F7E-985A-4610-89A2-5F200962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BEDD236-16FC-4D32-827F-11D87D4B9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04DA3C1-79B6-4685-A201-20F19C5DE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C2F0631-360C-4103-9BF6-534280A8A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73E90-0851-471D-914D-D11743E25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7FD694F-FDAE-419F-B834-A25E7BA9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7B3360F-C6F0-4D5A-A4EE-8E1E044A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E86C64A-C380-424D-AA74-E9238556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2A2BD4A-0585-4421-B3D5-8B89D9CD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09059B3-AD60-4D2A-8E84-4B4AD8D7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16564F0-2610-45F3-8221-ED07E09F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36B72D9-4B59-42BA-B36C-C08B1471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DE1835B-0B49-466C-B0B2-E870A832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05190CA-0A4A-428E-B5E3-C9185805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0B16126-0B31-4201-A65F-B7F7035FB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B88C6-9E8F-4D44-880F-AAD74EF3A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1A0627E-5838-4A16-B0E2-F85C24562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F8D7EF7-C908-4022-BC57-6AA4EE126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62274CB-B741-40E6-9550-4BFB3110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AEE2E22-730B-4AE3-9058-FA281A62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3118F7B-E91E-43D6-ACAB-43DA9B4A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BC1DC16-E43F-445E-ADC5-641632F6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00A8E06-0E9F-4FF9-9BCC-B74B48ED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23B999B-E104-4B2A-9F04-771C445C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8F8371A-8A5E-4B2C-B1D1-71456721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EF2FC1D-AA96-421A-BA0A-96C0BE00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3A459-9DD6-47EC-8D88-4DA25F494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3E78D24-587F-442B-999F-C25AF036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3C9EBE2-CDE5-44D2-A1BE-CFA71A64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A7AECEA-C3F1-443A-9D19-E6B39263A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79BB256-2547-4F99-9928-173AB1EF7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D866EC6-CDA7-43A7-9F9F-3DB9683C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FADA5FC-7FEF-4189-B7F2-DDA918BF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05143DF-1C65-4CB6-B9EE-3F3D2DED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A53C777-907B-446A-A469-F37E5507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0FD8B3E-696D-41A5-9087-2F859131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DA4EAAD-32CD-45AB-8D3C-9891BBB7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6656-CBEB-4B74-B686-03A8CB43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BC42D-BC4C-4809-831E-659B2239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8FC2473-CD89-4F15-A945-383E6BB9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B1F457F-DCD2-48F1-AEC5-4E3D8CAE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C88EAC3-2C34-4543-BFC9-718FE7D9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461F7E5-D71C-4457-B9B5-AA2C00548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A667419-7186-4F4A-B9E6-346FF90C7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74F6EBA-6F96-4FD2-ABB9-23A6DAC8A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43BE709-D959-4ABB-BE92-E8D32DA3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2EB7001-AA57-4F9E-8C1D-27FD3136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F4895F3-3B21-4A5C-9FFE-D216A2D5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44F9446-BFAF-4307-8B6E-F91DC7CF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9220A-F033-4A36-8932-D383F254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8A6AB1E-F1AF-4A33-8938-44DF8B66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DCA5AF4-6B3C-47B2-85D0-084B12B8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94E8CB4-7901-46D0-8863-59F6B6F3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07E9FBD-1D3D-4369-82F6-5D9AEF01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D134D76-C33D-4012-992C-01F399E5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3AF7F39-5982-4A78-BD75-85FDE044A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5D66668-F268-45D0-8D5A-B0CB7FFA7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0874379-FF31-48C6-9CE6-66FA55778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17E5AA1-3C4A-4B4F-9758-C7099C01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5F61B4B-9F8F-4B1A-A1A2-2E303719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6E58F-2467-43A2-80DE-95B5573D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3F24C93-79CF-4D22-A99F-5CF750AB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3841D44-F6C1-4C56-AD06-37F3E598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AF50BDD-CFBD-487A-B738-24AF91FE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42822EE-4D10-48FE-AFAC-9239D837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84752F1-C128-4F01-859C-DB3A9F6C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86BBBF5-FC48-4E5E-ABA9-2E54E04E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DC5B7E9-1F78-4968-A36A-5B0020D4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B44BEDD-CCB4-4909-9DAE-8A96BE79A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D067FF2-6BE1-4238-A41D-DD3CD794B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B88B5AE-8D0B-4629-8025-3D693C503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93078-0BE5-4809-B0E5-8ADE038A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C0F417A-80B4-4AE0-A390-1E1B2A1A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C62E6DF-A4FD-40C4-B144-EE3C637D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B09D792-1609-452E-A0BF-0E13E9DA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7B815A7-47E4-4763-A711-1BA1A4E9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2EDA438-BAD0-4726-BFE2-8CF958EC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02715E5-49D2-46FB-99F8-86BAED89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E8BFEAE-711B-4608-B662-D3468118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C33B6C7-BF5D-4F98-8413-5EB6313C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0889840-FCDD-4AF6-879D-CF7520A4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E439AB6-F74A-4C33-9B24-984EC6179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53818-7F09-453C-9366-FCD8F610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A802683-DBF3-4459-9FB8-388572FF1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F411C62-35B1-4F09-936E-B1F6D9BA7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C6F545A-2400-4D33-A354-C4BC506A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FEA0F3C-335F-4EAB-908A-5C629066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91BF808-DEA0-4EDA-B10F-41EC341F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CE55A33-B4E0-41C5-B06F-09984FE7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FE7898B-64C2-4E17-84BC-4D583BB0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DF4E4D2-BC4C-4F69-A734-5F9448D0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5B8E5B1-4A94-4F54-9901-41646AE8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69E3330-E738-4775-9462-6DDDFB13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96B3A-5C0D-4F05-917D-7FB4A715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833E9A1-9074-466D-9724-FD8216C2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58F3E63-9DC3-469A-B17F-89AA1ED50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D714171-80E1-45B1-8F2B-B9AD93A66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00B649D-6B89-47F2-A184-D89F2827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89AD0AF-1645-4C7C-A6A2-1702B663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D470097-9F62-40DA-96F6-3E31A223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7B2E61E-D5E2-4B87-83EE-7C159CB3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DD42267-F015-4F11-B3A7-3B310F29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784AC16-9658-4DE2-876E-8C8D7B14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8D78E1D-6CA2-4673-A7EC-CC6B36D3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BFEE0-057A-4FB0-86DD-C61B2DBF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4C48189-060F-41DD-8313-3B8A0FF1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1B8CB57-38FD-4BA4-9891-49728211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7A2B40D-5464-454B-A9BA-9E3ED0F9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6BFFE54-8425-4878-A989-52FE4CEF0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E20F62B-2665-4D50-9699-F768E0223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183D1F2-8F42-40A4-ADF9-585C2609E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51F03C8-8B2B-474A-A8D7-F8586E1E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7CB6416-9ED1-412D-8170-5B856A6C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4882AC7-035F-4781-BC1A-1F12C3AC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B4F69B1-6432-49C6-8C64-F1C77CD4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028D6-2FBA-424C-BEB3-05AA71C2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01249A3-0563-496C-9C87-7E73F480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D3F5DB4-3196-4ACE-8015-E7ACDB2E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A1F8F0F-3816-4F86-971E-3BEA0FE1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7C3B64A-1CF1-4329-8047-92D92BB7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D79462E-AB15-4A97-8EA0-88C7D83A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4EEBD69-234C-469A-AD4E-F13005CD8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BA3A4A1-D304-4754-9DDE-2FD2210D8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427A2FB-D06F-48A3-A65C-D2523333F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356618D-55A1-4F8B-8EC4-BA6617F9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39E66AE-8BFE-4E09-A122-65549A40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4D2D6-846E-4EE2-950F-55656B9A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27D5301-999A-4182-9B4D-6CD896B9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C55D500-D6BA-4BD7-8983-31787107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923BF77-837F-4034-B2FB-C7C11D56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BD9DFDD-4245-4605-A7C7-A581438A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032C140-9DFA-4020-A1E6-17878678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940DF4C-1230-4C2B-B667-F24B0310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C69C7F1-2356-45AF-B08F-21551223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E670907-A430-45DB-96CC-280C2C29C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919C47B-3EB2-4658-9313-204FB2AFC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C6B2415-5256-4328-9032-276141E06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AC0E7-3BAB-4288-AE7B-2EBF3DBC9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B5200D8-BAF9-40D1-96BA-323AA220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3AE6198-E3AA-4DC0-B10B-6B2D8EAC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404674A-1506-4DB6-9DF1-F410647F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73B06EA-EA9B-4060-8EB3-8F30B223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B2F98BD-64BD-4704-B6F8-253F6E91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AAA5FAD-6585-4089-9B30-A7D3D0DE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05B3786-F57D-4AC0-9365-2EF2F7D0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427B531-0065-4220-9DF9-D7EA0F2E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02F753C-B61A-4254-ACD4-E8D203F1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369620E-FB23-40AC-BB34-C7BDA6F0A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8316-81FC-409D-A9A9-870BF848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1C3D1-85A8-4368-B520-5E4394341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B53ED3F-53C8-4015-AB0A-92CEBB608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C7BE61B-FC1E-4829-A49B-A02A00EF9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E06B2A6-ED7D-42F5-8B5B-2154848F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BB1F391-2569-4892-AEE8-3443D131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F334E8E-6991-4983-BFAD-A5B4A0D9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DC32304-6895-4D11-83E2-8AE850B7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348BDD6-99D9-4557-8A2C-5678A919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490BFAF-B818-4CBD-A408-6F6F05CF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ACC972F-7A20-4100-8C40-91CFDFA8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C9D4A01-F33E-48E8-9701-5A3EC21F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7F9B7-C83D-48E4-974C-CE49B73B2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EABD80F-91B5-401B-A0D3-17701213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0A90526-CA73-499D-8623-3D72BF1FA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AF25627-5FC5-4841-8CAC-4B9C9359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D128FEA-DD71-402F-B373-FC1D1A1C6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EDC7C77-643C-4AEF-BD6E-36F12AD2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9AE5BB4-F81D-4047-A7CE-FC68D914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B5F906B-FB52-4CFB-BD26-7C133CA4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BDFD228-7094-43AD-AF74-3DA1A61E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2ADE51B-2AC2-44AD-BD11-B6618B65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B72731B-2FE8-4E49-B92F-49D08505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051EE-23CD-482F-849B-3C120905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85F6415-ED73-4AD3-865C-121F30BB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4F33374-A2DA-4942-BB2F-36E667F6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3BFAF13-88BD-4281-BB0B-EADBDE5E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230E414-0C81-471A-8B6B-34FB676F0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407999C-4C19-4C99-9C05-60F18B8D0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0FC783D-FFE7-41C3-BBD8-6CE0B8F58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EA4E40A-503D-4D1F-9BCF-E3B8E2B8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EA05B9D-9229-44EB-B828-8D003703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B51EF06-17FC-4EF6-8C22-E767C6CE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081F48B-9D09-4171-9AD3-95DBCE2E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5B188-C0ED-45D9-8170-922E51C0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8213175-819D-4D7D-BC57-568C7CBC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C44B8A8-D7B6-405C-9C5F-77A58F4F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786BA46-83C8-4C15-BA1A-57B9F308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0D061B2-B2D8-4E32-9523-261207A7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1F79416-81A0-487C-A7E6-B234A829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6FADDA6-D5AA-4C43-8DE5-F5E27D0E4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3347B03-619D-4110-AF47-0683DEA25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4815946-2F35-46EE-B194-FF0149029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51CB0A0-E408-485F-B47D-0AF9F937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599ED92-0B10-4ADB-AEE7-E31D42D1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7C046-F3A4-4A8B-A6A9-2551803F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F2A76C4-88D5-4A61-BD65-472E1E7B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90E0097-8331-4A0C-801F-20DD07FC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9842943-E691-4234-9C4B-FBFC2EEC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AD4CCDE-5352-4E28-ACF3-4D96ABAB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A4F3859-1847-4099-9A7D-30C116B0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751441A-3BA6-46F7-8F6F-0E989DC6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1251AC3-2359-4AD3-AF13-8BDF9871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4C8AB65-DF76-4BB7-AB3A-8C50C73F4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5857B64-145A-4953-A318-C27C302B7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7B56BC0-B891-4215-896F-08F524327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1006F-1C67-4CD4-A124-CAB5C202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871AF39-2C5C-4D5C-81AA-B5F2543B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BC178F8-0F44-47AC-8FF6-28573CEE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50CF095-B025-4958-B1A9-5AD4FF25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4BD59DD-7E96-4B9E-A488-921E6C01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78E6BB0-11B4-4B61-9EB8-C11B5DC4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EC8C0E4-2347-426A-AD8C-05A7BEA4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688BE12-A84B-4874-A0B8-1E4EE77F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27C8393-35D0-4DB4-A36D-0E84BD01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41C2389-E950-4329-ADD2-FECFE436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BBFB6E7-665E-4C57-9B7C-114EB4CEA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EF7D2-D7FE-40D9-B346-F0B35EC4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45CBEEF-E38C-4C61-AE1C-CC5EB6F85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3B751-02E7-47AA-A273-A19EFCF3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3F9BD-5E24-44D7-8E42-337D42DC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EB7D8-D94A-4C4E-9BA8-5714DEF5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3FA4-3DD3-4D3F-AD50-87E1E0C6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BFE1E-0C28-46B1-B19B-642D9DE5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12220-AFF8-403C-B518-41F2FF8E5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57474-5DE1-487D-99F2-6446A62D7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6E79C-BA9A-4CC1-A086-09818A008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4E39E-4985-4A25-9E15-489A25AB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8DBF2-870B-4DAF-882E-C7836ECA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C4AE6-8D84-44A3-921C-61C7EE97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A9383-E10B-4329-B73D-986853BE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3BC5F-7CBE-49E7-A3D2-8586B6F0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E41E6-1DB4-4D5B-96CA-CA9C22DE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38EC-383D-4A69-9DF1-75ECDAA2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6E572-16F9-4104-A502-17C1656C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920D8-4D52-419C-8962-F7976876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61E21-3AAD-40CD-9A6F-6B2FE623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B267E-9437-4A2A-BC15-A0927DC7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B3CE9-DEBC-4D78-A16C-AE32443EA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B3918-C141-49D7-B3D6-5759450E2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2F698-2364-4793-8AE6-AA2F4D05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47E53-0248-4161-814B-B29FCF86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81166-8999-4749-A8D1-0369B8AB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22F17-8F7A-4FDF-BBD9-FE78074F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9582-6C2F-4531-9B8E-DEE9D944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AACE1-FF11-4A86-B32C-C01251AD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D714E-E69F-419E-AE10-03A63CDF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D2352-3D05-4EA5-A164-EC7B4291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AA4A8-418C-4461-8CDA-571AD6F7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4888E-BFE2-42D7-8AC0-9A1AC220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0E7CA-9C6D-4BEA-A9C6-4E9501F61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B280D-753A-41F8-BEA3-967D2CA00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7DB4A-D771-41E2-887E-E55055F5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8977B-37BB-4FD7-8989-B6F3274B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0EB24-2925-48FF-84D6-9B1235DE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9FB6-2FA5-4CF9-ADCF-230A8CDC74A0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D2BB-4004-44C5-AC78-68F877BC2518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23C7-6011-415B-B1E6-B9DB53FDA807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8D39-5746-45DD-AC2E-8A22B29B0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FBB6-F50B-45B9-96C6-40484E932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3917-8CF3-4DA7-A39B-3310818E0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601E-3CA9-489F-B1D1-3888DF68A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CDC4-D8C3-4400-970B-F61648064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68E8-6A29-4008-98FD-20EA5AE9F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107C-5627-4838-9EC8-91D08B82D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E7E3-2FD4-4987-BD53-C250BE1D7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2C4B-4AD4-4358-BC43-ABCC1B1F9A81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80E1-DD12-4BA1-8A7C-090889024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06CA-6D54-4C57-9F28-9519DF233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9DF2-096E-4090-8BDF-1E7068DC3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B841-9F78-422F-AC17-07CC4A1B3F75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8D29-1CD3-431B-8E5B-75B8674AA801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FD6F-C9DB-4030-B743-3B4ADDCDC4E0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97DB-6961-4912-B41A-DC7CFE1884E9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059B-F64D-4146-A43D-40E62B8EF302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CD2F-0820-48B4-9A5D-EF6073A05CF3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F8FC-2DA7-4DF2-9E9C-ED2C17821826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9A19-1B91-4D04-B030-91794EC0073E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CD35-7502-442C-AE19-4207FE4E1325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DF53-9E58-45B4-9764-AD9CD7103AF4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67FD-ED7E-4A13-ABD7-D64F60CC8660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B5F8-2BAB-4954-B7B8-6E70F52B696E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3A0C-8F66-4492-95BC-9DD3B411DFF2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22C7-0B34-470C-BE30-D62A0D800501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32FF-D0C4-4383-8D9D-114511BE5854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99B0-9648-45AB-A115-706D256832AC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DA40-D660-49D4-A002-BA3ED2B921C2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1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1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1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A5F9-4BA5-4B0A-BDB9-6D075D207F05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FE55-9B79-41EF-8921-893E44A5423D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1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1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1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1998-6C54-4344-86D9-E97833FC5D05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1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1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39E9-97C8-400F-A162-DB5369F74353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dt" idx="1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ftr" idx="1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sldNum" idx="1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31A6-4138-4C22-B8B6-4DF6CC787E8D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 type="dt" idx="1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 type="ftr" idx="1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 type="sldNum" idx="1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DD99-CC4B-43A1-8557-723C22CADF4C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 type="dt" idx="1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 type="ftr" idx="1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 type="sldNum" idx="1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317D-68B2-4AA4-BF69-6BDBC0C0FB39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 type="dt" idx="1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 type="ftr" idx="1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 type="sldNum" idx="1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89FD-59EF-4992-8F1B-856BD02C171D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dt" idx="1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ftr" idx="1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 type="sldNum" idx="1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2B4C-0CE4-4974-B70A-F5192FCFB1D5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 type="dt" idx="1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 type="ftr" idx="1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 type="sldNum" idx="1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DE40-91AD-45BD-9E0C-157721593316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 type="dt" idx="1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 type="ftr" idx="1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 type="sldNum" idx="1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E1EB-FCA6-4A3F-BE43-273A9433C2BB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ftr" idx="1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sldNum" idx="1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1DDA-44E8-4D3E-8C6B-A41D72AA6ECD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42B3-CC96-4CCE-8516-7312FCE9B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 type="dt" idx="1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 type="ftr" idx="1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 type="sldNum" idx="1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DBED-10B5-4527-A139-F24976B29AE8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 type="dt" idx="1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 type="ftr" idx="15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5"/>
          <p:cNvSpPr>
            <a:spLocks noGrp="1"/>
          </p:cNvSpPr>
          <p:nvPr>
            <p:ph type="sldNum" idx="15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25A2-F726-46D7-A31F-BAE06EE8A5CE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 type="dt" idx="1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 type="ftr" idx="1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 type="sldNum" idx="15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88A0-3DE2-4A1A-8157-BA54D22CD71A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 type="dt" idx="1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 type="ftr" idx="1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5"/>
          <p:cNvSpPr>
            <a:spLocks noGrp="1"/>
          </p:cNvSpPr>
          <p:nvPr>
            <p:ph type="sldNum" idx="1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DCCA-9206-4138-938C-A6B0CC62ACDD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dt" idx="1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ftr" idx="1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 type="sldNum" idx="1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DE9B-3B3D-4AE1-909B-382295F191AC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 type="dt" idx="1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 type="ftr" idx="1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 type="sldNum" idx="1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D66C-7150-47BE-8E23-9CF880B31B92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106B-6D4C-42A7-8E9A-F2DF8D25B6BB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79AA-DB6E-48C1-AD89-950CE6A98B28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CCB9-362B-4789-9F7D-1AD986772348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D4A1-3AC4-4857-8E74-BE796145A8B1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image" Target="../media/image37.jpe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7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1331640" y="1915920"/>
            <a:ext cx="678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доровьесберегающие технолог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6" name="Прямоугольник 1"/>
          <p:cNvSpPr/>
          <p:nvPr/>
        </p:nvSpPr>
        <p:spPr>
          <a:xfrm flipV="1" rot="10800000">
            <a:off x="2263680" y="4632840"/>
            <a:ext cx="567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Составит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воспитатель МБДОУ №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«Дружные ребят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Величко М.А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у-джо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8" name="Объект 3" descr=""/>
          <p:cNvPicPr/>
          <p:nvPr/>
        </p:nvPicPr>
        <p:blipFill>
          <a:blip r:embed="rId2"/>
          <a:stretch/>
        </p:blipFill>
        <p:spPr>
          <a:xfrm>
            <a:off x="549360" y="1757520"/>
            <a:ext cx="8137440" cy="49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9" name="Объект 3" descr=""/>
          <p:cNvPicPr/>
          <p:nvPr/>
        </p:nvPicPr>
        <p:blipFill>
          <a:blip r:embed="rId1"/>
          <a:srcRect l="-1036" t="0" r="-1036" b="0"/>
          <a:stretch/>
        </p:blipFill>
        <p:spPr>
          <a:xfrm>
            <a:off x="1116000" y="1417680"/>
            <a:ext cx="6985080" cy="4603680"/>
          </a:xfrm>
          <a:prstGeom prst="rect">
            <a:avLst/>
          </a:prstGeom>
          <a:ln w="0">
            <a:noFill/>
          </a:ln>
        </p:spPr>
      </p:pic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альчиковая гимна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инамические пауз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2" name="Объект 3" descr=""/>
          <p:cNvPicPr/>
          <p:nvPr/>
        </p:nvPicPr>
        <p:blipFill>
          <a:blip r:embed="rId2"/>
          <a:stretch/>
        </p:blipFill>
        <p:spPr>
          <a:xfrm>
            <a:off x="1692360" y="1816200"/>
            <a:ext cx="62643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650880" y="1155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рригирующая гимна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4" name="Объект 3" descr=""/>
          <p:cNvPicPr/>
          <p:nvPr/>
        </p:nvPicPr>
        <p:blipFill>
          <a:blip r:embed="rId1"/>
          <a:stretch/>
        </p:blipFill>
        <p:spPr>
          <a:xfrm>
            <a:off x="281160" y="963720"/>
            <a:ext cx="4162320" cy="2701800"/>
          </a:xfrm>
          <a:prstGeom prst="rect">
            <a:avLst/>
          </a:prstGeom>
          <a:ln w="0">
            <a:noFill/>
          </a:ln>
        </p:spPr>
      </p:pic>
      <p:pic>
        <p:nvPicPr>
          <p:cNvPr id="2285" name="Рисунок 6" descr=""/>
          <p:cNvPicPr/>
          <p:nvPr/>
        </p:nvPicPr>
        <p:blipFill>
          <a:blip r:embed="rId2"/>
          <a:srcRect l="0" t="0" r="-1596" b="0"/>
          <a:stretch/>
        </p:blipFill>
        <p:spPr>
          <a:xfrm>
            <a:off x="2394000" y="4005360"/>
            <a:ext cx="4100400" cy="2576520"/>
          </a:xfrm>
          <a:prstGeom prst="rect">
            <a:avLst/>
          </a:prstGeom>
          <a:ln w="0">
            <a:noFill/>
          </a:ln>
        </p:spPr>
      </p:pic>
      <p:pic>
        <p:nvPicPr>
          <p:cNvPr id="2286" name="Рисунок 1" descr=""/>
          <p:cNvPicPr/>
          <p:nvPr/>
        </p:nvPicPr>
        <p:blipFill>
          <a:blip r:embed="rId3"/>
          <a:stretch/>
        </p:blipFill>
        <p:spPr>
          <a:xfrm>
            <a:off x="4788000" y="982800"/>
            <a:ext cx="409248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ПСИХОГИМНАСТИКА</a:t>
            </a:r>
            <a:br>
              <a:rPr sz="4400"/>
            </a:b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   Д/и «Азбука настроений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»                                  Пиктограм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8" name="Picture 2" descr="C:\Users\Владелец\Desktop\МО\sc0000.bmp"/>
          <p:cNvPicPr/>
          <p:nvPr/>
        </p:nvPicPr>
        <p:blipFill>
          <a:blip r:embed="rId2"/>
          <a:stretch/>
        </p:blipFill>
        <p:spPr>
          <a:xfrm rot="20119200">
            <a:off x="1801800" y="1566360"/>
            <a:ext cx="1674720" cy="2367000"/>
          </a:xfrm>
          <a:prstGeom prst="rect">
            <a:avLst/>
          </a:prstGeom>
          <a:ln w="0">
            <a:noFill/>
          </a:ln>
        </p:spPr>
      </p:pic>
      <p:pic>
        <p:nvPicPr>
          <p:cNvPr id="2289" name="Picture 3" descr="C:\Users\Владелец\Desktop\МО\sc0001.bmp"/>
          <p:cNvPicPr/>
          <p:nvPr/>
        </p:nvPicPr>
        <p:blipFill>
          <a:blip r:embed="rId3"/>
          <a:stretch/>
        </p:blipFill>
        <p:spPr>
          <a:xfrm>
            <a:off x="3419640" y="1484280"/>
            <a:ext cx="2114280" cy="1531800"/>
          </a:xfrm>
          <a:prstGeom prst="rect">
            <a:avLst/>
          </a:prstGeom>
          <a:ln w="0">
            <a:noFill/>
          </a:ln>
        </p:spPr>
      </p:pic>
      <p:pic>
        <p:nvPicPr>
          <p:cNvPr id="2290" name="Picture 4" descr="C:\Users\Владелец\Desktop\МО\sc0002.bmp"/>
          <p:cNvPicPr/>
          <p:nvPr/>
        </p:nvPicPr>
        <p:blipFill>
          <a:blip r:embed="rId4"/>
          <a:stretch/>
        </p:blipFill>
        <p:spPr>
          <a:xfrm rot="20298600">
            <a:off x="1692000" y="4233960"/>
            <a:ext cx="2360520" cy="2239920"/>
          </a:xfrm>
          <a:prstGeom prst="rect">
            <a:avLst/>
          </a:prstGeom>
          <a:ln w="0">
            <a:noFill/>
          </a:ln>
        </p:spPr>
      </p:pic>
      <p:pic>
        <p:nvPicPr>
          <p:cNvPr id="2291" name="Picture 5" descr="C:\Users\Владелец\Desktop\МО\sc0003.bmp"/>
          <p:cNvPicPr/>
          <p:nvPr/>
        </p:nvPicPr>
        <p:blipFill>
          <a:blip r:embed="rId5"/>
          <a:stretch/>
        </p:blipFill>
        <p:spPr>
          <a:xfrm rot="20632200">
            <a:off x="3733920" y="3063960"/>
            <a:ext cx="1879560" cy="2536920"/>
          </a:xfrm>
          <a:prstGeom prst="rect">
            <a:avLst/>
          </a:prstGeom>
          <a:ln w="0">
            <a:noFill/>
          </a:ln>
        </p:spPr>
      </p:pic>
      <p:pic>
        <p:nvPicPr>
          <p:cNvPr id="2292" name="Picture 6" descr="C:\Users\Владелец\Desktop\МО\sc0008.bmp"/>
          <p:cNvPicPr/>
          <p:nvPr/>
        </p:nvPicPr>
        <p:blipFill>
          <a:blip r:embed="rId6"/>
          <a:stretch/>
        </p:blipFill>
        <p:spPr>
          <a:xfrm>
            <a:off x="6192720" y="1382760"/>
            <a:ext cx="1729080" cy="1668240"/>
          </a:xfrm>
          <a:prstGeom prst="rect">
            <a:avLst/>
          </a:prstGeom>
          <a:ln w="0">
            <a:noFill/>
          </a:ln>
        </p:spPr>
      </p:pic>
      <p:pic>
        <p:nvPicPr>
          <p:cNvPr id="2293" name="Picture 2" descr="C:\Users\Владелец\Desktop\МО\sc0009.bmp"/>
          <p:cNvPicPr/>
          <p:nvPr/>
        </p:nvPicPr>
        <p:blipFill>
          <a:blip r:embed="rId7"/>
          <a:stretch/>
        </p:blipFill>
        <p:spPr>
          <a:xfrm rot="20430600">
            <a:off x="7157520" y="3006360"/>
            <a:ext cx="1724040" cy="1741320"/>
          </a:xfrm>
          <a:prstGeom prst="rect">
            <a:avLst/>
          </a:prstGeom>
          <a:ln w="0">
            <a:noFill/>
          </a:ln>
        </p:spPr>
      </p:pic>
      <p:pic>
        <p:nvPicPr>
          <p:cNvPr id="2294" name="Picture 3" descr="C:\Users\Владелец\Desktop\МО\sc0010.bmp"/>
          <p:cNvPicPr/>
          <p:nvPr/>
        </p:nvPicPr>
        <p:blipFill>
          <a:blip r:embed="rId8"/>
          <a:stretch/>
        </p:blipFill>
        <p:spPr>
          <a:xfrm rot="1255800">
            <a:off x="5994360" y="4443480"/>
            <a:ext cx="184464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/И «Маски»                               Кубик  эмо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6" name="Picture 2" descr="C:\Users\Владелец\Desktop\МО\sc0004.bmp"/>
          <p:cNvPicPr/>
          <p:nvPr/>
        </p:nvPicPr>
        <p:blipFill>
          <a:blip r:embed="rId2"/>
          <a:srcRect l="0" t="-1043" r="0" b="0"/>
          <a:stretch/>
        </p:blipFill>
        <p:spPr>
          <a:xfrm rot="20935800">
            <a:off x="324000" y="1699920"/>
            <a:ext cx="1958760" cy="2408040"/>
          </a:xfrm>
          <a:prstGeom prst="rect">
            <a:avLst/>
          </a:prstGeom>
          <a:ln w="0">
            <a:noFill/>
          </a:ln>
        </p:spPr>
      </p:pic>
      <p:pic>
        <p:nvPicPr>
          <p:cNvPr id="2297" name="Picture 3" descr="C:\Users\Владелец\Desktop\МО\sc0005.bmp"/>
          <p:cNvPicPr/>
          <p:nvPr/>
        </p:nvPicPr>
        <p:blipFill>
          <a:blip r:embed="rId3"/>
          <a:stretch/>
        </p:blipFill>
        <p:spPr>
          <a:xfrm rot="724800">
            <a:off x="2187720" y="1677960"/>
            <a:ext cx="2117520" cy="2544840"/>
          </a:xfrm>
          <a:prstGeom prst="rect">
            <a:avLst/>
          </a:prstGeom>
          <a:ln w="0">
            <a:noFill/>
          </a:ln>
        </p:spPr>
      </p:pic>
      <p:pic>
        <p:nvPicPr>
          <p:cNvPr id="2298" name="Picture 4" descr="C:\Users\Владелец\Desktop\МО\sc0006.bmp"/>
          <p:cNvPicPr/>
          <p:nvPr/>
        </p:nvPicPr>
        <p:blipFill>
          <a:blip r:embed="rId4"/>
          <a:stretch/>
        </p:blipFill>
        <p:spPr>
          <a:xfrm>
            <a:off x="30240" y="3687840"/>
            <a:ext cx="2914560" cy="3017880"/>
          </a:xfrm>
          <a:prstGeom prst="rect">
            <a:avLst/>
          </a:prstGeom>
          <a:ln w="0">
            <a:noFill/>
          </a:ln>
        </p:spPr>
      </p:pic>
      <p:pic>
        <p:nvPicPr>
          <p:cNvPr id="2299" name="Picture 5" descr="C:\Users\Владелец\Desktop\МО\sc0007.bmp"/>
          <p:cNvPicPr/>
          <p:nvPr/>
        </p:nvPicPr>
        <p:blipFill>
          <a:blip r:embed="rId5"/>
          <a:srcRect l="0" t="-5479" r="0" b="0"/>
          <a:stretch/>
        </p:blipFill>
        <p:spPr>
          <a:xfrm rot="267000">
            <a:off x="2332080" y="3995640"/>
            <a:ext cx="2125800" cy="2784600"/>
          </a:xfrm>
          <a:prstGeom prst="rect">
            <a:avLst/>
          </a:prstGeom>
          <a:ln w="0">
            <a:noFill/>
          </a:ln>
        </p:spPr>
      </p:pic>
      <p:pic>
        <p:nvPicPr>
          <p:cNvPr id="2300" name="Рисунок 7" descr="C:\Users\Владелец\Desktop\картинки\эмоции\sc0000.bmp"/>
          <p:cNvPicPr/>
          <p:nvPr/>
        </p:nvPicPr>
        <p:blipFill>
          <a:blip r:embed="rId6"/>
          <a:stretch/>
        </p:blipFill>
        <p:spPr>
          <a:xfrm>
            <a:off x="5473800" y="817560"/>
            <a:ext cx="2249280" cy="2249640"/>
          </a:xfrm>
          <a:prstGeom prst="rect">
            <a:avLst/>
          </a:prstGeom>
          <a:ln w="0">
            <a:noFill/>
          </a:ln>
        </p:spPr>
      </p:pic>
      <p:pic>
        <p:nvPicPr>
          <p:cNvPr id="2301" name="Picture 6" descr="F:\флешка белая\эмоции 2\вина.jpg"/>
          <p:cNvPicPr/>
          <p:nvPr/>
        </p:nvPicPr>
        <p:blipFill>
          <a:blip r:embed="rId7"/>
          <a:stretch/>
        </p:blipFill>
        <p:spPr>
          <a:xfrm rot="21235800">
            <a:off x="4638600" y="3722760"/>
            <a:ext cx="1406520" cy="1962000"/>
          </a:xfrm>
          <a:prstGeom prst="rect">
            <a:avLst/>
          </a:prstGeom>
          <a:ln w="0">
            <a:noFill/>
          </a:ln>
        </p:spPr>
      </p:pic>
      <p:pic>
        <p:nvPicPr>
          <p:cNvPr id="2302" name="Picture 7" descr="F:\флешка белая\эмоции 2\гордость.jpg"/>
          <p:cNvPicPr/>
          <p:nvPr/>
        </p:nvPicPr>
        <p:blipFill>
          <a:blip r:embed="rId8"/>
          <a:stretch/>
        </p:blipFill>
        <p:spPr>
          <a:xfrm>
            <a:off x="5999040" y="3622680"/>
            <a:ext cx="1592280" cy="2168640"/>
          </a:xfrm>
          <a:prstGeom prst="rect">
            <a:avLst/>
          </a:prstGeom>
          <a:ln w="0">
            <a:noFill/>
          </a:ln>
        </p:spPr>
      </p:pic>
      <p:pic>
        <p:nvPicPr>
          <p:cNvPr id="2303" name="Picture 8" descr="F:\флешка белая\эмоции 2\злость.jpg"/>
          <p:cNvPicPr/>
          <p:nvPr/>
        </p:nvPicPr>
        <p:blipFill>
          <a:blip r:embed="rId9"/>
          <a:stretch/>
        </p:blipFill>
        <p:spPr>
          <a:xfrm rot="637800">
            <a:off x="7644960" y="3855600"/>
            <a:ext cx="1314360" cy="1755720"/>
          </a:xfrm>
          <a:prstGeom prst="rect">
            <a:avLst/>
          </a:prstGeom>
          <a:ln w="0">
            <a:noFill/>
          </a:ln>
        </p:spPr>
      </p:pic>
      <p:sp>
        <p:nvSpPr>
          <p:cNvPr id="2304" name="Прямая соединительная линия 2"/>
          <p:cNvSpPr/>
          <p:nvPr/>
        </p:nvSpPr>
        <p:spPr>
          <a:xfrm>
            <a:off x="5796000" y="1284120"/>
            <a:ext cx="720720" cy="41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5" name="Прямая соединительная линия 6"/>
          <p:cNvSpPr/>
          <p:nvPr/>
        </p:nvSpPr>
        <p:spPr>
          <a:xfrm flipV="1">
            <a:off x="6516720" y="1492200"/>
            <a:ext cx="863640" cy="20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Прямая соединительная линия 19"/>
          <p:cNvSpPr/>
          <p:nvPr/>
        </p:nvSpPr>
        <p:spPr>
          <a:xfrm flipV="1">
            <a:off x="5827680" y="1179000"/>
            <a:ext cx="865080" cy="1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Прямая соединительная линия 22"/>
          <p:cNvSpPr/>
          <p:nvPr/>
        </p:nvSpPr>
        <p:spPr>
          <a:xfrm flipV="1">
            <a:off x="6516720" y="2421000"/>
            <a:ext cx="863640" cy="20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8" name="Прямая соединительная линия 23"/>
          <p:cNvSpPr/>
          <p:nvPr/>
        </p:nvSpPr>
        <p:spPr>
          <a:xfrm>
            <a:off x="5827680" y="2271600"/>
            <a:ext cx="65088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Прямая соединительная линия 24"/>
          <p:cNvSpPr/>
          <p:nvPr/>
        </p:nvSpPr>
        <p:spPr>
          <a:xfrm>
            <a:off x="5827680" y="1325520"/>
            <a:ext cx="0" cy="9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Прямая соединительная линия 27"/>
          <p:cNvSpPr/>
          <p:nvPr/>
        </p:nvSpPr>
        <p:spPr>
          <a:xfrm>
            <a:off x="6692760" y="1179360"/>
            <a:ext cx="669960" cy="34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Прямая соединительная линия 30"/>
          <p:cNvSpPr/>
          <p:nvPr/>
        </p:nvSpPr>
        <p:spPr>
          <a:xfrm>
            <a:off x="7362720" y="1521000"/>
            <a:ext cx="0" cy="90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Прямая соединительная линия 31"/>
          <p:cNvSpPr/>
          <p:nvPr/>
        </p:nvSpPr>
        <p:spPr>
          <a:xfrm flipV="1">
            <a:off x="6478560" y="1700280"/>
            <a:ext cx="0" cy="9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TextBox 28"/>
          <p:cNvSpPr/>
          <p:nvPr/>
        </p:nvSpPr>
        <p:spPr>
          <a:xfrm>
            <a:off x="4932360" y="3213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Д/И «Эмоци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2077920" y="-6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040"/>
                </a:solidFill>
                <a:latin typeface="Calibri"/>
              </a:rPr>
              <a:t>Гимнастика для гла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5" name="Picture 8" descr="H:\птички\DSC_0099.JPG"/>
          <p:cNvPicPr/>
          <p:nvPr/>
        </p:nvPicPr>
        <p:blipFill>
          <a:blip r:embed="rId2"/>
          <a:stretch/>
        </p:blipFill>
        <p:spPr>
          <a:xfrm>
            <a:off x="2077920" y="1413000"/>
            <a:ext cx="2454480" cy="2813040"/>
          </a:xfrm>
          <a:prstGeom prst="rect">
            <a:avLst/>
          </a:prstGeom>
          <a:ln w="0">
            <a:noFill/>
          </a:ln>
        </p:spPr>
      </p:pic>
      <p:pic>
        <p:nvPicPr>
          <p:cNvPr id="2316" name="Рисунок 1" descr=""/>
          <p:cNvPicPr/>
          <p:nvPr/>
        </p:nvPicPr>
        <p:blipFill>
          <a:blip r:embed="rId3"/>
          <a:stretch/>
        </p:blipFill>
        <p:spPr>
          <a:xfrm>
            <a:off x="4786200" y="3468600"/>
            <a:ext cx="252252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лагодарю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8" name=""/>
          <p:cNvSpPr txBox="1"/>
          <p:nvPr/>
        </p:nvSpPr>
        <p:spPr>
          <a:xfrm>
            <a:off x="457200" y="207180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9" name="Picture 10" descr="http://www.topglobus.ru/skin/smile/s6123.gif"/>
          <p:cNvPicPr/>
          <p:nvPr/>
        </p:nvPicPr>
        <p:blipFill>
          <a:blip r:embed="rId2"/>
          <a:stretch/>
        </p:blipFill>
        <p:spPr>
          <a:xfrm>
            <a:off x="3059280" y="2951280"/>
            <a:ext cx="31780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чи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"/>
          <p:cNvSpPr txBox="1"/>
          <p:nvPr/>
        </p:nvSpPr>
        <p:spPr>
          <a:xfrm>
            <a:off x="394920" y="1196640"/>
            <a:ext cx="83026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вышение умственной и физической работоспособ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храна нервной системы, снятие психического и нервного напряж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ормирование умения регулировать мышечный тонус, освобождение от мышечных зажим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имулирование речевых зон коры головного мозг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ормирование орального праксис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вершенствование общей и мелкой моторик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вышение резервов дыхательной сист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филактика нарушений зр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здание благоприятного эмоционального фо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2286000" y="18900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040"/>
                </a:solidFill>
                <a:latin typeface="Calibri"/>
              </a:rPr>
              <a:t>Основные принцип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0" name=""/>
          <p:cNvSpPr txBox="1"/>
          <p:nvPr/>
        </p:nvSpPr>
        <p:spPr>
          <a:xfrm>
            <a:off x="900000" y="1125000"/>
            <a:ext cx="7786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доступности (использование здоровьесберегающих технологий в соответствии с возрастом детей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систематичности (реализация оздоровительных мероприятий постоянно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оптимальности (разумно сбалансированная психофизическая нагрузка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последовательности (последовательное усложнение и увеличение нагрузки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комплексного воздействия на все анализато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совместного педагогического воздействия (учителя – логопеда, воспитателя, физинструктора, музыкального руководителя, педагога – психолога, родителей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1" name="Объект 1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4395960" cy="2808000"/>
          </a:xfrm>
          <a:prstGeom prst="rect">
            <a:avLst/>
          </a:prstGeom>
          <a:ln w="0">
            <a:noFill/>
          </a:ln>
        </p:spPr>
      </p:pic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663480" y="0"/>
            <a:ext cx="82296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альчиковые иг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3" name="Рисунок 1" descr=""/>
          <p:cNvPicPr/>
          <p:nvPr/>
        </p:nvPicPr>
        <p:blipFill>
          <a:blip r:embed="rId3"/>
          <a:stretch/>
        </p:blipFill>
        <p:spPr>
          <a:xfrm>
            <a:off x="3348000" y="3357720"/>
            <a:ext cx="537696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41112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Шнуровк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5" name="Picture 4" descr="C:\Users\Владелец\Desktop\МО\sc0002 (3).bmp"/>
          <p:cNvPicPr/>
          <p:nvPr/>
        </p:nvPicPr>
        <p:blipFill>
          <a:blip r:embed="rId2"/>
          <a:stretch/>
        </p:blipFill>
        <p:spPr>
          <a:xfrm rot="20493000">
            <a:off x="2823840" y="3657240"/>
            <a:ext cx="2705040" cy="2133720"/>
          </a:xfrm>
          <a:prstGeom prst="rect">
            <a:avLst/>
          </a:prstGeom>
          <a:ln w="0">
            <a:noFill/>
          </a:ln>
        </p:spPr>
      </p:pic>
      <p:pic>
        <p:nvPicPr>
          <p:cNvPr id="2266" name="Рисунок 3" descr=""/>
          <p:cNvPicPr/>
          <p:nvPr/>
        </p:nvPicPr>
        <p:blipFill>
          <a:blip r:embed="rId3"/>
          <a:stretch/>
        </p:blipFill>
        <p:spPr>
          <a:xfrm rot="789000">
            <a:off x="576000" y="1969920"/>
            <a:ext cx="2401920" cy="1879920"/>
          </a:xfrm>
          <a:prstGeom prst="rect">
            <a:avLst/>
          </a:prstGeom>
          <a:ln w="0">
            <a:noFill/>
          </a:ln>
        </p:spPr>
      </p:pic>
      <p:pic>
        <p:nvPicPr>
          <p:cNvPr id="2267" name="Рисунок 1" descr=""/>
          <p:cNvPicPr/>
          <p:nvPr/>
        </p:nvPicPr>
        <p:blipFill>
          <a:blip r:embed="rId4"/>
          <a:stretch/>
        </p:blipFill>
        <p:spPr>
          <a:xfrm>
            <a:off x="5937120" y="1415880"/>
            <a:ext cx="3157560" cy="53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ноцветные бу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9" name="Объект 1" descr=""/>
          <p:cNvPicPr/>
          <p:nvPr/>
        </p:nvPicPr>
        <p:blipFill>
          <a:blip r:embed="rId2"/>
          <a:stretch/>
        </p:blipFill>
        <p:spPr>
          <a:xfrm>
            <a:off x="457200" y="1773360"/>
            <a:ext cx="822960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741240" y="0"/>
            <a:ext cx="80028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404040"/>
                </a:solidFill>
                <a:latin typeface="Calibri"/>
              </a:rPr>
              <a:t>Театр перчат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1" name="Объект 1" descr=""/>
          <p:cNvPicPr/>
          <p:nvPr/>
        </p:nvPicPr>
        <p:blipFill>
          <a:blip r:embed="rId2"/>
          <a:stretch/>
        </p:blipFill>
        <p:spPr>
          <a:xfrm>
            <a:off x="3600360" y="2538360"/>
            <a:ext cx="5146920" cy="3826080"/>
          </a:xfrm>
          <a:prstGeom prst="rect">
            <a:avLst/>
          </a:prstGeom>
          <a:ln w="0">
            <a:noFill/>
          </a:ln>
        </p:spPr>
      </p:pic>
      <p:pic>
        <p:nvPicPr>
          <p:cNvPr id="2272" name="Рисунок 1" descr=""/>
          <p:cNvPicPr/>
          <p:nvPr/>
        </p:nvPicPr>
        <p:blipFill>
          <a:blip r:embed="rId3"/>
          <a:stretch/>
        </p:blipFill>
        <p:spPr>
          <a:xfrm rot="20872200">
            <a:off x="250560" y="1349280"/>
            <a:ext cx="3960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Calibri"/>
              </a:rPr>
              <a:t>               </a:t>
            </a:r>
            <a:r>
              <a:rPr b="1" lang="ru-RU" sz="4400" spc="-1" strike="noStrike">
                <a:solidFill>
                  <a:srgbClr val="404040"/>
                </a:solidFill>
                <a:latin typeface="Calibri"/>
              </a:rPr>
              <a:t>Шаблон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4" name="Объект 1" descr=""/>
          <p:cNvPicPr/>
          <p:nvPr/>
        </p:nvPicPr>
        <p:blipFill>
          <a:blip r:embed="rId2"/>
          <a:stretch/>
        </p:blipFill>
        <p:spPr>
          <a:xfrm rot="297600">
            <a:off x="549360" y="1599840"/>
            <a:ext cx="804528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040"/>
                </a:solidFill>
                <a:latin typeface="Calibri"/>
              </a:rPr>
              <a:t>Игры с прищепк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6" name="Объект 2" descr=""/>
          <p:cNvPicPr/>
          <p:nvPr/>
        </p:nvPicPr>
        <p:blipFill>
          <a:blip r:embed="rId2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3T21:07:48Z</dcterms:created>
  <dc:creator>Владелец</dc:creator>
  <dc:description/>
  <dc:language>en-US</dc:language>
  <cp:lastModifiedBy>Никита</cp:lastModifiedBy>
  <dcterms:modified xsi:type="dcterms:W3CDTF">2016-11-30T03:56:43Z</dcterms:modified>
  <cp:revision>80</cp:revision>
  <dc:subject/>
  <dc:title>Презентация PowerPoint</dc:title>
</cp:coreProperties>
</file>