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33.png" ContentType="image/png"/>
  <Override PartName="/ppt/media/image8.png" ContentType="image/png"/>
  <Override PartName="/ppt/media/image39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22.jpeg" ContentType="image/jpeg"/>
  <Override PartName="/ppt/media/image41.png" ContentType="image/png"/>
  <Override PartName="/ppt/media/image6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sldIdLst>
    <p:sldId id="256" r:id="rId57"/>
    <p:sldId id="257" r:id="rId58"/>
    <p:sldId id="258" r:id="rId59"/>
    <p:sldId id="259" r:id="rId60"/>
    <p:sldId id="260" r:id="rId61"/>
    <p:sldId id="261" r:id="rId62"/>
    <p:sldId id="262" r:id="rId63"/>
    <p:sldId id="263" r:id="rId64"/>
    <p:sldId id="264" r:id="rId65"/>
    <p:sldId id="265" r:id="rId66"/>
    <p:sldId id="266" r:id="rId67"/>
    <p:sldId id="267" r:id="rId68"/>
    <p:sldId id="268" r:id="rId69"/>
    <p:sldId id="269" r:id="rId70"/>
    <p:sldId id="270" r:id="rId71"/>
    <p:sldId id="271" r:id="rId72"/>
    <p:sldId id="27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" Target="slides/slide1.xml"/><Relationship Id="rId58" Type="http://schemas.openxmlformats.org/officeDocument/2006/relationships/slide" Target="slides/slide2.xml"/><Relationship Id="rId59" Type="http://schemas.openxmlformats.org/officeDocument/2006/relationships/slide" Target="slides/slide3.xml"/><Relationship Id="rId60" Type="http://schemas.openxmlformats.org/officeDocument/2006/relationships/slide" Target="slides/slide4.xml"/><Relationship Id="rId61" Type="http://schemas.openxmlformats.org/officeDocument/2006/relationships/slide" Target="slides/slide5.xml"/><Relationship Id="rId62" Type="http://schemas.openxmlformats.org/officeDocument/2006/relationships/slide" Target="slides/slide6.xml"/><Relationship Id="rId63" Type="http://schemas.openxmlformats.org/officeDocument/2006/relationships/slide" Target="slides/slide7.xml"/><Relationship Id="rId64" Type="http://schemas.openxmlformats.org/officeDocument/2006/relationships/slide" Target="slides/slide8.xml"/><Relationship Id="rId65" Type="http://schemas.openxmlformats.org/officeDocument/2006/relationships/slide" Target="slides/slide9.xml"/><Relationship Id="rId66" Type="http://schemas.openxmlformats.org/officeDocument/2006/relationships/slide" Target="slides/slide10.xml"/><Relationship Id="rId67" Type="http://schemas.openxmlformats.org/officeDocument/2006/relationships/slide" Target="slides/slide11.xml"/><Relationship Id="rId68" Type="http://schemas.openxmlformats.org/officeDocument/2006/relationships/slide" Target="slides/slide12.xml"/><Relationship Id="rId69" Type="http://schemas.openxmlformats.org/officeDocument/2006/relationships/slide" Target="slides/slide13.xml"/><Relationship Id="rId70" Type="http://schemas.openxmlformats.org/officeDocument/2006/relationships/slide" Target="slides/slide14.xml"/><Relationship Id="rId71" Type="http://schemas.openxmlformats.org/officeDocument/2006/relationships/slide" Target="slides/slide15.xml"/><Relationship Id="rId72" Type="http://schemas.openxmlformats.org/officeDocument/2006/relationships/slide" Target="slides/slide16.xml"/><Relationship Id="rId73" Type="http://schemas.openxmlformats.org/officeDocument/2006/relationships/slide" Target="slides/slide17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39B-B3A8-413D-9090-D61034F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E07-67A4-4FC2-B8F9-71AD769F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0B89-56BE-49FA-8906-4470140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E8B2-925C-47D2-9F8C-4BA9CB8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610A2-B218-4617-BF09-F67D4682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756AA-8F74-4700-81C3-1FAA40B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94494-532C-4400-ABF3-9FEF05D8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11C30-374F-4394-A6B8-013BA9D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1AAD-FF1C-4D7B-A641-F5A0DDD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3964-5C5A-4D02-A138-43A86FFB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CB25-020B-4407-A195-CC9FCEDF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E85D2-E32C-4567-98A2-F31A193E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0ED-B522-413F-B604-3C9119BE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7687-7056-4872-8BCF-E651C62A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1F415-BB1C-4BE4-9751-7EBDD70D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952A8-8DB0-4A52-9831-0AB3845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544F3-D451-49DE-B2C9-0BB1FE0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8F6B8-303F-41F8-9F10-D0EC20DB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0EDE9-6851-42A0-AD85-EAED007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52DAF-5A44-4D49-B5C0-1FA7199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62F7A-27D0-4973-8989-F0962E8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A8B0D-9BF8-4CB6-9617-D23F0B2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3845-3CE9-4FF2-A57C-A8211EA2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BBA-E48D-4093-8CF9-6FDA412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B87FE-4F2B-4A11-AF5C-6BBA6318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18537-5631-41E9-BEE9-B1B6E4C0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0F131-761A-43E0-AD5C-D5692D8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A138-01FE-439E-8CA6-2047290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1628-3D47-455E-82E9-945BB83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7567C-5DC1-4A3C-87A4-A12BCE1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D246-FAC6-420C-B95F-3E48F09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D9E53-302B-48BF-90F9-0B53E79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4EE5-6D02-46BA-B2C8-45D79F3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DE38D-65C0-4F0E-8E72-13E72CA9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C7A-B8C2-478E-9D31-60A559B8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2ED6-D7D5-4613-9D23-752B079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97BD5-966C-4382-B50B-0BFFBCB5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E007-2392-4236-81B2-C6ADB889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336B6-01C0-4BBA-B1C4-9EF386B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33D4C-0F20-4A72-8CB3-3489CA9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1920E-AD14-46BB-9AA9-CE8D9E4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1A982-874D-40A8-937A-F32638B1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B89C-9134-45EB-A506-EB31429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35488-B097-4890-9B4D-CE211AE0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668C9-A2E6-47D7-96F8-9D3AB1B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C8C-D42E-40CA-9698-62B2A44B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22E8-FE60-4248-BC58-E4D62C6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D62BA-B23A-463E-8213-77E67C0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A222C-B80C-4BB0-B52C-B995032E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D3B19-72B0-405E-A815-217C1C16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C0B5-0F09-45DD-81F1-E4BD2E0F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6FD10-6F58-4C6A-A3E0-A3903B5B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15651-08AF-4032-B7A7-6B24968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078BB-A067-4A85-9A71-3978B679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70FD0-4872-4870-AC5E-F7E6EE2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4EA24-5EB8-4EB9-8300-0C9DA597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DA7-99CC-4DC0-B441-72354AB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92706-BBFF-40D9-AEF6-8F2538A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FDEAD-9AB2-4638-A51D-14C6DEA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DB7A6-9713-49A5-8206-E607469F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5CAC2-02EF-41F2-9999-744FD24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41796-BE20-4914-8A15-D6B58BF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5CCB1-954F-4DDB-8144-63BAA4E6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81326-B132-42D7-9AED-6F5927ED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9EBEF-C665-4C60-89B8-71873B1C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8DBA3-6F13-4F35-AC2A-399730F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6E666-49C0-4B98-BBC7-14DE1AE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C5A4-5913-4B25-B619-F4297FE9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C26E1-DC36-4A58-946F-292C549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1EE7B-D6AE-4362-9623-D0DDABEA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6C246-2BA3-48C9-A214-48FCDCC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2B355-AC4D-4483-B312-0CC9522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2DDF3-1F1C-4350-88AD-6247466C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F7156-5980-4D39-8C6B-55408B0D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9022C-7029-48AA-A053-8F5A7790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FC5F0-0189-4A42-910A-EAAD5EB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4077A-4C6E-4839-BA80-083A1B9E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44055-0362-414F-B39D-5EAE61FC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879-37DB-4976-B708-797E957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71FC7-4015-4292-AB2B-6C61B48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D2808-5457-4037-899E-A90D92C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78388-EA90-47CE-BADF-EC33B2E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BBAB1-3187-4A35-917F-2C61EDC5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B0AA3-3873-413B-B290-A0509495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8E2FE-FB61-401E-8C88-ACEE2EC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86B58-7AF8-48F9-AFA3-B1287BD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76C67-9D74-4012-AE9D-0C82700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E51AD-C1C2-4A66-B517-B00980B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708E1-61EC-4A33-B3A1-B66FC9F3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CE45-7E27-4EE3-B1B9-FD2DB1A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CDDEA-B419-4302-8F0C-C3B1242B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6622F-D67C-4790-BBB2-6F6A220F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7FC47-CF69-47F4-9644-F1677EA3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D1B1B-C559-46B4-B468-49826079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0B1E7-3046-4FA2-A8E7-BD8BFF9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1617C-234F-4D71-808F-2A56E2B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18540-FF38-43D8-95E5-9D1BC1CA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DD4EF-5C44-4EC8-8F0E-3CD6EB1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9ED14-1D4B-42AB-A6A3-99C54FD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61F97-01C7-4935-87DC-4D316A3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F89-2973-4B11-BBDF-4E11E07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2D4AE-E1A1-4F3E-A366-56B0B772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39F94-D4D8-4F4B-8630-5E4E12E0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B1E7C-C284-4BE8-85AB-4C526DE4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F8F6D-7EA7-41CD-A756-A52DAD5D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0FF6B-E095-416C-A5F9-97BC5C07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CBDEC-5D2A-40C3-8D85-C37DE48C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85BE9-332E-4A47-AD06-AB9D207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2A7D0-6A3C-4405-AC60-9B23B3AD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DE099-C935-499B-B25B-34CAC37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C983F-E982-4CEA-8A95-A961168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CFC-E37F-43F7-BE54-84CAA74F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4D8-4F70-49EB-B927-A3720FF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57B8D-498A-4D40-A3D2-0F70A3D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BADC8-CA5E-47DF-8071-18123BE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7A543-2721-40D1-A895-DC711F8C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B0869-A20D-4B2D-BE70-99D46D8D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7A03A-DE33-42FE-8CB3-E39F28FF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1BEAA-F560-4B52-A105-03D6D75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53375-C0A1-415D-95FA-7B43160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46506-3B78-4343-B3C9-2A70ED3B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936FD-9C50-4580-B83E-0F4AEFD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FCD43-93C4-42F3-BD17-66375C60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E89-413F-4370-877B-7A8835A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42C08-F93F-48D4-9B57-0447819A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B8537-CC1E-4619-888F-73B4F34C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3FFA2-B835-4FCF-AA78-D91ED47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FA41A-B2BC-432A-8CDA-E848AFA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31E01-198E-4CD3-B320-FE3A754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29E06-17A8-4084-AA74-11664980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C3FD2-C068-4123-BA53-49AAB553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A31A09-4A91-40D3-9A72-C0322D9E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0073B-F86A-45FA-8DC9-F8A62D1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5E077-B6CB-4311-A9B4-BA4E1C3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6DF9-CA63-42F4-83C8-36A8478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77FB2-9F74-4ECF-BC18-F44B4CF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E0F4A-DDED-40AC-8D0D-293E8CC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BCC9C-F0FC-4E60-9A0A-5E78F18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41C28-8FB8-4695-A962-BCCE88E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3E287-CDB3-41A9-B064-91BA612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104B5-E69A-40F0-A699-00CFE6B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A1A84-82B9-443F-906F-00CAD1C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75D6D-A659-43CB-9634-6130944E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A5447-15D2-4905-A3E0-D565D0F5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15C12-E6A5-43C5-A5FC-81C0F16E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1035-BBFF-45F4-8955-D13BA76E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F86AD-4D1A-4775-931F-8272FD8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312838-21CE-42DB-907E-366F293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E0672-56DF-46F6-8FBC-28EE2A4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594A9-B356-41D8-9D1F-F5E3D97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D852B-D3A2-4629-9F79-FCCDA45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78C8E-3571-4E1D-BEF5-F64AE57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D2042-9C67-4B4D-ADDB-68A2276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A2403-8D12-4A86-90B2-9EC996A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470D5-DEF9-4A48-B411-0546075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F66B2-E935-418C-A709-EF333900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02E-6C5F-469E-BB89-B3B9810D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B6579-1605-4558-9A52-566AC4C3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9148A-E245-48BF-9025-150A5CAF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CB034-9FF5-4BA6-BC0C-7D27DC5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2F3E9-6F66-4A2A-82E7-ECF8C9E0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B4F656-820D-4291-A500-25C2933D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E25F9-87F0-451C-8BFE-F032B7B9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9D4045-FAA4-49C7-81AF-A399E7A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7E4C6-DA45-4FFE-87CB-ECBE09B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6324A4-DD32-4D7C-8DD0-7D300B7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EEDBB-D58A-482C-B9D4-D79E5751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9295-8EAC-4793-BB0D-B34491B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BA4C9-0AF4-4066-9648-7A34FA1E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A564B-8EFD-406D-8D24-3BA0727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E71AD-3FB2-4A8D-A815-D68B0941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FCFB6-528D-48A4-A29B-1D3F2657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5E41D-B802-4460-AC64-CA2CB3D4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48E87-AA38-4040-B2D2-26AF190B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6867B-D797-4401-B7F7-5383E35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43D360-13C4-4670-8EC2-BE1EFE8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456D7-BA39-426C-AFFB-34A2FD2D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45BA6-383A-482B-9085-1498394B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2B92-5B3E-4ACC-BEB1-20FAFF92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13F04-9698-484D-B29B-8664F5B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C016F-9FC5-4449-80CB-61485BB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30B1A-4CC6-4276-922A-A786C86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2A8AF-E26C-4AD9-89FF-4E913A54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544EE3-0BAC-49AA-8F53-9AC6381D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5287FE-C308-42C6-BB02-4396A71D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A1988F-78A2-439E-A3BD-C5C0FE40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0CEDC-9489-43EA-9444-0F111E1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474F1-E833-4A74-94AD-990EF108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DC791-37F4-4F48-BFE3-3C1C049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2031-812A-43AE-8827-DC9D586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70C7B1-A07D-4D5C-8808-94E4170A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B4BFF-DD41-428A-AFA0-AF3F62D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C7D14F-0267-4919-9D2E-DC7723C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F2172-DFD9-41D8-AFDE-5414BE8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A28ACC-5C05-45CD-AE3F-70A7E40B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2B274-2CAB-4E1A-89BC-AD31D1F7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32BBD-5287-4BD0-A8B9-DBF64E60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11A59B-8D62-40DC-98C7-E3B50C56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B5F46F-D0DD-4063-9940-2BF5EEB8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1CA89D-B93B-4896-A7A9-B38FA6F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926B-22FC-4891-91BB-E80954D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3A9280-A5D7-4577-92D4-AF382747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7947A9-E909-488A-8E91-D322F68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6DB38-7D58-4C4B-845E-44414B3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F640D1-5B5A-418C-8BC5-3D4546F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16C307-FEE1-41D2-86A8-A931B46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57E34E-C38D-49C9-A0CB-F03FAE0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A2655-3F80-4C0E-B3CA-890BBB5D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6B801-28AC-4F80-800C-1D32FD88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7FD556-C767-485A-AE27-B2171F8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AC1A58-2AAF-440E-8F77-27946048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4425-6167-47A1-ADB6-13FC8BBA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F4E42F-9F6A-430D-8A7B-3696599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E75490-BB5F-44CF-B12D-49A3916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710B59-E3BF-4766-8186-7503977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5213CA-490D-4B2C-A070-8027AAD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6FAA64-ACBC-4701-A3FF-E659CBB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84F175-5DD2-4775-ADED-92B9F0F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488DAA-F193-4FAA-8B54-A405E327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0F1F1D-E0BD-4099-9749-47230F3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EF47D-86BC-4FBD-B211-8AB2196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40165E-454A-40CA-BB25-D41EFC6B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764-15BD-4443-9AF4-37B1D09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E24D-C1FD-467E-A310-666EFF0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94159-4EEB-456F-A07E-5A3630F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01F1DF-3791-47CB-BAE0-F1247B40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D8BFA-9687-4B6A-8C5D-87E20FFE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4C7B4E-08DB-438E-9515-A90F7A87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F92BB9-9B77-447C-9346-A52DE59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320F20-3298-4242-AC2B-975EABE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21E135-DB5B-4C29-83B5-7D8FB1B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CE06C3-7A76-4E32-A1D6-2422F2C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1A2B1D-E3FC-4D09-A2C9-C589504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C7B22-58C7-4082-A747-5107642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65B3-ADDE-486F-AA1C-2D4290E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3CAB21-BB35-4CBF-9FE6-3703C84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19F514-30F1-40F2-AC7D-F6DCBFBD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7A4C3D-0523-479B-9711-7C64D827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FC0E03-289E-46D8-90D9-A02198DE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D9486B-2AAF-40E2-AFA9-440CEE6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A405DD-404B-40DD-B010-865B381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325DD3-163B-47DB-805E-AF98FC7E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3A6263-6A38-433A-B28A-1520822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88EFFA-1BA6-40B2-A8FF-3DDE755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456B89-F709-48C6-A7F2-EC12684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90D5-5DD1-4AF4-B46A-4B8B7DC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248691-E0DF-44D6-8D1E-75C1C7C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922449-85A8-44A1-8C2E-E8E8F55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9EAB57-13B5-4AA6-A342-F050242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BAC6FC-5686-49FF-BFE0-87DDB15B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333A8C-DCC9-4340-A40D-A507B01B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9CED64-51E8-48F0-815A-3C79275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B409E4-B78F-48D9-AA53-23A6C59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216EF6-D233-4536-BC80-7A19BDA8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D1D906-DC53-4F93-B7C3-39D7FAE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A7FFCA-6AF0-47FF-91A8-E354B855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F8DE-DF0C-48F4-B179-1AAF5EC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B4F1D2-4109-4B25-A547-8799A72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841C91-EE07-4CAA-ADD5-3BCCB68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16E16B-A6D1-42FB-BF09-43B1DB7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805176-7634-4777-A218-AF254C68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71D26C-9FC5-45A1-A632-ED6EC272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F08B4C-C77F-40EA-9601-B350153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6E5AE0-0DC2-44DB-BB29-5EA272AD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8338EC-C2CB-4B70-87D5-A6E86B61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97CBFF-4373-45BD-B1DC-1B31C64E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31189-6226-46F3-869D-CDBC877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14A9-D8D5-4E57-AFD8-FF7509E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765580-13B0-4960-81F4-EB02932C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38A7BA-7A3A-4CFC-A217-0F7E9F44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6C41E0-73B7-448C-AB06-D1F3F5F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C357BD-8735-421B-A4C0-17D687A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8771CB-F48F-4259-A71D-6A0438D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9DBC90-03CC-489D-8958-7CE3FE5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E07D1F-AF09-46DC-AE83-FD4374C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114764-5DA6-48D4-96A3-A7665C02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4ACDA5-C008-4523-97E2-24CE5559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F3AEA4-8CEB-430E-B0AF-895CBFE1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C0D9-33BE-4FAE-90F1-C439659B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7DCF7A-311B-4376-B557-12D0E8F0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A26E0A-3C91-4198-A537-765C3D37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2848EF-8A3D-43E0-A262-DB651B8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F5F157-05DF-423B-B20E-8866298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DB7617-1BC9-498D-B344-A13A5445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080DC7-71CE-49D6-82E3-04F37A5C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064020-07D6-4661-B9CF-4EB6FCE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5B76FA-683D-4B76-A755-8F1E8B0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D2D275-482F-4402-94DE-FAE129CC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5728EA-C9D0-4D46-92EB-103C41D2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C9F7-6A1E-4843-8B5E-E1163E1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9DA59-0AA6-4749-89DA-939CEFC1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B8E152-32B4-43D6-A139-B05C53BB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BA7638-8A3B-42DB-86BF-1AA2FC7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433BF3-4A3F-4076-A440-99315C8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07182-0DFF-4F49-94EB-874DDF2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C586D1-5C01-4689-A5FB-07D5CF20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3DAA39-53C5-4BEB-915C-4F44DC99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D9E725-0989-4135-AE65-60F6EB3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2E9E92-9566-47D7-82E3-2E399021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6BE7A6-F4BF-4E2A-B63F-1B7912C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7945-4615-455D-88E0-36C8EC23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473BB4-2313-4D5C-9B1A-8D9A0AB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C196F7-5C14-4ECD-8FC4-30F6F80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80B62-5797-4D44-8190-B86BAEF4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F0F9B9-2439-4EF4-B3A8-E0AB3B71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7D6D7C-9F52-4534-B684-CBFB005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587155-F244-4402-94FE-EA4D233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2E7839-BF32-4BCB-9B0E-FD96377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011BDE-FD3A-449A-A846-5624160C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41CB8A-10F5-4DB3-A7CE-FF37BAA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40DF06-024A-4514-B7AA-894785A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68E3-EEF7-448D-8779-93924F6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8B4396-2BBC-4DE5-9F21-C5A53FE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FC67F9-4B8A-465E-870B-C26BF43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9C3B13-152F-4A90-AD18-1BC17420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ACCE0A-950B-4741-A3D3-B49CD22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F61407-6C1A-4195-A3BE-A64C0BF7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6D6FF6-4BE9-4B00-A2B7-F4CE24B9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031488-2E68-4DE0-904C-9A4EAE5C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092F07-560C-487C-9A3B-6E942640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43AC4C-9C4E-4ED3-B510-5DFC49F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B8C628-F90E-4F83-BDB9-B292962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AAB4-6A25-4310-B6D3-0903C4C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3B0B2F-BC14-481C-A03A-26D3020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4FBCB8-30E7-484A-A080-499BBAE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63332C-4C18-4003-86B8-3CC1E3D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B2F414-BDB5-49E7-A578-9F5FA55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404B06-C96E-4861-8DAF-90A5BA8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DFECA7-AAFC-4106-9C70-A102CF2E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B024C5-4F18-415D-AD9A-08788C1A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079FB5-B8AD-4F52-AF85-B3728937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E13773-4D3A-4CB3-8F5D-16A3F1E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1AE3AF-4D4B-4D6C-B86F-4EE08EE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7EB-27DA-4CEF-9A8F-85A8EF3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C52A-13EF-4CB6-A9E0-EE3ADFA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1557C4-D750-4E4E-87C8-2BAD609B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9C918D-0FA4-45ED-A89A-E38CC30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EE0608-F3A1-47B5-93D9-8D62E01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FF2B59-4008-4398-A195-08B2BC1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5DEA11-BED4-43F9-BD35-B7C2A77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1C94C0-239D-47D9-A951-74F9118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BA6D1D-46C7-475D-9EC0-CAC9DE25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4494CC-F2C8-46B0-A93D-0519D1BD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EB12E6-B5D0-47EB-BF4B-C3AD0049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C05E69-CB81-46B3-81E9-7192DFB2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0C66-57F2-431B-8EEF-EA5ACCDF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3D7F9A-635F-4D6F-B28D-F673A5E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8ADAD0-E199-4540-9CB9-6B0E91E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91C21B-759D-46CB-ADC0-ABC424B2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026ADD-BA53-43EA-B30E-C432910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B6500C-4536-4261-8E43-47108E8C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B96E81-28BB-4E05-AC61-2DBECA1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529891-3C86-463B-94B0-E66E579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B368E2-9E9E-4963-81E5-961E443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C78DD2-4304-4C87-B9EB-80045D1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40E44B-92C5-4BED-BFEA-A6E26D7D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D411-0F71-474E-BA5E-51A6036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D5ED67-6D60-4749-8EF4-7CDDF5C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813143-E006-451F-ACE6-33A17221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4E3BDD-1CDA-4B24-B647-F7DDBF5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FFA14C-0725-420B-9726-8CFD6DA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AD2876-41DE-45E2-9E92-7C6F7B2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B8D26F-67D6-4D44-884D-E9417C32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DDC797-B055-4D72-9DC5-FE4F6443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7391A6-60D0-457A-B7A7-DDB3F84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C0FC0D-9FE8-4733-881C-8BA1B43B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35B185-77A2-48FF-AAF9-4B84241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C636-D8AF-4638-9E01-41F1B7B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78D782-0AB4-4964-B987-295C4441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C7AF11-020B-4C3C-9404-8B1099C7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AEC0B6-F02A-44ED-82A6-D1BF5CBD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F744B0-F897-453E-AFD2-B6897031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44C276-922A-4109-86FF-C4FF7BA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B6AE30-4A67-40F9-B9E1-05FAE67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661CFC-8206-4FDF-9749-273F3FD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86E8FB-22D9-42D5-A71E-8C78EF4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1E4347-82D6-4F6C-AD99-421C7B17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C969A5-3560-4E54-9895-4A89564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9141-DEE8-4746-86A4-FF5FC99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CB4579-4051-48B1-B025-E621694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433236-15BE-4569-A353-28AA894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4643DD-17BA-400D-8C1D-08D0A71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2D2D21-0F60-4837-A5E3-E4B33C7B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2956BE-A884-421D-A958-CE7A3A30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7D4FA2-5998-4079-B75A-11DD138A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E01F8D-C0D8-4DE0-960A-E78D907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D1416C-7C21-4D18-A078-5437DF9B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E60F74-6EF9-4271-BAF7-5CC8D1D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5E143A-0858-44FF-BFF2-63876D7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F5C8-3D40-4AE9-8074-9D71578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D09688-AD02-4E80-BB88-27E07A31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D516FD-7914-4D61-B64C-EF4896E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FA7F3A-00E1-4E7D-9451-1660BF0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51096F-97F9-4B5D-A132-E917F4F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99A730-D0F8-4A2A-AA8A-B4C48C77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EDB0CB-F8CD-4F87-9D8F-B2D14867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247392-10D5-418B-902F-EAB16D8E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8690E4-3C9A-470B-8971-C36E924D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DE7BB2-95E9-4A7E-A933-86EE1439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291313-AB4E-4340-967D-F9F77BAC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03A3-D5B9-42D6-98F2-AA09EFE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F8D6B5-265E-4D91-A121-D6FEA94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10AF9B-FD94-40A6-BA20-689ADB8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BA5528-1095-4F92-AF0D-DE46DC0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316D4B-CB83-4BF4-8DC5-652B3BA2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D33D30-647D-4A2B-9523-A9F7EC9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23363F-4611-4EB1-9A00-02CFC8D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E1546E-BE10-4315-BDDB-5E13191C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F588C1-C0CA-4DD1-975C-890E3ECB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05471E-593F-48C7-9B08-CC3BEFD7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B28ECD-7D1F-46D1-94E3-35E7B57A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50E3-FA82-4FD1-82C2-68275F54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3AC972-38BA-42C2-B431-A14A306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BB97B2-0ACF-474F-8642-C3AF098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14622A-C5EC-4D64-ABA2-623C0CBD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BDFFEE-3242-4FBC-8CE7-4B38AA58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997C9A-728F-4158-B72C-1E6E4ACC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F9B5CE-B364-4149-8737-8677F02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A12D71-4845-45AA-AA44-E43E722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37CCCF-5BA3-476B-9AE4-FB2DD8B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23FADB-8F03-4C99-87A4-8358014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759FCA-75D6-4CBD-8735-71D7C841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BC56-A77A-401B-91A1-4C63628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2ACB49-AE0A-4D44-A159-8513E187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C7A3FC-AE53-4DBB-AF97-5348EC5C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D50F98-31EE-47B6-BF52-FB47C536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A799D2-5E7E-42B4-BCBF-8F82496C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200F9E-AA62-4D78-86D8-3A4CD13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9FF43C-97B9-4608-941A-91B7A5C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18D408-D0E7-4490-8EC5-311B3EB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4C3EAC-A200-4524-8B2E-40E5433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DF15B4-069B-462E-9B97-D4B5485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D0AC6A-CA80-45FE-8975-52A066F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9D28-B8EE-4256-B8D1-21E95B42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747988-FEB4-4BF6-96CE-9EC14915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2CB9A2-3B61-4EA9-A0B7-111D512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7C804B-E346-4E34-A652-29F48ACF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133053-8CCA-40A1-B968-896104A0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8221C6-B8AA-4E30-BBC5-13AC583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9C7351-ECE2-44FA-AFCF-F323084D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E39913-7941-43F6-A257-B611517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8FE0EF-D2B8-4B85-A9D3-29DD39C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7304B2-E373-47C5-9E8D-50B7678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1CEF60-681C-4435-B545-0318C36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873-E97C-499C-9826-60A1792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29F6-EB18-43A5-9938-B216B88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7DEBC2-1274-4AD5-A34C-70EAFB5B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79BBD5-9BD6-4056-A465-D7B80BA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B005CC-F159-4FD5-9993-4052634B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6E2506-1595-4306-BB0E-F008FD2F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00706B-F3B8-485C-B758-CEC8B754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FA6957B-E403-4756-A135-14AC88F6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8BDE7D-5F4C-4004-BE45-28AAAA8F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0EDEE6-B3CA-4908-92F8-60782F7A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0D8B90-ECA5-4B87-93C2-4CC9607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23704C-B2F6-449E-B99B-C913DBC4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A226-E365-4A1E-A4DD-F477D2CB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A9A9F1-152A-42D7-AC99-6B975E1D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27F80D-A24A-40D1-8D0E-F5ED9E4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1F941F-BB6D-4394-BB68-145DB0EC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00E0FC-F293-45E5-AB49-B7CEA40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667639-8B91-4410-89D4-6BB319E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067E3D-CA0E-48B7-A859-00DDACF8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D8E7D7-A4DC-4746-BF05-F68E71E4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4BF2F4-25B6-4386-B015-7CBE560D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9E2CA8-9B6D-4607-BF46-B777E76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54E32A-F8DA-4922-9A78-5BB2E696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6DBA-F183-488C-A04E-7D7EA84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3C8409-5CBA-4843-8EB6-90AC46C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1F2AD0-685C-4933-A3A1-C1CF39C3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27018A-5241-47C0-83B0-6DFC468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C50798-B67F-4CAB-A68D-117016C0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04FAA8-4092-4862-BC40-94A59BF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9CFF0E-E81D-4523-81A9-F78D034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29CC23-070E-4B40-8827-D9564E2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CE1C6C-7B94-4A36-B461-24C6CA72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A5D3F1-53CE-4660-AB5C-6EEB011B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59EE5C-FE2C-45E4-953A-BA03AC65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9F86-A63D-435B-A028-BA670BF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FB5844-5AD7-45E0-861A-D3967C8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E46BBB-3451-4C9A-ADA5-9E165DD6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C169E8-E868-466C-8DF1-F3B75FC1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F3AE98-518F-4BEF-8476-D2AB44B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B80F4A-B2EB-47EE-ADA5-C2A582D5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4AA501-71DC-46E5-B66F-7BC6E20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AEBD5F-8778-4E50-A9AA-2D9B6A4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AE4867-E1DE-40CC-91B8-DC6FE58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62FC21-0C94-4862-B134-D25E2693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347E24-61B1-4515-91D1-749AAB81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8FFB-1479-44CF-B036-082C13A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058339-25B5-4B99-87B4-6503FA56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0F57B4-B97F-4EEB-84CB-CA8B7338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244F35-0896-40BD-80EB-7C476B1D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89538F-B003-4771-ABAF-C77CAC9F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FDCE7B-5461-4654-9CBD-1C64686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1B269D-30E6-4624-9765-3E177DF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CFBC2D-61BD-4202-9F88-6CF02D1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6FD227-8F80-4CDE-A690-3890C41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300A29-B6CB-465F-BD15-D55153D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3A5EB0-D4CC-42B7-9DE6-F74D42F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4CD4D-EAD8-4931-89F9-1AF478E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E0DC81-35E3-4E49-8AE8-DCDF01A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AB93036-7C62-4D3A-9E79-E9B6B6FA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2BB322-9DE3-4B21-AD61-7F58AF2C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3EBA8D-5A2D-4D39-93A2-5DA3431E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AC6565-75D1-4704-B504-F42A1760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7726ED-5E2A-4F7B-833B-B6B3EF28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B44800-F221-425B-B51C-CAA07F0F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08DFD03-DEBC-4A18-A8D5-4EFC27E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0B90C6-22DE-424A-AF26-21C31752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81BBE8-D9B9-4E92-8D06-150F6600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85E0-A309-4AF6-81AB-41DB539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596EE4-3E97-45D9-AFB1-6E51571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B15363-A68B-4421-9761-9141CDE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B38D78-2665-4E78-96A6-3AB68C77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88CBD3-1E20-43E5-B472-B5A5F03B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DB51D8-09A7-40C2-89A5-93575D57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5303E3-66EC-4CED-A548-4C629584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C5E17F-94DF-46F2-A6B3-55D097B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5F4DC9-C320-46CE-B3D8-AFD5675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D70AE5-FB81-447F-B8E7-7C849B9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66B484-BBD7-4680-A69C-ADE5844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FD840-5DDB-42CE-91EF-AF867C0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0FB41F-0A16-4928-97F4-4F87358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7EE070-7017-4989-9E93-C7A4FD73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60299E-9580-43D0-9DBE-FBB1402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F95E94-FA07-4273-8F89-2B461BB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B00E8E-D601-47C2-B7DA-E406E4B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A59F99-1292-4FE6-8706-D83F449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FDB5C2-FAF8-4C8A-8CCE-4D4452A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5B7BD3-464F-49CD-9FBF-E5F11EA5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E9FFD3-04AD-4CE3-AF7E-669780F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25CC43-17E9-4CA8-8C74-85076DA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D083-2C1B-4D44-BFE4-8B33994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5DD361-DD57-4CCD-AEF8-EC3BB4E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B8D3C4-F8A4-49FA-A109-520C82DB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A2BC3E-61D9-42C6-8DBB-21223D5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5027DB7-3C01-4CB6-8C38-79C2079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5EEDCD-44C7-470A-844A-FA1F36D0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3CC0D1-3E15-4734-8609-4C2BC8F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76972F-BFA6-4E9D-A1BB-99041B9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91219E-545F-4586-9E89-E717179F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589C4B-625B-4505-BBF5-180CA8DC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9EACB5-DB8E-4B07-A68F-516F5D2A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E471-2A23-428E-9B25-617AF530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FBC8E5-9019-48F3-B022-3B3521E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FCAC28-325F-4915-B979-C723EDE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1416F8-B025-46BC-A7A7-BBF0A24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10A0C8-E074-40CC-888D-7159C97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D5B193-8831-4F88-9891-88CF0A3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F705A1-F466-4F75-AB2D-D43D612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2DCE02-9DC9-4C40-8F0D-3BC0A34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C8526F-C3E4-4627-95CC-756534B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48175D-032C-4468-9329-B132B744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0CA447-97E9-44FE-AADD-26A08F66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979-7ED9-458F-BD53-F81C143C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8155C-A880-44A6-B336-CD956642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6A0CF9-8F15-4CBE-B50C-F9E95C5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9C87F6-7A65-4C22-9029-41752C02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0A381F-0193-4BE1-B443-C50109C8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226D833-B620-4B47-96AC-2E45BDE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4C02C0-68B8-48EE-82BD-640B5FF1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A9E146C-85B5-42BB-A705-F5F8DF67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8E803E-2338-4CAA-814D-D1A6E914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544D5F7-A5A1-4189-9C76-04DC469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183477-3F47-45C2-86D1-AA5952C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920936-9B01-44F3-B53D-EC9C4B0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B945-DE89-4E89-9C86-126AD95A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18B6CC-1D42-4096-AB01-32AAAE60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750DA05-D2F7-4585-8989-F7C15AC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BC27115-C6EF-4E69-9820-E1A6E5EC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1E84C1-D3A2-4F90-84CA-41E9BD47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17CF37-DBE1-4645-A3C2-37B5A03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645445-5C16-4A04-9121-9DA4AE2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7B5C50-4231-4629-9282-CDC27B7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081BDF-7869-452F-85FC-7BB5C1F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F56267-A04C-4C00-B137-28D9AC4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9BBF72-D858-4CD0-8DD2-597B97E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FA11-FD1E-4CB8-A234-8F62D45D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939120-305C-4F76-BE61-73BF07C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C9B78F0-547F-4DC5-B5C8-045C15B9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546289-E521-4822-B8DC-D7E11220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426C2A-ADAA-46EC-A2E9-F0EAC22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F1C74A-8DA8-4B12-896E-B5374F04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845265-F348-44F4-A393-E5D4D0BE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A2921A-5A4A-4C37-BE27-C9EE01D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36C3AB-845A-4293-B2C7-B6E99D8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26125B-1797-41A6-859B-C79ACC01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33BC22-BAD1-44D1-BCB9-99DC33F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15C0-CCD5-42C8-BD85-7922A300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9F51FCA-F404-4E36-A96B-3E9FAD85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877A111-62EC-4ACE-A1BA-EE91F72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089900-640A-4249-AA2C-F832390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F38552-73EB-4203-BAD2-8D6E2E3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E38401-CB60-4DED-9292-DF701F0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ACD850F-96AA-489C-9C18-9A509FD2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FCA162-7CD7-4384-A3C0-D4C53EDE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AEA1C6-5072-4879-BBD9-9CB29D5D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5E0A31-0798-48BC-872D-EACDFE9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654CD8B-282C-41CE-92E9-02BD02DD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38E2D-379C-4987-A346-CA36887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EE2CB5-B785-4E78-81DC-97FB0ED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53039E-5277-409B-AF55-0C6EB880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935711-286D-4E10-B1C6-3EB2464F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FFDC64C-FD64-416F-9E87-F5163DD5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33EE7D-ECE3-4EB9-A27D-BDAA8AB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71DC64C-9ED5-47F0-A069-B215B31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563A3C0-1570-464B-9218-F7EB192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43C0D25-01C3-44C9-931C-D6633614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066010-BB61-46E5-9EBA-81DC4639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E438F7-DC0F-44C1-A4F8-8FF1CDD1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45DD-1310-49B4-A755-0BF8234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3CB565-5041-422C-B848-2C98481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412005-E93C-4E93-A0CF-EEB39488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573E39-1F44-4CD6-B037-890826D9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B986C3-D86B-40A4-A638-FCB92B4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606BCD-A1B9-4FDE-931D-E671395C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783CD4-5462-43BE-9762-2BECADD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E6DC76-6FAD-4937-8B94-5C43B70A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4922C8C-0CC6-4460-81F1-283FFF7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372414-6ECB-4E4E-BF6C-5A742E1B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4A6B5DF-BC16-4603-8A7D-7BF8F79D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2123-C909-4BE7-9D39-4848546B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54159AB-82BA-49BB-9C61-9081890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5F0D1-786A-4626-B3AF-60750457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992B2-97D8-43FF-8E8A-5A159214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CA95B-05AC-4425-B523-E872E3C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CCF-8DEF-4399-9743-A72286F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457A1-97C9-498A-BB82-656422D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F9FE-F21F-47B9-AA9C-C9FCCD7B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4391-F156-4928-8E3B-CE15982D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7FCD-211D-40D9-A2BC-D1D45973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D92A-7C27-471A-9FB1-902EA6CD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8BC79-6AD1-4933-A652-040A4A6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5223-AEDF-49F3-923A-C9AB7E0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8794-3815-48B8-96BE-FEDD1EB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77DE-8071-4FFD-88E2-077CB24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DD31-F027-463D-9BEB-02CE071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C18-B502-48DE-9284-63C7CAF1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E281-94E6-46A3-BBA7-D92D3BF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127A-2061-46F0-8D20-0A4D058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F520-45DC-43B8-9DB3-357285F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75D5-8425-416E-9853-C1D45F56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1721-9B0D-436C-88B4-CD33CCD4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7483-D131-43E9-9051-39FC3944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A473-B67F-4F77-801A-1E11D8E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8563-9503-4043-B0A4-F7CC8B3B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B9E9B-6C9C-4634-8001-CA2F4D1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71DC-1572-4DD8-9D93-E5822897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50F-AF51-47D9-A68D-C018C84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4796C-C19D-41BE-BF88-87B72A54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99DBC-5156-471C-9B8C-2AB0AE3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F911-DC1D-4C48-B407-C784033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EC72-E899-4B88-8288-B0C7B85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DB24-3B47-4624-BBBB-66FB642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06511-7296-4692-87EF-6CEA5A81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8B58-272D-4C0E-94BD-84FB9E37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0A890-4604-4026-8559-144C289B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04FA-64DC-4782-82E1-508B371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C13E0-8DA6-447F-8309-83FA8110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32B-EF29-4BDC-9A69-F4DA6DA3951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68A-AA3A-4FD2-A253-C3ACDE66166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64C-65A9-4432-8B84-BCA0984D143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5B3-8617-4180-BE23-1D8A6FC0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B04-28DD-4C14-8D0A-A9BD2532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1476-2575-4048-A3E3-EF1078D1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EFC-1C3E-48C0-A76E-D7D28CE9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E0C-9765-4762-8590-4843E0BD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511-6318-418C-A535-5BA15AC6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D1A7-6DA8-4071-B4AD-CA98A28F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FED-FEBD-426C-9761-645B9449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51A-4B3F-4B95-B8DD-AF638E8FEFF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975-F697-41FD-AD88-A24964B8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185-FA31-407C-88F7-C8557381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9F31-A0BC-4BAB-9B54-879B11B1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E44-A625-4F47-AC4E-1EA2C59739B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4FAA-646F-4A8D-B0C8-29194AFF492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63C-B418-435D-8128-CACFB7CC0C4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5504-B920-45D8-8555-B6B5A3F8A68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E98-3E1E-4B9E-9EDD-310A8F200AF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5B4-A092-4D03-B121-CB8C08E2935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777-AAA4-464E-8B20-A155746E6C0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529D-B3CE-4788-B0DB-578B4B60C52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8B3-C3EB-4F8C-983B-6EBF2A41B37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E26-5906-47A1-AD8F-37A4BDFA1D1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D7CF-F0E8-4E3A-B74B-83C4ACE5B02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C8D-A2C6-4421-9AAF-A5286679C60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B460-6D0A-4921-80C1-D4DB3CF7C2E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8CB-04E8-48A6-A5AB-ED5116D7FA0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9E5-6A75-4C7D-BF14-C4B12CE09EC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D62-CF82-4007-9167-798CF36F49C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910A-0CC1-448F-B338-9C9644BA73B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9D1-9949-4EFA-9986-D1AA792A5B7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DA83-B071-49DD-9317-C4EE3C285F7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A8F8-BE8E-4780-9444-CEC20D5BAB0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1380-2A01-4189-B850-5B81AD973A5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7263-4625-4390-856E-6F1206C51E7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84F-890D-4456-9334-805ED281704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AC93-B095-42CC-8008-976A03079F8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4CEB-8935-4B64-8D50-26548991E22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CB34-54F3-47F3-AB08-5BCE5077D57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560-2864-4C7B-8B2A-E66725263CC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C97B-660F-49B0-AD59-90127FFE332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8297-C90A-4950-8CE0-80B2DF32375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A1A-31A3-4CFC-9FF5-38BBF4E10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924-C073-4142-9ADA-98C034972F1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D30-C05D-4C28-AF57-6FBC215D328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FC02-3BE9-4455-AB71-A8A44DF3F04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AA8-08E4-4028-8B3E-BA36467DBB2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852-0C8A-43D0-822A-E44FE300A63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2165-D7DA-4A71-86AC-FD83D5498E5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B10-5E84-4851-BCEC-7C76A6E2EC4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50F-5460-4E45-9060-D6E1A29B4AC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80C-629F-4DD4-8CD3-5690772D919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DF0-9D7E-40C3-AF6A-C64D1978FB4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78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доровьесберегающи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Прямоугольник 1"/>
          <p:cNvSpPr/>
          <p:nvPr/>
        </p:nvSpPr>
        <p:spPr>
          <a:xfrm flipV="1" rot="10800000">
            <a:off x="2263680" y="4632840"/>
            <a:ext cx="567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МБДОУ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Дружные ребя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чко М.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-дж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8" name="Объект 3" descr=""/>
          <p:cNvPicPr/>
          <p:nvPr/>
        </p:nvPicPr>
        <p:blipFill>
          <a:blip r:embed="rId2"/>
          <a:stretch/>
        </p:blipFill>
        <p:spPr>
          <a:xfrm>
            <a:off x="549360" y="1757520"/>
            <a:ext cx="81374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Объект 3" descr=""/>
          <p:cNvPicPr/>
          <p:nvPr/>
        </p:nvPicPr>
        <p:blipFill>
          <a:blip r:embed="rId1"/>
          <a:srcRect l="-1036" t="0" r="-1036" b="0"/>
          <a:stretch/>
        </p:blipFill>
        <p:spPr>
          <a:xfrm>
            <a:off x="1116000" y="1417680"/>
            <a:ext cx="6985080" cy="4603680"/>
          </a:xfrm>
          <a:prstGeom prst="rect">
            <a:avLst/>
          </a:prstGeom>
          <a:ln w="0">
            <a:noFill/>
          </a:ln>
        </p:spPr>
      </p:pic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намические пау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2" name="Объект 3" descr=""/>
          <p:cNvPicPr/>
          <p:nvPr/>
        </p:nvPicPr>
        <p:blipFill>
          <a:blip r:embed="rId2"/>
          <a:stretch/>
        </p:blipFill>
        <p:spPr>
          <a:xfrm>
            <a:off x="1692360" y="1816200"/>
            <a:ext cx="6264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5088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игирующа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Объект 3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4162320" cy="2701800"/>
          </a:xfrm>
          <a:prstGeom prst="rect">
            <a:avLst/>
          </a:prstGeom>
          <a:ln w="0">
            <a:noFill/>
          </a:ln>
        </p:spPr>
      </p:pic>
      <p:pic>
        <p:nvPicPr>
          <p:cNvPr id="2285" name="Рисунок 6" descr=""/>
          <p:cNvPicPr/>
          <p:nvPr/>
        </p:nvPicPr>
        <p:blipFill>
          <a:blip r:embed="rId2"/>
          <a:srcRect l="0" t="0" r="-1596" b="0"/>
          <a:stretch/>
        </p:blipFill>
        <p:spPr>
          <a:xfrm>
            <a:off x="2394000" y="4005360"/>
            <a:ext cx="4100400" cy="2576520"/>
          </a:xfrm>
          <a:prstGeom prst="rect">
            <a:avLst/>
          </a:prstGeom>
          <a:ln w="0">
            <a:noFill/>
          </a:ln>
        </p:spPr>
      </p:pic>
      <p:pic>
        <p:nvPicPr>
          <p:cNvPr id="2286" name="Рисунок 1" descr=""/>
          <p:cNvPicPr/>
          <p:nvPr/>
        </p:nvPicPr>
        <p:blipFill>
          <a:blip r:embed="rId3"/>
          <a:stretch/>
        </p:blipFill>
        <p:spPr>
          <a:xfrm>
            <a:off x="4788000" y="982800"/>
            <a:ext cx="40924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СИХОГИМНАСТИКА</a:t>
            </a:r>
            <a:br>
              <a:rPr sz="4400"/>
            </a:b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  Д/и «Азбука настроений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»                                  Пикт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8" name="Picture 2" descr="C:\Users\Владелец\Desktop\МО\sc0000.bmp"/>
          <p:cNvPicPr/>
          <p:nvPr/>
        </p:nvPicPr>
        <p:blipFill>
          <a:blip r:embed="rId2"/>
          <a:stretch/>
        </p:blipFill>
        <p:spPr>
          <a:xfrm rot="20119200">
            <a:off x="1801800" y="1566360"/>
            <a:ext cx="1674720" cy="236700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3" descr="C:\Users\Владелец\Desktop\МО\sc0001.bmp"/>
          <p:cNvPicPr/>
          <p:nvPr/>
        </p:nvPicPr>
        <p:blipFill>
          <a:blip r:embed="rId3"/>
          <a:stretch/>
        </p:blipFill>
        <p:spPr>
          <a:xfrm>
            <a:off x="3419640" y="1484280"/>
            <a:ext cx="2114280" cy="153180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4" descr="C:\Users\Владелец\Desktop\МО\sc0002.bmp"/>
          <p:cNvPicPr/>
          <p:nvPr/>
        </p:nvPicPr>
        <p:blipFill>
          <a:blip r:embed="rId4"/>
          <a:stretch/>
        </p:blipFill>
        <p:spPr>
          <a:xfrm rot="20298600">
            <a:off x="1692000" y="4233960"/>
            <a:ext cx="2360520" cy="223992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5" descr="C:\Users\Владелец\Desktop\МО\sc0003.bmp"/>
          <p:cNvPicPr/>
          <p:nvPr/>
        </p:nvPicPr>
        <p:blipFill>
          <a:blip r:embed="rId5"/>
          <a:stretch/>
        </p:blipFill>
        <p:spPr>
          <a:xfrm rot="20632200">
            <a:off x="3733920" y="3063960"/>
            <a:ext cx="1879560" cy="253692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6" descr="C:\Users\Владелец\Desktop\МО\sc0008.bmp"/>
          <p:cNvPicPr/>
          <p:nvPr/>
        </p:nvPicPr>
        <p:blipFill>
          <a:blip r:embed="rId6"/>
          <a:stretch/>
        </p:blipFill>
        <p:spPr>
          <a:xfrm>
            <a:off x="6192720" y="1382760"/>
            <a:ext cx="1729080" cy="166824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2" descr="C:\Users\Владелец\Desktop\МО\sc0009.bmp"/>
          <p:cNvPicPr/>
          <p:nvPr/>
        </p:nvPicPr>
        <p:blipFill>
          <a:blip r:embed="rId7"/>
          <a:stretch/>
        </p:blipFill>
        <p:spPr>
          <a:xfrm rot="20430600">
            <a:off x="7157520" y="3006360"/>
            <a:ext cx="1724040" cy="174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3" descr="C:\Users\Владелец\Desktop\МО\sc0010.bmp"/>
          <p:cNvPicPr/>
          <p:nvPr/>
        </p:nvPicPr>
        <p:blipFill>
          <a:blip r:embed="rId8"/>
          <a:stretch/>
        </p:blipFill>
        <p:spPr>
          <a:xfrm rot="1255800">
            <a:off x="5994360" y="4443480"/>
            <a:ext cx="18446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/И «Маски»                               Кубик  эмо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6" name="Picture 2" descr="C:\Users\Владелец\Desktop\МО\sc0004.bmp"/>
          <p:cNvPicPr/>
          <p:nvPr/>
        </p:nvPicPr>
        <p:blipFill>
          <a:blip r:embed="rId2"/>
          <a:srcRect l="0" t="-1043" r="0" b="0"/>
          <a:stretch/>
        </p:blipFill>
        <p:spPr>
          <a:xfrm rot="20935800">
            <a:off x="324000" y="1699920"/>
            <a:ext cx="1958760" cy="240804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3" descr="C:\Users\Владелец\Desktop\МО\sc0005.bmp"/>
          <p:cNvPicPr/>
          <p:nvPr/>
        </p:nvPicPr>
        <p:blipFill>
          <a:blip r:embed="rId3"/>
          <a:stretch/>
        </p:blipFill>
        <p:spPr>
          <a:xfrm rot="724800">
            <a:off x="2187720" y="1677960"/>
            <a:ext cx="2117520" cy="254484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4" descr="C:\Users\Владелец\Desktop\МО\sc0006.bmp"/>
          <p:cNvPicPr/>
          <p:nvPr/>
        </p:nvPicPr>
        <p:blipFill>
          <a:blip r:embed="rId4"/>
          <a:stretch/>
        </p:blipFill>
        <p:spPr>
          <a:xfrm>
            <a:off x="30240" y="3687840"/>
            <a:ext cx="2914560" cy="301788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C:\Users\Владелец\Desktop\МО\sc0007.bmp"/>
          <p:cNvPicPr/>
          <p:nvPr/>
        </p:nvPicPr>
        <p:blipFill>
          <a:blip r:embed="rId5"/>
          <a:srcRect l="0" t="-5479" r="0" b="0"/>
          <a:stretch/>
        </p:blipFill>
        <p:spPr>
          <a:xfrm rot="267000">
            <a:off x="2332080" y="3995640"/>
            <a:ext cx="2125800" cy="2784600"/>
          </a:xfrm>
          <a:prstGeom prst="rect">
            <a:avLst/>
          </a:prstGeom>
          <a:ln w="0">
            <a:noFill/>
          </a:ln>
        </p:spPr>
      </p:pic>
      <p:pic>
        <p:nvPicPr>
          <p:cNvPr id="2300" name="Рисунок 7" descr="C:\Users\Владелец\Desktop\картинки\эмоции\sc0000.bmp"/>
          <p:cNvPicPr/>
          <p:nvPr/>
        </p:nvPicPr>
        <p:blipFill>
          <a:blip r:embed="rId6"/>
          <a:stretch/>
        </p:blipFill>
        <p:spPr>
          <a:xfrm>
            <a:off x="5473800" y="817560"/>
            <a:ext cx="2249280" cy="224964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6" descr="F:\флешка белая\эмоции 2\вина.jpg"/>
          <p:cNvPicPr/>
          <p:nvPr/>
        </p:nvPicPr>
        <p:blipFill>
          <a:blip r:embed="rId7"/>
          <a:stretch/>
        </p:blipFill>
        <p:spPr>
          <a:xfrm rot="21235800">
            <a:off x="4638600" y="3722760"/>
            <a:ext cx="1406520" cy="196200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7" descr="F:\флешка белая\эмоции 2\гордость.jpg"/>
          <p:cNvPicPr/>
          <p:nvPr/>
        </p:nvPicPr>
        <p:blipFill>
          <a:blip r:embed="rId8"/>
          <a:stretch/>
        </p:blipFill>
        <p:spPr>
          <a:xfrm>
            <a:off x="5999040" y="3622680"/>
            <a:ext cx="1592280" cy="216864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8" descr="F:\флешка белая\эмоции 2\злость.jpg"/>
          <p:cNvPicPr/>
          <p:nvPr/>
        </p:nvPicPr>
        <p:blipFill>
          <a:blip r:embed="rId9"/>
          <a:stretch/>
        </p:blipFill>
        <p:spPr>
          <a:xfrm rot="637800">
            <a:off x="7644960" y="3855600"/>
            <a:ext cx="1314360" cy="1755720"/>
          </a:xfrm>
          <a:prstGeom prst="rect">
            <a:avLst/>
          </a:prstGeom>
          <a:ln w="0">
            <a:noFill/>
          </a:ln>
        </p:spPr>
      </p:pic>
      <p:sp>
        <p:nvSpPr>
          <p:cNvPr id="2304" name="Прямая соединительная линия 2"/>
          <p:cNvSpPr/>
          <p:nvPr/>
        </p:nvSpPr>
        <p:spPr>
          <a:xfrm>
            <a:off x="5796000" y="1284120"/>
            <a:ext cx="72072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Прямая соединительная линия 6"/>
          <p:cNvSpPr/>
          <p:nvPr/>
        </p:nvSpPr>
        <p:spPr>
          <a:xfrm flipV="1">
            <a:off x="6516720" y="14922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Прямая соединительная линия 19"/>
          <p:cNvSpPr/>
          <p:nvPr/>
        </p:nvSpPr>
        <p:spPr>
          <a:xfrm flipV="1">
            <a:off x="5827680" y="1179000"/>
            <a:ext cx="86508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Прямая соединительная линия 22"/>
          <p:cNvSpPr/>
          <p:nvPr/>
        </p:nvSpPr>
        <p:spPr>
          <a:xfrm flipV="1">
            <a:off x="6516720" y="2421000"/>
            <a:ext cx="8636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Прямая соединительная линия 23"/>
          <p:cNvSpPr/>
          <p:nvPr/>
        </p:nvSpPr>
        <p:spPr>
          <a:xfrm>
            <a:off x="5827680" y="2271600"/>
            <a:ext cx="6508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Прямая соединительная линия 24"/>
          <p:cNvSpPr/>
          <p:nvPr/>
        </p:nvSpPr>
        <p:spPr>
          <a:xfrm>
            <a:off x="5827680" y="132552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Прямая соединительная линия 27"/>
          <p:cNvSpPr/>
          <p:nvPr/>
        </p:nvSpPr>
        <p:spPr>
          <a:xfrm>
            <a:off x="6692760" y="1179360"/>
            <a:ext cx="669960" cy="3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Прямая соединительная линия 30"/>
          <p:cNvSpPr/>
          <p:nvPr/>
        </p:nvSpPr>
        <p:spPr>
          <a:xfrm>
            <a:off x="7362720" y="1521000"/>
            <a:ext cx="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Прямая соединительная линия 31"/>
          <p:cNvSpPr/>
          <p:nvPr/>
        </p:nvSpPr>
        <p:spPr>
          <a:xfrm flipV="1">
            <a:off x="6478560" y="1700280"/>
            <a:ext cx="0" cy="9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TextBox 28"/>
          <p:cNvSpPr/>
          <p:nvPr/>
        </p:nvSpPr>
        <p:spPr>
          <a:xfrm>
            <a:off x="4932360" y="32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/И «Эмоц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2077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5" name="Picture 8" descr="H:\птички\DSC_0099.JPG"/>
          <p:cNvPicPr/>
          <p:nvPr/>
        </p:nvPicPr>
        <p:blipFill>
          <a:blip r:embed="rId2"/>
          <a:stretch/>
        </p:blipFill>
        <p:spPr>
          <a:xfrm>
            <a:off x="2077920" y="1413000"/>
            <a:ext cx="2454480" cy="2813040"/>
          </a:xfrm>
          <a:prstGeom prst="rect">
            <a:avLst/>
          </a:prstGeom>
          <a:ln w="0">
            <a:noFill/>
          </a:ln>
        </p:spPr>
      </p:pic>
      <p:pic>
        <p:nvPicPr>
          <p:cNvPr id="2316" name="Рисунок 1" descr=""/>
          <p:cNvPicPr/>
          <p:nvPr/>
        </p:nvPicPr>
        <p:blipFill>
          <a:blip r:embed="rId3"/>
          <a:stretch/>
        </p:blipFill>
        <p:spPr>
          <a:xfrm>
            <a:off x="4786200" y="3468600"/>
            <a:ext cx="25225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457200" y="207180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Picture 10" descr="http://www.topglobus.ru/skin/smile/s6123.gif"/>
          <p:cNvPicPr/>
          <p:nvPr/>
        </p:nvPicPr>
        <p:blipFill>
          <a:blip r:embed="rId2"/>
          <a:stretch/>
        </p:blipFill>
        <p:spPr>
          <a:xfrm>
            <a:off x="3059280" y="2951280"/>
            <a:ext cx="3178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94920" y="1196640"/>
            <a:ext cx="8302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рана нервной системы, снятие психического и нервного напря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умения регулировать мышечный тонус, освобождение от мышечных зажи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ование речевых зон коры головного моз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орального пракс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ршенствование общей и 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резервов дыхательной сис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здание благоприятного эмоционального ф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2286000" y="189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Основные принцип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900000" y="112500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доступности (использование здоровьесберегающих технологий в соответствии с возрастом дет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стематичности (реализация оздоровительных мероприятий постоян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оптимальности (разумно сбалансированная психофизическая нагруз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последовательности (последовательное усложнение и увеличение нагруз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комплексного воздействия на все анализато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овместного педагогического воздействия (учителя – логопеда, воспитателя, физинструктора, музыкального руководителя, педагога – психолога, родите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Объект 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395960" cy="2808000"/>
          </a:xfrm>
          <a:prstGeom prst="rect">
            <a:avLst/>
          </a:prstGeom>
          <a:ln w="0">
            <a:noFill/>
          </a:ln>
        </p:spPr>
      </p:pic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63480" y="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альчиков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3" name="Рисунок 1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53769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1112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нуров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5" name="Picture 4" descr="C:\Users\Владелец\Desktop\МО\sc0002 (3).bmp"/>
          <p:cNvPicPr/>
          <p:nvPr/>
        </p:nvPicPr>
        <p:blipFill>
          <a:blip r:embed="rId2"/>
          <a:stretch/>
        </p:blipFill>
        <p:spPr>
          <a:xfrm rot="20493000">
            <a:off x="2823840" y="3657240"/>
            <a:ext cx="2705040" cy="2133720"/>
          </a:xfrm>
          <a:prstGeom prst="rect">
            <a:avLst/>
          </a:prstGeom>
          <a:ln w="0">
            <a:noFill/>
          </a:ln>
        </p:spPr>
      </p:pic>
      <p:pic>
        <p:nvPicPr>
          <p:cNvPr id="2266" name="Рисунок 3" descr=""/>
          <p:cNvPicPr/>
          <p:nvPr/>
        </p:nvPicPr>
        <p:blipFill>
          <a:blip r:embed="rId3"/>
          <a:stretch/>
        </p:blipFill>
        <p:spPr>
          <a:xfrm rot="789000">
            <a:off x="576000" y="1969920"/>
            <a:ext cx="2401920" cy="1879920"/>
          </a:xfrm>
          <a:prstGeom prst="rect">
            <a:avLst/>
          </a:prstGeom>
          <a:ln w="0">
            <a:noFill/>
          </a:ln>
        </p:spPr>
      </p:pic>
      <p:pic>
        <p:nvPicPr>
          <p:cNvPr id="2267" name="Рисунок 1" descr=""/>
          <p:cNvPicPr/>
          <p:nvPr/>
        </p:nvPicPr>
        <p:blipFill>
          <a:blip r:embed="rId4"/>
          <a:stretch/>
        </p:blipFill>
        <p:spPr>
          <a:xfrm>
            <a:off x="5937120" y="1415880"/>
            <a:ext cx="315756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цветные 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9" name="Объект 1" descr=""/>
          <p:cNvPicPr/>
          <p:nvPr/>
        </p:nvPicPr>
        <p:blipFill>
          <a:blip r:embed="rId2"/>
          <a:stretch/>
        </p:blipFill>
        <p:spPr>
          <a:xfrm>
            <a:off x="457200" y="177336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0028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Театр перча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1" name="Объект 1" descr=""/>
          <p:cNvPicPr/>
          <p:nvPr/>
        </p:nvPicPr>
        <p:blipFill>
          <a:blip r:embed="rId2"/>
          <a:stretch/>
        </p:blipFill>
        <p:spPr>
          <a:xfrm>
            <a:off x="3600360" y="2538360"/>
            <a:ext cx="5146920" cy="3826080"/>
          </a:xfrm>
          <a:prstGeom prst="rect">
            <a:avLst/>
          </a:prstGeom>
          <a:ln w="0">
            <a:noFill/>
          </a:ln>
        </p:spPr>
      </p:pic>
      <p:pic>
        <p:nvPicPr>
          <p:cNvPr id="2272" name="Рисунок 1" descr=""/>
          <p:cNvPicPr/>
          <p:nvPr/>
        </p:nvPicPr>
        <p:blipFill>
          <a:blip r:embed="rId3"/>
          <a:stretch/>
        </p:blipFill>
        <p:spPr>
          <a:xfrm rot="20872200">
            <a:off x="250560" y="1349280"/>
            <a:ext cx="39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Шабло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4" name="Объект 1" descr=""/>
          <p:cNvPicPr/>
          <p:nvPr/>
        </p:nvPicPr>
        <p:blipFill>
          <a:blip r:embed="rId2"/>
          <a:stretch/>
        </p:blipFill>
        <p:spPr>
          <a:xfrm rot="297600">
            <a:off x="549360" y="1599840"/>
            <a:ext cx="8045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alibri"/>
              </a:rPr>
              <a:t>Игры с прищеп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6" name="Объект 2" descr=""/>
          <p:cNvPicPr/>
          <p:nvPr/>
        </p:nvPicPr>
        <p:blipFill>
          <a:blip r:embed="rId2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21:07:48Z</dcterms:created>
  <dc:creator>Владелец</dc:creator>
  <dc:description/>
  <dc:language>en-US</dc:language>
  <cp:lastModifiedBy>Никита</cp:lastModifiedBy>
  <dcterms:modified xsi:type="dcterms:W3CDTF">2016-11-30T03:56:43Z</dcterms:modified>
  <cp:revision>80</cp:revision>
  <dc:subject/>
  <dc:title>Презентация PowerPoint</dc:title>
</cp:coreProperties>
</file>