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8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13.xml" ContentType="application/vnd.openxmlformats-officedocument.theme+xml"/>
  <Override PartName="/ppt/theme/theme51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40.xml" ContentType="application/vnd.openxmlformats-officedocument.theme+xml"/>
  <Override PartName="/ppt/theme/theme38.xml" ContentType="application/vnd.openxmlformats-officedocument.theme+xml"/>
  <Override PartName="/ppt/theme/theme52.xml" ContentType="application/vnd.openxmlformats-officedocument.theme+xml"/>
  <Override PartName="/ppt/theme/theme41.xml" ContentType="application/vnd.openxmlformats-officedocument.theme+xml"/>
  <Override PartName="/ppt/theme/theme39.xml" ContentType="application/vnd.openxmlformats-officedocument.theme+xml"/>
  <Override PartName="/ppt/theme/theme53.xml" ContentType="application/vnd.openxmlformats-officedocument.theme+xml"/>
  <Override PartName="/ppt/theme/theme42.xml" ContentType="application/vnd.openxmlformats-officedocument.theme+xml"/>
  <Override PartName="/ppt/theme/theme54.xml" ContentType="application/vnd.openxmlformats-officedocument.theme+xml"/>
  <Override PartName="/ppt/theme/theme43.xml" ContentType="application/vnd.openxmlformats-officedocument.theme+xml"/>
  <Override PartName="/ppt/theme/theme55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7.png" ContentType="image/png"/>
  <Override PartName="/ppt/media/image24.png" ContentType="image/png"/>
  <Override PartName="/ppt/media/image1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33.png" ContentType="image/png"/>
  <Override PartName="/ppt/media/image8.png" ContentType="image/png"/>
  <Override PartName="/ppt/media/image39.jpeg" ContentType="image/jpeg"/>
  <Override PartName="/ppt/media/image23.png" ContentType="image/png"/>
  <Override PartName="/ppt/media/image12.jpeg" ContentType="image/jpeg"/>
  <Override PartName="/ppt/media/image34.png" ContentType="image/png"/>
  <Override PartName="/ppt/media/image13.jpeg" ContentType="image/jpeg"/>
  <Override PartName="/ppt/media/image40.jpeg" ContentType="image/jpeg"/>
  <Override PartName="/ppt/media/image9.jpeg" ContentType="image/jpeg"/>
  <Override PartName="/ppt/media/image31.png" ContentType="image/png"/>
  <Override PartName="/ppt/media/image32.png" ContentType="image/png"/>
  <Override PartName="/ppt/media/image22.jpeg" ContentType="image/jpeg"/>
  <Override PartName="/ppt/media/image41.png" ContentType="image/png"/>
  <Override PartName="/ppt/media/image6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38.jpeg" ContentType="image/jpeg"/>
  <Override PartName="/ppt/media/image28.png" ContentType="image/png"/>
  <Override PartName="/ppt/media/image7.jpeg" ContentType="image/jpeg"/>
  <Override PartName="/ppt/media/image5.jpeg" ContentType="image/jpeg"/>
  <Override PartName="/ppt/media/image4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media/image36.jpeg" ContentType="image/jpeg"/>
  <Override PartName="/ppt/media/image2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</p:sldMasterIdLst>
  <p:sldIdLst>
    <p:sldId id="256" r:id="rId57"/>
    <p:sldId id="257" r:id="rId58"/>
    <p:sldId id="258" r:id="rId59"/>
    <p:sldId id="259" r:id="rId60"/>
    <p:sldId id="260" r:id="rId61"/>
    <p:sldId id="261" r:id="rId62"/>
    <p:sldId id="262" r:id="rId63"/>
    <p:sldId id="263" r:id="rId64"/>
    <p:sldId id="264" r:id="rId65"/>
    <p:sldId id="265" r:id="rId66"/>
    <p:sldId id="266" r:id="rId67"/>
    <p:sldId id="267" r:id="rId68"/>
    <p:sldId id="268" r:id="rId69"/>
    <p:sldId id="269" r:id="rId70"/>
    <p:sldId id="270" r:id="rId71"/>
    <p:sldId id="271" r:id="rId72"/>
    <p:sldId id="272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" Target="slides/slide1.xml"/><Relationship Id="rId58" Type="http://schemas.openxmlformats.org/officeDocument/2006/relationships/slide" Target="slides/slide2.xml"/><Relationship Id="rId59" Type="http://schemas.openxmlformats.org/officeDocument/2006/relationships/slide" Target="slides/slide3.xml"/><Relationship Id="rId60" Type="http://schemas.openxmlformats.org/officeDocument/2006/relationships/slide" Target="slides/slide4.xml"/><Relationship Id="rId61" Type="http://schemas.openxmlformats.org/officeDocument/2006/relationships/slide" Target="slides/slide5.xml"/><Relationship Id="rId62" Type="http://schemas.openxmlformats.org/officeDocument/2006/relationships/slide" Target="slides/slide6.xml"/><Relationship Id="rId63" Type="http://schemas.openxmlformats.org/officeDocument/2006/relationships/slide" Target="slides/slide7.xml"/><Relationship Id="rId64" Type="http://schemas.openxmlformats.org/officeDocument/2006/relationships/slide" Target="slides/slide8.xml"/><Relationship Id="rId65" Type="http://schemas.openxmlformats.org/officeDocument/2006/relationships/slide" Target="slides/slide9.xml"/><Relationship Id="rId66" Type="http://schemas.openxmlformats.org/officeDocument/2006/relationships/slide" Target="slides/slide10.xml"/><Relationship Id="rId67" Type="http://schemas.openxmlformats.org/officeDocument/2006/relationships/slide" Target="slides/slide11.xml"/><Relationship Id="rId68" Type="http://schemas.openxmlformats.org/officeDocument/2006/relationships/slide" Target="slides/slide12.xml"/><Relationship Id="rId69" Type="http://schemas.openxmlformats.org/officeDocument/2006/relationships/slide" Target="slides/slide13.xml"/><Relationship Id="rId70" Type="http://schemas.openxmlformats.org/officeDocument/2006/relationships/slide" Target="slides/slide14.xml"/><Relationship Id="rId71" Type="http://schemas.openxmlformats.org/officeDocument/2006/relationships/slide" Target="slides/slide15.xml"/><Relationship Id="rId72" Type="http://schemas.openxmlformats.org/officeDocument/2006/relationships/slide" Target="slides/slide16.xml"/><Relationship Id="rId73" Type="http://schemas.openxmlformats.org/officeDocument/2006/relationships/slide" Target="slides/slide17.xml"/><Relationship Id="rId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47A1-BEF7-4770-9910-72DEC8132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AF4E-D859-4A71-AC7E-442D07E3C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A979F4-C3F0-4567-9BAD-A998F2F27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D9573B-48F8-4DAE-84F6-93932E67B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4BD5F5-32CA-43F2-8513-18E5AC3FA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7F37C0-F63F-438D-A1BB-826DEC9EE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5D2C2C-F821-442A-83FD-662B4E304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463B08-3A39-44E5-ACD4-D6C6EAA72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4EE4F0-F523-4AD4-AF06-72F3894E1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E27C0E-5BD7-4C42-ADC9-3A30FBBED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56E393-CB01-46DC-B642-21EE80BDA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30649B-57B3-4326-B826-98093330C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95FF-1D87-45A7-8571-F45CB7DCF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51F3BC-44CE-4726-86BF-ADEC0D497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EAF351-9AA7-48A8-845D-E581ECCB1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E4A732-CFA0-41BE-AAAB-01DF3561B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8E8557-7872-407E-8EDF-68C1F4024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3BE86B-D7BC-48E8-9AAD-50081C060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8F173D-05BC-40E5-9B6A-5AB56FD43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1CE7DC-6242-4AF5-8FCE-D84D98CB6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FC6600-07A4-44BC-A7C0-F75567377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86C133-160A-4067-AE11-D9A701DEE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34D92F-573E-435F-A1BC-03CFF688F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0B80-A8C5-4A34-8212-235C9A001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CD4B75-2BA8-476C-975D-6F24F2356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14476D-7F13-41A1-9A09-6C0A53646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07B836-7259-4990-90C7-027FA12D1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A46ED1-3E3D-48B0-949A-1D76AE539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099DDC-57BA-43C2-AD52-001460FC0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DBDEA5-6F80-4D00-98C7-F65DE67DB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B0E1E2-2482-4A6A-806D-0665835AA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7A2951-AEE2-41E5-92DF-491BCED96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7A8E61-D55D-4B12-A493-81443AF1A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B99B1E-6336-4802-BC0C-9BDBB6354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E28B1-FCDD-4C0A-B0F9-71916FC27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C676C5-A18B-41D8-A0FC-D9A91B24A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22D565-8E2B-4275-AC56-9DD99CE37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F321DB-0E78-4E40-B29B-67864758A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2B44D8-1FE0-4D6B-82F1-E7A59BA2E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DF808B-DB88-4333-96E9-D7199CEDB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9F8D7F-6D1D-40D5-8403-9B8D28FF9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8FE9A8-6859-4576-A5A9-75D43AADB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5C6397-D908-4B97-9094-E76F0F9D5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7D146B-75CA-424C-A82B-2F66A2146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C742F4-B451-48DA-9E2B-98E0B7E50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2FEBF-A492-4617-A554-FE9BBC8F6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34A50B-3867-4D07-B0C0-66D31CDF1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B647B9-1020-4E3A-B939-204B3FF47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FEC072-1499-4FF8-A958-226DC55CD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2DF744-617E-42CE-B8DA-7489C4C43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22CB75-D312-4A5C-B4DB-3D5ED7827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512E81-FA5F-4E71-B8BE-597B7D57D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5AD551-5782-4E0F-86E1-EA25EFFAA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979343-4173-47D0-AAF6-7D07FC9DB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6D1EAC-7909-4E26-9CD4-AB20437BF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614254-F1B9-4474-8F8A-7E4E86ED8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C1871-44BA-4E1A-82C4-33936FA80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CFA37B-77CE-41CF-9F6B-1DCD94D25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09044E-1225-4663-B953-D9763CDC8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4C0F60-C971-41AE-864F-59FA22135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09B359-D196-4EFF-A90E-856A2ACF8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882BF4-F3C4-47D6-B91C-CE13D6A29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38BCCE-BC00-4D8F-8D6B-0A48E3A2D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141D1C-48D7-4539-8E18-07F41C18A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37C3F2-401E-4933-8154-5CAEC40D6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4FC76F-27E4-46FB-9CA7-9327C8A06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15263B-5F5D-41BC-A030-4AA952B13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759A3-A04F-41F5-96FF-19F65B23D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85FC81-4124-480C-B2EC-DA9FD8266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69A9A7-DD10-4D19-90B3-6FF42C687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CF382A-32F3-4FD2-96C4-9C60D6787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99E7BC-DA36-4112-B4D7-00D102D1C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83A102-2E07-45E8-9DB3-D46389B42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876799-91A6-4002-A99B-CB8E446C7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CBE803-C727-4DDE-B4D4-B4314B70E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BE17CF-82B7-402D-BE6A-7055D7323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45E9D2-178C-4B86-9A94-9510F3D68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E603A5-64AA-4999-9269-DC3E2AC41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823F8-E001-475F-B4EC-C16D91CD4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852588-6E95-4DF0-A260-B120FF958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459D19-020A-4B77-B3F6-9BC87C23A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2514BD-4A13-4E41-9EBD-6C42C6166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4C29B1-1C06-472E-87D4-D7290EAB4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EA2E64-60E1-422A-8E8F-DDB77A74C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FE5778-36CA-492C-A396-3D3CF3B86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40B065-BE0C-46AB-9E85-815744BD6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EBBE87-E1D3-4EFD-B662-1C05F3C21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1EAA5C-CC47-420B-BF1E-985360933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DAA779-BBB2-4C19-97F8-96CF8B5FD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2E413-7174-4E61-85F0-1F9255D39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BC7633-DFAD-4396-9000-AE534B916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129E02-AC07-4738-9AF8-5AA60E496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00BB65-FFB3-4936-91C7-2166883E5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D8A6DA-92DF-44E3-8729-97127B0CF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E16785-90F4-4BF4-8001-233C5313B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A3D50A-23EC-4A2C-930F-B6FE1AFE7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27341C-F99C-4AAB-831C-0C017951D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1F91B7-C141-4C54-BF93-1CCFA3D54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094662-C02A-4671-ADE3-E2E8FFFEB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9809B2-3EC0-4664-99C2-9FFF53C98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FE2F4-7C2D-43BB-8B6B-256C975BD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B9FAA2-3AF9-47E4-90E3-48747C8A6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F4D15A-A2CC-4E54-ACD8-B79894E47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A08B88-11F2-46E9-8227-8252E385A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632E4C-085D-4DE2-8D40-45AF60330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2C25F6-D5C3-405D-99C2-CC23CE07C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1C4747-357F-4A13-98EB-F7A9A6F03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717C2C-56BD-452F-84DE-2652489DD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69A8DD-A51B-457B-9F18-9C696E895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EF5FCC-A39B-4C8A-8FDB-A43FD5251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2D92A4-9D2C-4F03-906F-61DAE0354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ABB7-9105-47B3-B452-17CD4754C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721EF-2300-40F7-BE42-CFC924A0F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D1422C-1860-4C92-8BE3-474F1A04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927F32-C02A-430C-8497-2C75693F5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418E67-906C-4ED5-85A3-29F2D274C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B01BAE-2105-4378-AC72-02F5B9699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112505-D1CD-411C-9FB3-DDAC4F961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9E139E-ACBD-4BAD-8AEA-6201E141A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53C3F3-FAD7-433A-9864-526A632FF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990DBE-D871-419F-BE17-1C45A7283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20FB99-3483-4F43-93C4-916299691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1D3827-7847-404C-916F-DE2BE2E8F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7C4CC-F352-4B4B-B1F9-D19F90870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28CBF0-8266-4576-95C4-B92EC1E79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50F6C4-0B3C-416B-A1FF-05281E576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5F9742-6C3B-419B-9F5E-91951DE4F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1D9D85-17BC-47DE-B538-F2FA1D5BC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007CBF-39A3-4971-8D3A-5353B497E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3FAE25-B079-4BCA-95CA-A2E78AED4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87A598-5A49-44C1-BC4A-4DBB42FAC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11A6B1-70EB-471A-A65D-376BDA4F3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30EFF3-31E5-4A57-B0C0-FE614ADE3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DF8269-7465-4787-9125-85679D8D0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025A7-023E-4E16-8143-E0770D627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429F68-650C-4681-BAAD-1F1EC6126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7CCF22-E5E0-4180-BCE9-F577404FD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C9CE0C-67B7-48D5-960B-4C6115C9D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B95AEA-C87B-46E8-9A8D-32A5DA56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7DC310-5EB7-4197-B437-A008C5B5D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D74FB3-287F-4D1F-97E3-650340379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30B839-1D51-4AD9-AE44-AD0BDC313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254E3E-4243-410E-8BA1-EBE0C25BF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B49D23-6A9A-441E-AA12-E1F7D2D40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E5A7D4-A59D-42C7-AC6E-A3F373480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0AF38-7E84-4AA1-97C2-899A707CB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D2EA1B-684E-4FE0-970C-68F275D78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9BE52E-BD10-49E2-A7AE-95719CD28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1454A6B-CA9C-4C23-BBD0-6029E6A03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D5D131-6AC0-437A-A366-083108216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068291-9E96-4132-9AAE-25F3A41DC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267465-7495-4688-992E-277293A3A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48C40D-383D-46B4-8EFC-EFD3853CF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067FB3-41E5-4ED0-ACF6-6AA2B03C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21672D-3138-4CB1-803D-DDE89A076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B64AE8-A2C8-486D-A0F0-313AC81D6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F6B9D-B3ED-4A77-9801-061371DF2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50139C-F188-476A-AA42-A559B6D8E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0B57D4-EB02-4FFA-99DB-A033F2AA1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134DFA-A554-4525-B51F-B5B81F6B7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748384-B35B-4D49-9D36-9D43A0072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DD61DA-F03A-494E-92CF-50B53E2DA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F1F6619-A9E6-4242-8C41-96E8C2C46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20630C-AD94-4B61-A8D5-D6D1E1CA6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AA79ED8-9AC4-4A31-B70A-7204B99F3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4EB99A9-44C1-468F-824D-82BEE95E4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EC22B4-BA5A-4B5B-B97C-0C2E13750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4E23B-BE40-4E80-9092-6F54C6F73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AAA705-8B49-4CCA-8EE1-85C3359DD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23A78AB-AF72-442F-9FA9-26A214B75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49054C9-4BFB-47F1-9F41-8B520D55E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EE861E9-FE27-4880-834E-8F18B644F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09EC909-A8AA-4570-BF9B-A3E67829D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046A0EB-7192-4D81-81CA-FC1129413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BDC9D90-E214-45B7-BAE7-55516FEB7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86D63AA-0DC8-458D-B5AF-6F69ADDED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3F5856B-F08C-462D-9EB3-567F10059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9855DBD-BE3B-4DE7-8BBD-FC7251592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6F72B-02D7-46B7-939F-3FF9465A7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5CBBE33-522D-4019-ABEE-04FC8F12F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39E5A19-51CB-4742-88DE-8337FF056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CB6F532-8B12-479F-A051-77E54BC29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5EF73B1-2452-4506-8BC1-B5175FF2E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681BD2D-1507-46B8-9ABA-239E41095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E701BAF-B219-4A91-B704-25AD9C54D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7B0BB41-3CE4-4309-B67A-DA3B556BE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F43701F-AA8F-4C7E-80C4-4D09BD957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044C76E-D1DC-4708-B243-9D26684E0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16FFB27-D15F-4095-9397-B8D9FCCE7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A6DEE-0BE9-4490-8F93-9510A9B45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6CDA737-BAFF-4FE0-BA1A-0AB2412D8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2F74A5C-6A82-4B33-9D54-A757E6F9B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66CA64F-C73C-411C-B3ED-4734B33DD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14AE645-F5F1-42D0-9CC0-F29744091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97D6E10-133E-4E6C-AAD6-875A74A55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A096948-2A1E-49EB-A61C-B8D58821C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BA790B6-F32E-4426-B4F9-833A23CC7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AD8500D-68DC-45D5-8E3B-7EE1AEB7E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BFD1E6A-7DC6-45DF-8C32-71A63D07D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4434DFC-286D-4854-BFA9-1A04B1494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CC20A-7FBC-486E-92DF-F47AE29AA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C643404-34FB-43AA-97C4-DDAE7047D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F681896-0373-40F0-9AE8-A17D09CEA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78F8A01-869D-4FE8-B912-61B0701DB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239AB6B-D808-4F06-8FDF-F9DDDB1E1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5CD0E7E-5463-414A-925F-07860964B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C9BA664-D8F6-4669-9903-0FDF60C19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5C9A908-C63E-4B23-8D18-3B5935490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D047EDD-A925-41EB-B7D5-8C71B5FB2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E8AAD3D-682D-4607-9825-27801B5F3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57FBCFB-65B7-440B-9451-D3AA7B820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DA24F-4841-468A-91C7-BCD5CCF0F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B0F988E-1A5B-41F4-9479-ECA93C1BD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60A7D73-148F-457E-845D-BBD091465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19DCBD8-FC40-4B10-80F3-56B7D14B0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679F5B6-D94B-4DC2-AB97-B5A21EEE8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65CF4C6-E87D-4B29-A637-EE232DEA1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6935148-A14D-4DA7-8061-4B71D7666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9144D97-1EC5-4CFD-BE29-E1417B6AC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45DFD30-DA53-477D-81C1-8F521F1FF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5384FE1-2CC4-454C-8A18-418F28FAB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11ADF04-64ED-46BE-9997-AA547B120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0397-5BA0-475E-9335-51C8DB8DF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2FF24-3C01-4560-B481-1F074FFFF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940E7FB-C897-4D2C-A408-0431DEBB2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64AAFC7-37DA-4D7A-AA2A-544643972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5DF70B1-5BDC-4955-A275-221B88569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0F2DB8E-1548-4C3C-AAB8-83FDEC540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FCE69D0-B119-4903-81E3-A3466C491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4816B15-8B01-4CEC-8CC8-B599DE2E1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7F5A08D-4347-434D-B765-884ED295C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75B00F7-BAFA-445F-9F73-5FF5F1CD1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58D25F0-CDEF-4299-8982-967CF83E2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CBC90F2-831D-404D-89D8-9BC31C016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8F7E3-65C0-4731-B93C-EA4B681AC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E7D3648-42EA-4FCF-B876-C32DC20D2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E37355F-F921-4DC5-9499-EAB979879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3A7F9DC-0208-47CF-B71A-BA952A3ED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0C2FB92-5FA4-47A3-BB35-06125815F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DFB755E-D45D-4B6D-96F0-33448D3E8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9C0C9FE-A9CC-4F8D-899F-EDE64A4CC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963E323-0BF9-421A-B115-23D95C823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F89603B-FE63-48F3-9B5E-9086AF4A3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A1D908D-A509-4973-9580-B1F7F3303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F1391C5-5E94-4EC4-A537-918816489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2CC4C-A5B6-449C-A15B-0C34FB273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44BE894-6217-4226-A9F4-ABBC5C324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5FE9036-114C-482F-BB7C-7EA694F7F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F14411B-5164-48FA-B955-2BCD3A64E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5A28F7D-E7E6-4B2B-BA2C-0C1DFA2E5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95B3003-5EA6-4DFE-828A-D616834EC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06B7161-8CF9-47A6-A329-8FA64BC28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8D47070-7B31-4AAC-BFA9-70652D752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36BFD21-3EB1-44E2-856D-F764158DE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D81D47D-F054-43C0-A9FB-E9E2091C4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9482C58-D2B5-4BA6-8CD8-9DE01F061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4708E-03BF-4648-9D56-2C9F95DF9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071C08B-2553-4CE4-86FD-08FCF6B66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35944BC-8499-4981-A6A3-F59CCCABC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039753A-2904-46AB-B3B0-6A5F18DD1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16820BD-F95E-48E5-8C10-735747C66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6A30EBA-0E15-4661-A1E8-10959DF74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C454D73-9F38-4D60-896F-EDF2B2A86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1C399A7-6FC9-439F-B34D-F36CD3520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196DE9D-6E3D-4987-9CAE-69C1C3FC3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BC919BE-AEEA-49A2-B90B-AC5C6F12F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E4E4E3E-8847-4C76-8111-7BB18EB4E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9EE79-7B72-48A2-91CA-3242EC6DD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9DE15EF-5962-4234-B41C-C27DDDE26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BB4E890-298A-4FE4-A901-3D29FF4AD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887E4EB-8DCA-4240-9154-B80C95693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8944D14-FCCD-43B9-A13C-12DC7629C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E034C66-D477-45D1-A6CC-366E6619B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0AB9DC8-9860-42C6-9807-68B36076F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5413508-72CC-40D4-8DAA-EE5F1C4FA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CEFD38E-12BB-47F5-8FE3-23AE9344B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C16C5EC-4E0E-4339-8B72-51D31F03E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84CFADA-8779-411D-A168-E1EFA5AB1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A6648-6D3D-4740-8374-F5B7BA7D6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28858CD-9D2C-4BD7-8F32-1102D55E1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30051F7-7027-4384-B613-D28D7ADE6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1BC0AB4-E56C-45E1-9702-B9DB307C3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BD48F9E-4ABC-40D3-A5EF-56C7267A8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B56E1E8-37DF-4BFA-8F75-9864833AF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64F720F-FED9-4091-900E-56032D1CE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A3AE140-D42B-4E5F-BBDC-1161F35E2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32C5A7B-A93E-4631-A791-731F88D2B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5254B1A-4230-4065-8DB2-33E703F0F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B9E3944-DA67-4A10-B1C3-909D8789D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9C79E-D883-4D0F-A97B-1BDD81AED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CCF9DFA-63EA-48D1-B649-D563F0581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FEE53BE-A61B-4B60-9118-82E855AFE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091558F-9DD6-4C76-94FC-CB5362266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3CBA7C0-298E-4CB1-94FE-AA899A831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BB4A8F2-36B5-473D-ACB8-648D70605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455F174-36C3-4023-A2DF-66FDEE7EB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19444D9-7A2B-4672-9B59-AA9F97525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387E4A2-F36E-43B6-811D-DD6650E91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A231A44-392B-4A8F-AD15-18AC1CEF1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3972D20-6EC3-4DD2-A061-32575D48A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97E84-9C39-48B7-8B37-8CBF96663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431A527-9F97-4328-9068-2E1510B6E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34065CB-6A03-495B-8F2E-640FC29D7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1989B68-907C-4CBD-B2C8-F4D3931FE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2B5F2C8-68EC-4FC4-99A8-82CF6D7A9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765AD4C-E3B8-4515-AC38-1B75D09ED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680FD2F-3F6A-415F-AA1F-50C891759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30833BC-190C-494C-BAAC-33C2B9D1E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6482EC2-81FE-4354-8047-EAB2B2C03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8B8B27A-6C6E-494A-9EB4-8810B050D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E7D6D33-0594-4508-B9FC-4C2F51558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094828-1BA4-4F1F-81F4-8388A0A5F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F0CAAEB-E371-4683-BC81-CD2A337D4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B8CFFBA-12A8-44C2-9B1D-BFB9F97AB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A276545-E478-4CAA-A226-335CDA4A2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F0D8660-36E7-434D-9FCD-B00E1D3B0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7910291-2506-4A3B-A336-5C78CD45D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6FA8D09-454D-4084-982B-52F258489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40EB0AA-A8A6-418E-9761-97F0A0524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47C3309-8B4F-4C46-8B1A-B89F24CB0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8F2D3C2-F74F-4AF7-89CF-A158516A8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CDD6A21-6AB5-4B17-8E2A-A31274EC9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22845-3E4D-4A34-8F1A-554EF2E6C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3CDE37B-55E7-4357-9AEA-5E5429FBE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1739B63-8950-46C3-8CDD-98A2144AD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C925EF8-0F3F-4BBD-9776-3DDA4E3C4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2F869D7-0E16-409C-9C03-B99BE132B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4187CA2-3061-44F2-AD37-48A52A595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79F8134-C924-424D-9011-277B49A57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D3A977B-6C9B-44C3-8F32-AC42E03C0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554D4CD-3A76-48F9-B578-67B274183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7477D08-AE5A-4911-9C4C-25C38C954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810CB34-6113-4CD1-9D36-C448285F1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61E2-0D82-4BC6-BBDE-AE279E4DA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AA075-988A-4089-BA5A-55911B0B3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8E03FD8-96A4-4D12-84B6-6342F9D49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2624A65-1542-4254-BAAE-39B9922A5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AB192A5-E3F5-44BD-8C8B-D0B7AC199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9933D96-B083-4F1D-BA24-49E90D647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519C137-A8D2-48A4-B71A-54555D235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1C57003-7AEF-42FF-819F-ADDFDDD76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DC03EB6-AA56-4BC1-B68D-9A726F580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4D200A6-E8EF-42C5-A393-1A0F7DEEA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7757680-5596-4CE4-A434-20EC0C78E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7F301A4-1D48-469A-B93D-70B19B09F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3A4E9-7A45-4B0D-8465-9DF01E249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3F4A46C-7161-4F20-8EFA-1A706D1AF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B9660F4-7779-4A7D-BA1D-1CA06FB32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4D39A67-B1C7-40A0-A36A-CD0B39A36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E8CFFE9-BED4-48F9-B270-DA4BB55AF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DBC499D-7527-4949-A37A-F66515209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3C81789-F45B-4AAA-9FA2-490781E73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E0A1007-8C86-475F-A69D-6A59D486B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E661FFB-C3CD-40F4-90AC-CCCA8AA93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1502740-862C-4553-B3C2-572209567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D2E3117-2763-488D-9253-B3726F84B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BEAE5-80C2-4D42-96AC-3411E654E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6ADF739-A4D0-4786-9EB5-D72DA5154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B762FE4-05C7-42E6-8DF7-B15E2A0CF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2C76B26-378C-484B-9775-ADD5F9A57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FBCAF6C-16C6-4B5A-AB52-F78B7FB0D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129527B-1D6D-42A2-BEF9-896110D0D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5684603-1FE8-4E6B-AC0C-674BFCE7B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5EDDCF3-B636-4384-B771-64ACC98D4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D06D433-F63B-4E80-BC1C-550D13474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7B9A359-A126-4E4D-80A1-6B5778864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4987136-F0EE-4618-A464-ACC84F816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5A8D0-1D67-403E-8A29-66C81C105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7526E9D-6C8C-4F11-89E6-777B5E220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DFD82A8-E62D-4BF0-9EAA-CB6412331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DFEE26C-55DA-43DB-BA4D-3FC42EC89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C7065DE-0AE2-48B5-8477-441414339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4DBD09C-B8B0-4CC8-853B-DE3BD8743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C1633E8-35CA-4E65-8D92-7B06D6257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8698A20-3065-46F2-B612-7E0DC5528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CE3A4F9-FE5D-45D4-B268-B85145F16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A547C13-97D2-4839-BE66-B01D15817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D434686-CC9C-473F-9ECA-AE29B80DA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CF2FF-6A9F-4F53-ACA0-646970804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E20EDED-ED27-4C3F-8934-A24F85A3C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37391A6-8928-4119-A4B5-C9DC9EE4E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393BF7C-FE5C-4459-B096-D9E7BBD4E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7EB564A-4601-4AF1-89D9-AFB9CB160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0E518F2-2E9C-4823-833E-EB8A0910C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AF9D510-8544-41D9-B989-144F95A83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5B89326-5493-4695-8570-BA4AD2D88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4D8898A-1268-4E27-80B0-3CA6E4636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65D8F52-01E7-4664-9D40-C34D386A4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B74AB6E-00FC-45F5-A961-F5FA5CC31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8A5C3-B5D5-44FD-9394-16C3799E2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DF58BE0-4B5A-4829-A536-35BD6B584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D6F6577-99B3-47D9-841A-529E44501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FB246FB-0E0A-4F1A-9846-E762BD28F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F2E8636-C0ED-4C31-B886-79B9C4AD8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45CA8DC-63D5-4D7D-A96B-24D590A96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7251B93-8920-4EE6-AE3A-ADA0800CD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C3BDF4B-A192-48E2-853F-78F3D8ADA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968D2B0-307F-4A8A-9602-17C69C73B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365C18B-562C-46E6-9662-4C5A21463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361E45B-181D-4E68-9B2D-D4D265020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7225EF-0A20-430A-889D-BC0921750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5A2ABA8-9C1B-45B5-83AA-A09A25FAE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8283A1E-2C43-4F50-A5BF-6F1FACDFD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8F1C5B1-BB69-426C-9C51-462D22C32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5721622-2144-487F-89BC-2DC334AF5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6CF6CB2-DA58-43C4-8CAC-275FCEF11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529D6E1-ABB7-444F-AC4A-A5230D4E6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76A5194-F531-4220-AEF4-B7FF93D26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4D03857-019D-45F7-80F8-8C15C0955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7F1E4D5-2193-48E8-9163-EEB9C91DC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905D640-BDA5-43F9-A20A-3B1CDDDA9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86EA5-169A-4760-9475-5442E81EC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D2EE16B-DCA1-4F70-960C-834BD5550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9DA1242-8122-41BC-8B72-BC6EFBCFB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D7216C7-DCC2-49C3-A851-873B8741C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EA5B14D-039F-42B9-B8E4-9551B9F1E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8318959-4F8B-404F-B86C-EABE2DB69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89DB772-0B7A-4EF4-8E5C-FA16B944C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2DF204B-6880-4B1F-A1F3-F0F46E3ED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961D9FB-5DC4-499A-A760-7A9FA3AC0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9F74150-9B9A-4690-985F-5C0A534A3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C7AA763-3327-4A25-A30D-438FDE5F8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61A7F-A0C6-46FA-AA66-61882675C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764FE10-399F-4AC9-8FB5-9E92584A8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0BFBFD6-2736-4A9F-A41F-8AB54A10D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BFAB229-C696-4459-8867-0A4F7B2C4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79D7257-6F91-40D7-99BF-7C957987E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969B10F-E634-4377-8C79-81AFE63DA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3AC51B2-7988-4C1B-88B5-3D43A5188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8F5CE52-6F54-4121-9645-1630A6F08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DF96325-A360-4F19-AAD7-F648E58A6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2DE366A-5888-4C1F-8101-E71C67F77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15FC24D-84E9-491B-A9EE-36674DF13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1EAB2E-B417-4B6B-9A4D-AEA266880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135DD06-D481-458E-9BEA-E75193A1C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97401B4-326C-4D2B-A667-6E2B2CBEB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D6612FC-B3C9-4065-9351-1743B44C7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44CBE5D-F605-4D37-A60A-863342A3E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81AE057-C159-4412-8F6D-68C347E99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04F0FA3-3850-433A-B7D7-37EAE73AB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A3499FD-7718-4BC2-A9D9-AFEC77908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E45B9E1-B69C-4863-B325-33DC55BD2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873BCB7-B4CD-4D3C-9CA2-A0915D005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1541BEF-A59B-4274-AFA8-93B8A5376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DB4D-3C7B-4270-9D45-103ED5BB2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296782-2EBA-4C19-A908-76A08BFCF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B2C8255-FF8C-4390-BA69-6E8F93A95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9D518C2-A8A2-4A11-BA18-E817C2CEF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A78D04D-2443-4301-B469-701E54300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3A0C927-8CED-479C-A503-063DAF6B4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5A9D0EE-CF57-4C9B-B4A4-58BEAAE8C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C4BEC9D-D5B0-4FD4-9CBB-7384A41CD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F87AA4F3-4504-4ECE-9B59-8F8D3FD96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7B6D35B5-FF50-4332-B581-D106D7372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C47DAF6-54D7-4B71-9711-58D605514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CC6EFD2-20B4-4596-A859-F62B48670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C34282-5D13-436F-A5DD-12BCBDDE1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0AD72F7-D8D2-4D7C-BF69-573F87C3F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AF50370-E0CB-4C10-94A4-52A64F6AF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94D8DE18-5B3C-4E17-A381-29AFF84A6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425D2DC8-DA00-4C01-8C63-99C9552C6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9265519F-CEE1-41B9-9879-7BB7989C0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C544036-2E20-49A0-9356-C4CF70DF8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428EC0A3-2E72-4D07-B2CB-92AD6EECB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E9D1166-B8CC-4D09-9283-C4F2BFD42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64FE4200-11E0-4F52-80EE-657EB5758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5FAA7B5-982A-498F-A865-746B702A0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939A99-7B64-4221-BD7F-04F099FE7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43DFA0E-2975-4DF5-BF0F-156268F2A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E762B95-A207-4E2B-A97B-2B01397FA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8F68655-4179-4FB8-9EE2-1A36F3515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1A81B73-FED5-491A-875E-8DC28A35D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8D3AA94-DEA6-45F1-9D1F-1B6B1D534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68D3249A-8629-459E-AC15-3EBBB6AE0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DA57BEE-DFE4-4914-90E8-1B2E0E3B1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AACF05D-645A-48B4-B535-B7E121895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0745788-A009-40A2-919A-A72AE70BA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C3CE899-6ECA-4688-B17A-F42B5F9BE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CCEBFF-16F3-4DD8-B2A9-5EF889DE4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CD6D228-022C-4DA6-86FD-38A2F1300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8337A5C-C7C6-4404-A664-C099FC5FD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C6C1D4F-BAAD-4CFB-9C74-9E6A65837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A44E1C4-9329-4EB3-A7F8-A1FD31AF8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079833F9-B360-4B98-A220-B0F5584B7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B2403315-2965-4713-8918-61731B294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C08BC13-56DB-49CE-AEFE-8A10C80EE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824EB5E-A768-47E5-9805-6B774FDDF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AA4B75D-016D-495F-87DC-66EAA36F5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9656966-0C1E-4790-B01E-AE1BA77DA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3AB968-D59F-4447-8504-39F64F72C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8A9D0AE1-2591-442E-94CC-9846035BD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7C3FF77-4565-4E66-98DB-C6F0EA1AF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19CDE78-495C-42AD-9493-8C2A967F4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EA5D07F-0972-4156-83EF-172BF1E96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981AE01-074A-4AFC-B1D7-77999E8FE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59F252F-EB44-4107-9B55-6C71A4C92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42B2065-1455-41A5-BF3E-8795CC611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E2B7834-E826-462C-A706-74CFEF830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6F51A6B8-2656-4BA0-A4E6-70072E75C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0E653D3-E673-4975-8D8B-DC01754D0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B8742F-D993-4547-8862-17267C070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A295BBD2-D2B4-4E5A-BBF7-9BE2E17C0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5293DD23-B3B0-4641-B869-EAD16C3B2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3712842-9887-4D69-BB59-AB0CC8AAD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827AF72C-9553-46BC-ACA7-232CDC33D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72D7C96-5C89-49FA-BDA8-59594C094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DFFE065C-E476-4F41-93E9-A0A188D1A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3FEF6D43-C2FB-4157-B3F6-0A3568CC8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623A095-63ED-41C2-AE69-3170F8012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D6287192-3FEC-4C1D-99CA-907EE9A18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6189320-EF98-465B-B9FD-19D19377C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557FD4-5C2B-4EFB-8D34-57D036C6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F7EA4B8-BE6C-430B-9AC6-40CCC793F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4BE1D8A-E8CD-4527-9FF2-BB174AEC3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1EDCD9C-52B5-44D7-A672-DB0C2747F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5C4A885-8221-4CAD-9C3E-E9331CFCB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90296B9-A54E-4264-A9D3-1A8C9F4AD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F3EAEAB-0CC5-42A4-9AD2-57E7F3A94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A893B5A-EF19-406B-8D01-4BA8EEE9C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844894E-062A-412C-8C66-FCEA59C84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C6F866CF-2B28-4AA2-9703-7A2628DFF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2748DAF-80F4-4B89-BC8D-0809F2EF3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803A78-2DA6-4FE6-BFCC-E75C923E0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67D8C3D-DC4C-4D65-8EAD-DB5E47FD4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6944116-3B21-4802-B409-9A8D50B6E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0FCBC67-287C-4884-8C09-F9712D24E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C5039104-B0EE-42C7-88F6-BBCBCC7F8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5DEC44E-1C09-4B72-8FA3-296CC13F7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AFCEC40-B0AF-4DA6-8436-5975B6B8A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231A696-E8F6-4095-877F-3404E1FBF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DB43963-3820-4881-8AB4-953FFEE2B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949E053E-B5BB-42EE-B4D8-4961B3258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E68E01C2-29AB-4CBD-92DE-B97B51DD8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8D94CF-A97A-4809-9C62-299EE3C70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4E9885E0-5F80-4DEF-9485-E4A1497ED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41CEA874-D58C-49E9-A5F3-D0D780CCA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563F23AE-94DB-4C38-A45E-875508514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01768CD8-F62C-4491-8B00-A602DA5E2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9E6CECBD-ECF2-491F-929B-6018786E6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02149D3B-C979-4638-A678-842AFBCD5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D81688F5-2E77-42C9-9DE3-146DF370C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EC25EE39-C331-45BE-BE2C-CD7D431E7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E2C99F9-A1D4-4315-BADC-230ADC88A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41D50B6D-4D12-4B16-9B32-F5572A2F3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C51BE7-DA55-42E5-802B-908172437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BC6098B8-3F01-493C-B4BF-B6FE020BE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A7E975CA-0A10-4269-87A1-167805B02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DFDA3CD9-9E10-4381-8348-4A7BC17E3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55A6EA86-9C08-40D8-B24C-CF87EB45D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9FFFF40-F13F-4D8C-9411-B95F9ADAD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A24C5C4C-8A6F-41AB-BC1F-A54B89300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63ABB484-146F-4FE5-94A3-15F3A6DCD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DA658B9E-FCF3-4BEE-8B4E-5CB6DFF9E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E650BD4B-7421-40E6-94AC-14FB5E44F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BC1CA470-11E9-486B-A3B9-3882C04EF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C534-7EED-4BB3-B2D7-4D3C3F837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0A9D7A-3CC9-44DD-9A52-5D001DC5C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39465893-96B8-4970-9E31-051E458CE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663BC4C5-BF82-4429-9D80-74C9F4F43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13611DCE-DEF5-418C-A137-F97722423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EA7665AD-EBC8-4777-ABEB-025522CFD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F2B42374-F4A7-416E-BC2B-22B99F326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E957EF55-94F8-415F-9DEB-33B285625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D91C6B23-771E-4DB4-B202-9F57C302A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E59421F9-FAF7-401A-A36F-428ED9B0A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9EED5321-11F1-47A9-97C9-237DDEC9D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05BF187A-DB43-4FC8-9600-CB03E02FB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D4ECA5-EC7A-4DF2-A136-14FF616E8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9D44E9F1-AB98-4222-8435-C110E0343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666FC3FA-2998-4F0F-A8F3-2F3074C2A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FED1400C-E6E9-4CC8-9BA1-779A6BCED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1C22BDFF-27CA-4645-8950-26CA4D9BF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A0697CFF-2DAA-4E2A-9D45-6B880CB94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71381E4A-38C9-4F61-8365-C6684BF5D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F5902B5E-B90D-4A53-957F-51CF2CA95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44211FF7-FE60-4752-8AE0-A70D789E1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E983768D-1DBD-4C3F-8665-E370C8182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E36A02DF-EA67-4A54-9CCE-A25492BA8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B67E86-CAA5-4E38-B374-F1BA94372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8DDEDC56-86F9-40E0-BB54-7E17C6B48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F00A3C2A-4D97-4DB0-9322-021683E0B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53A743FD-2518-4861-B032-27FE34F9D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86BA43E5-240A-481D-84D7-9290658AE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850E4F2E-A8E9-44D5-8F02-77F7DE49C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1BCC00D8-1D3A-497A-8079-33F0C0E67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CFCA5B9D-50FB-46B2-B27B-2ABD6CB09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2EA28684-5B1D-457C-99DC-65AB47E06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49CE2DA0-E970-481F-88BD-F58400EF3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1AB2ED8A-62FC-46B0-AB48-12D95FA32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B97120-8A67-4971-88E9-AF9A30C87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5C5A1342-1DBD-490E-86FF-8C1D079A1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2CBAA556-C1F8-4BC2-B132-EE27B0458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DA23E0E5-650E-4666-B589-5EB79F28B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7E33B760-7F8A-404A-9096-35F546067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F6249FD7-6341-4E48-90AE-A57DFA467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67DA00CA-848F-4AD6-8409-435156986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DF9638E4-378A-4369-8402-B776C52DB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208CFBFC-3212-42A7-93EE-9185CC2CA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7CA6E145-5882-4EF4-A29D-5B7BB5D87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C30D4311-DBFE-4803-9693-B875F7FCC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6A887A-3074-42AD-9780-3124A2390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E5C466AA-37EC-44EF-A33E-9A0232C76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5BEF00D8-66CD-48B2-A6A7-D4B8DB1BF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B08E1CC0-57BE-42EA-B0D1-66A637338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3F266E5B-77ED-4DE8-991C-370ED6305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44457451-3857-4EE9-BA5A-11146EEB9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09C2B36A-9DEC-45B4-B45E-42BAE7906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23459748-F7F8-4D78-8953-A5017B34D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C3B97FF2-B0D7-417A-BEB1-89B5DDB94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06FE90D4-A44A-4254-AB01-16E8A27E8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62B4C0EE-9B0F-4687-8219-1002D9C31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BAC4C8-342C-4248-9625-600B01BAE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9DD6AE34-70A6-4001-8FF4-60C671186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705254ED-B443-40A4-A71C-CA03F1206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72D6FAB3-3090-489B-B17F-350AA8A98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E0C146EA-8F29-490B-96DB-26FD09674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24F6BEF7-7F9B-49A6-B2A0-C6E6197D5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46D713B3-AB34-4615-926C-545114209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0986D371-685E-48A5-9FC6-137AD7152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16FBCA62-C37D-44BF-B53E-2677D9F88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0B158A0B-3668-4880-89DC-3C263054D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B8E53A79-F728-49A8-A9F7-A0146659A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9D964F-5696-436E-8243-9B6F478F7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F98CBC25-AB1D-40C4-A74C-FEC9994AD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5657EA-0E03-42F4-A499-24FC4EE92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47C567-47FE-4056-96B6-DAD1FC3C2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85C5EA-59BD-4FEE-B712-64FB6BD4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5B84-534B-4021-87A6-F385A9B1E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94F131-F3E6-49FB-97CE-48958412D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1BF325-0BDD-4327-AB86-0137B6FEC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729193-31CF-41C1-8ED7-39C8BE378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521F99-85C6-4D26-B987-6707DF167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CF30CF-DBC4-49C3-BD45-C1F536951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CA4127-9FCE-44B4-B1AD-92CCD0F0A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93A19B-9E7E-4240-965C-BEF7E0436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410F3E-C7E6-4EE6-A41F-AA1291377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84342E-C569-4AF3-B8BD-BE4736E8B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432225-5B0F-4B71-8C39-C71A63FE1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F2C8-C663-4E41-A655-CD6F50D4C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74E197-BDB6-48ED-8CF0-AD4374BE8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A39A3B-33BF-405C-AF91-BABF4389D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0F3B15-41D7-4723-B497-80884C91C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F9F56F-55FD-4B89-8F3C-71E39E1FD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7D8FDF-4C4F-4306-AF53-52FE86FAC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B974F4-7ACA-48A8-B89D-A278A5E4D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4051BE-2B31-4437-BEAD-CE294031A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C5F7D8-6F53-4930-8EC4-7A29F5DBB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663EBF-AD45-411E-80EF-61E252CCA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1BF2F6-F752-47D5-9D9C-E6F1A44C1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8FBD-03AE-4864-887D-384D105E8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CE09E7-5C79-44B1-84A4-5460BC4F7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31FAE6-1E25-4BE6-8754-731719101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7E88E7-4BE1-457D-8597-D7F9ED87C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560316-73C8-43C4-8571-68C053159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D95226-9898-4052-A316-3BF1B7760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D12CF3-24BB-4BBC-BB43-ADBC7AFF9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857147-9A68-4CFC-9D58-7F11FC786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67B893-648A-485A-A590-6D42C9DA2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0F1B6A-9E53-4729-9591-7DB687ECB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10E68F-FCF0-401D-8287-9FDF1E089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FFBFB-8E1D-4177-9837-C8115134F32E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4F677-15C0-43F4-8EAB-069924418FFA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68C1D-53AF-46D0-B3B1-998D940B5469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DC30C-1A1F-4B0B-8CAD-6F672AFAA5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F1A2D-EBBE-49A7-A0DF-A855535FA9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78B4B-4D09-489F-B735-AADFC02596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12AA7-A84F-4D07-8060-F7570ED341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CF74B-B812-4FBA-AAEC-DE85D14EAB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8C615-F59F-4BE3-A44B-AAF68823C1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7C94A-3762-4A1A-93DF-5EF0955101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5DF54-0723-4C0F-B3F8-80B5C8E235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3C0B9-B335-4C9D-8D65-5EAACAB32B7D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D3236-54BE-4A38-BFD1-231CBA9201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C9FAC-4E58-4B65-988E-CC421E8A7C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7106B-8204-4D9C-AB03-AF6428D509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8EB15-D291-4B6F-AA17-B33114F8B744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26D22-4306-428D-8C77-7C7658D9FD6C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9FF38-7984-48CA-B0F0-5FA2A43E242D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5DC44-7D6D-4C1F-8B19-600F3A74659A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D4F84-F9CE-435F-8A99-023045118EB4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C3F39-3AA0-482F-84E7-E712FEFB380F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7168B-1E25-4CE4-88DA-F799FDD9766F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C1087-6C96-41E3-9E5A-6DE0E90BCC79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8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9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2E432-259B-43C1-BF09-23F0B64A194C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9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9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9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342CE-3783-4C94-9652-FD16586DF261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9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9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9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2FFC1-D7C0-4512-9E03-5572A7E47FEF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2E09E-5A72-47E4-91F3-52AB84248D94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dt" idx="10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ftr" idx="10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sldNum" idx="10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21C75-0A14-459D-BB78-CD3E5FB6C00C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10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ftr" idx="10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 type="sldNum" idx="10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51312-3EF9-4C0F-902C-B50A918EE88C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 type="dt" idx="10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 type="ftr" idx="10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 type="sldNum" idx="10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49232-A883-463E-A98F-F26ECAAF2207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 type="dt" idx="10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 type="ftr" idx="1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PlaceHolder 5"/>
          <p:cNvSpPr>
            <a:spLocks noGrp="1"/>
          </p:cNvSpPr>
          <p:nvPr>
            <p:ph type="sldNum" idx="1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08111-1AE2-468D-A5A1-F23BB6C80521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 type="dt" idx="1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0" name="PlaceHolder 4"/>
          <p:cNvSpPr>
            <a:spLocks noGrp="1"/>
          </p:cNvSpPr>
          <p:nvPr>
            <p:ph type="ftr" idx="1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1" name="PlaceHolder 5"/>
          <p:cNvSpPr>
            <a:spLocks noGrp="1"/>
          </p:cNvSpPr>
          <p:nvPr>
            <p:ph type="sldNum" idx="1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FA74B-8E17-4CC5-9F50-3E735FD1E6AB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 type="dt" idx="1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 type="ftr" idx="1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2" name="PlaceHolder 5"/>
          <p:cNvSpPr>
            <a:spLocks noGrp="1"/>
          </p:cNvSpPr>
          <p:nvPr>
            <p:ph type="sldNum" idx="1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31B6B-F619-44F8-A534-02308E40B389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3CABD-4E07-464C-B598-A286A6C0600D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 type="dt" idx="1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 type="ftr" idx="1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3" name="PlaceHolder 5"/>
          <p:cNvSpPr>
            <a:spLocks noGrp="1"/>
          </p:cNvSpPr>
          <p:nvPr>
            <p:ph type="sldNum" idx="1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38EE7-B1B0-49B4-8713-8F3797E8EE25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 type="dt" idx="1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3" name="PlaceHolder 4"/>
          <p:cNvSpPr>
            <a:spLocks noGrp="1"/>
          </p:cNvSpPr>
          <p:nvPr>
            <p:ph type="ftr" idx="1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4" name="PlaceHolder 5"/>
          <p:cNvSpPr>
            <a:spLocks noGrp="1"/>
          </p:cNvSpPr>
          <p:nvPr>
            <p:ph type="sldNum" idx="1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DAF4E-C8AD-4D9E-B4CD-16919A1889D6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3" name="PlaceHolder 3"/>
          <p:cNvSpPr>
            <a:spLocks noGrp="1"/>
          </p:cNvSpPr>
          <p:nvPr>
            <p:ph type="dt" idx="1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4" name="PlaceHolder 4"/>
          <p:cNvSpPr>
            <a:spLocks noGrp="1"/>
          </p:cNvSpPr>
          <p:nvPr>
            <p:ph type="ftr" idx="1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5" name="PlaceHolder 5"/>
          <p:cNvSpPr>
            <a:spLocks noGrp="1"/>
          </p:cNvSpPr>
          <p:nvPr>
            <p:ph type="sldNum" idx="1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8483D-4D97-495B-A136-B9138B7EE598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4" name="PlaceHolder 3"/>
          <p:cNvSpPr>
            <a:spLocks noGrp="1"/>
          </p:cNvSpPr>
          <p:nvPr>
            <p:ph type="dt" idx="1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5" name="PlaceHolder 4"/>
          <p:cNvSpPr>
            <a:spLocks noGrp="1"/>
          </p:cNvSpPr>
          <p:nvPr>
            <p:ph type="ftr" idx="1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6" name="PlaceHolder 5"/>
          <p:cNvSpPr>
            <a:spLocks noGrp="1"/>
          </p:cNvSpPr>
          <p:nvPr>
            <p:ph type="sldNum" idx="1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8448A-A830-4488-A336-768F00968689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5" name="PlaceHolder 3"/>
          <p:cNvSpPr>
            <a:spLocks noGrp="1"/>
          </p:cNvSpPr>
          <p:nvPr>
            <p:ph type="dt" idx="1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6" name="PlaceHolder 4"/>
          <p:cNvSpPr>
            <a:spLocks noGrp="1"/>
          </p:cNvSpPr>
          <p:nvPr>
            <p:ph type="ftr" idx="1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7" name="PlaceHolder 5"/>
          <p:cNvSpPr>
            <a:spLocks noGrp="1"/>
          </p:cNvSpPr>
          <p:nvPr>
            <p:ph type="sldNum" idx="1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5BB99-098C-4F18-966B-5F7E0CE3F893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6" name="PlaceHolder 3"/>
          <p:cNvSpPr>
            <a:spLocks noGrp="1"/>
          </p:cNvSpPr>
          <p:nvPr>
            <p:ph type="dt" idx="1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7" name="PlaceHolder 4"/>
          <p:cNvSpPr>
            <a:spLocks noGrp="1"/>
          </p:cNvSpPr>
          <p:nvPr>
            <p:ph type="ftr" idx="13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8" name="PlaceHolder 5"/>
          <p:cNvSpPr>
            <a:spLocks noGrp="1"/>
          </p:cNvSpPr>
          <p:nvPr>
            <p:ph type="sldNum" idx="1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3E737-64F4-464D-9708-155FFCDE9454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7" name="PlaceHolder 3"/>
          <p:cNvSpPr>
            <a:spLocks noGrp="1"/>
          </p:cNvSpPr>
          <p:nvPr>
            <p:ph type="dt" idx="1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8" name="PlaceHolder 4"/>
          <p:cNvSpPr>
            <a:spLocks noGrp="1"/>
          </p:cNvSpPr>
          <p:nvPr>
            <p:ph type="ftr" idx="13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9" name="PlaceHolder 5"/>
          <p:cNvSpPr>
            <a:spLocks noGrp="1"/>
          </p:cNvSpPr>
          <p:nvPr>
            <p:ph type="sldNum" idx="1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38ECA-C197-46C5-851B-ECD1D90555AE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8" name="PlaceHolder 3"/>
          <p:cNvSpPr>
            <a:spLocks noGrp="1"/>
          </p:cNvSpPr>
          <p:nvPr>
            <p:ph type="dt" idx="1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9" name="PlaceHolder 4"/>
          <p:cNvSpPr>
            <a:spLocks noGrp="1"/>
          </p:cNvSpPr>
          <p:nvPr>
            <p:ph type="ftr" idx="14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0" name="PlaceHolder 5"/>
          <p:cNvSpPr>
            <a:spLocks noGrp="1"/>
          </p:cNvSpPr>
          <p:nvPr>
            <p:ph type="sldNum" idx="14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C1973-6E39-401E-A6FE-703CF24AAE1F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9" name="PlaceHolder 3"/>
          <p:cNvSpPr>
            <a:spLocks noGrp="1"/>
          </p:cNvSpPr>
          <p:nvPr>
            <p:ph type="dt" idx="14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0" name="PlaceHolder 4"/>
          <p:cNvSpPr>
            <a:spLocks noGrp="1"/>
          </p:cNvSpPr>
          <p:nvPr>
            <p:ph type="ftr" idx="14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1" name="PlaceHolder 5"/>
          <p:cNvSpPr>
            <a:spLocks noGrp="1"/>
          </p:cNvSpPr>
          <p:nvPr>
            <p:ph type="sldNum" idx="14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7CC04-4FB4-4D98-A749-AAEA04911989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0" name="PlaceHolder 3"/>
          <p:cNvSpPr>
            <a:spLocks noGrp="1"/>
          </p:cNvSpPr>
          <p:nvPr>
            <p:ph type="dt" idx="14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1" name="PlaceHolder 4"/>
          <p:cNvSpPr>
            <a:spLocks noGrp="1"/>
          </p:cNvSpPr>
          <p:nvPr>
            <p:ph type="ftr" idx="14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2" name="PlaceHolder 5"/>
          <p:cNvSpPr>
            <a:spLocks noGrp="1"/>
          </p:cNvSpPr>
          <p:nvPr>
            <p:ph type="sldNum" idx="14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DF7C2-F861-425B-AB98-CF8C4A6C11D0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0F7B9-4E6D-43F8-998C-0F1F9E0593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1" name="PlaceHolder 3"/>
          <p:cNvSpPr>
            <a:spLocks noGrp="1"/>
          </p:cNvSpPr>
          <p:nvPr>
            <p:ph type="dt" idx="14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2" name="PlaceHolder 4"/>
          <p:cNvSpPr>
            <a:spLocks noGrp="1"/>
          </p:cNvSpPr>
          <p:nvPr>
            <p:ph type="ftr" idx="14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3" name="PlaceHolder 5"/>
          <p:cNvSpPr>
            <a:spLocks noGrp="1"/>
          </p:cNvSpPr>
          <p:nvPr>
            <p:ph type="sldNum" idx="15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EB3B4-0F44-437B-811F-F1A098FC30E3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2" name="PlaceHolder 3"/>
          <p:cNvSpPr>
            <a:spLocks noGrp="1"/>
          </p:cNvSpPr>
          <p:nvPr>
            <p:ph type="dt" idx="15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3" name="PlaceHolder 4"/>
          <p:cNvSpPr>
            <a:spLocks noGrp="1"/>
          </p:cNvSpPr>
          <p:nvPr>
            <p:ph type="ftr" idx="15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4" name="PlaceHolder 5"/>
          <p:cNvSpPr>
            <a:spLocks noGrp="1"/>
          </p:cNvSpPr>
          <p:nvPr>
            <p:ph type="sldNum" idx="15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51F22-7CA8-46AC-8F1C-A29AF9AB47A9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3" name="PlaceHolder 3"/>
          <p:cNvSpPr>
            <a:spLocks noGrp="1"/>
          </p:cNvSpPr>
          <p:nvPr>
            <p:ph type="dt" idx="15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4" name="PlaceHolder 4"/>
          <p:cNvSpPr>
            <a:spLocks noGrp="1"/>
          </p:cNvSpPr>
          <p:nvPr>
            <p:ph type="ftr" idx="15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5" name="PlaceHolder 5"/>
          <p:cNvSpPr>
            <a:spLocks noGrp="1"/>
          </p:cNvSpPr>
          <p:nvPr>
            <p:ph type="sldNum" idx="15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CE69B-2549-483D-ABBF-497CBE0D650F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4" name="PlaceHolder 3"/>
          <p:cNvSpPr>
            <a:spLocks noGrp="1"/>
          </p:cNvSpPr>
          <p:nvPr>
            <p:ph type="dt" idx="15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5" name="PlaceHolder 4"/>
          <p:cNvSpPr>
            <a:spLocks noGrp="1"/>
          </p:cNvSpPr>
          <p:nvPr>
            <p:ph type="ftr" idx="15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6" name="PlaceHolder 5"/>
          <p:cNvSpPr>
            <a:spLocks noGrp="1"/>
          </p:cNvSpPr>
          <p:nvPr>
            <p:ph type="sldNum" idx="15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E84A0-4E66-42FF-8E33-3B527AF55EA4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5" name="PlaceHolder 3"/>
          <p:cNvSpPr>
            <a:spLocks noGrp="1"/>
          </p:cNvSpPr>
          <p:nvPr>
            <p:ph type="dt" idx="16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6" name="PlaceHolder 4"/>
          <p:cNvSpPr>
            <a:spLocks noGrp="1"/>
          </p:cNvSpPr>
          <p:nvPr>
            <p:ph type="ftr" idx="16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7" name="PlaceHolder 5"/>
          <p:cNvSpPr>
            <a:spLocks noGrp="1"/>
          </p:cNvSpPr>
          <p:nvPr>
            <p:ph type="sldNum" idx="16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C344D-89CC-45E4-9741-034320FB4EDF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6" name="PlaceHolder 3"/>
          <p:cNvSpPr>
            <a:spLocks noGrp="1"/>
          </p:cNvSpPr>
          <p:nvPr>
            <p:ph type="dt" idx="16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7" name="PlaceHolder 4"/>
          <p:cNvSpPr>
            <a:spLocks noGrp="1"/>
          </p:cNvSpPr>
          <p:nvPr>
            <p:ph type="ftr" idx="16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8" name="PlaceHolder 5"/>
          <p:cNvSpPr>
            <a:spLocks noGrp="1"/>
          </p:cNvSpPr>
          <p:nvPr>
            <p:ph type="sldNum" idx="16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27243-5393-4BD3-875D-E119A9BC94AE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04B3A-9192-48A7-88E8-A14F2BFAE230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C416E-43BD-497D-8A4E-D148EA0B69B5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7E8B4-844C-495D-9BD1-0503721E8DC2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10F36-B16E-4B63-BC1C-962028485805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jpeg"/><Relationship Id="rId8" Type="http://schemas.openxmlformats.org/officeDocument/2006/relationships/image" Target="../media/image36.jpeg"/><Relationship Id="rId9" Type="http://schemas.openxmlformats.org/officeDocument/2006/relationships/image" Target="../media/image37.jpeg"/><Relationship Id="rId10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4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7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1331640" y="1915920"/>
            <a:ext cx="6786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доровьесберегающие технолог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6" name="Прямоугольник 1"/>
          <p:cNvSpPr/>
          <p:nvPr/>
        </p:nvSpPr>
        <p:spPr>
          <a:xfrm flipV="1" rot="10800000">
            <a:off x="2263680" y="4632840"/>
            <a:ext cx="567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Составител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воспитатель МБДОУ №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«Дружные ребята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Величко М.А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у-джо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8" name="Объект 3" descr=""/>
          <p:cNvPicPr/>
          <p:nvPr/>
        </p:nvPicPr>
        <p:blipFill>
          <a:blip r:embed="rId2"/>
          <a:stretch/>
        </p:blipFill>
        <p:spPr>
          <a:xfrm>
            <a:off x="549360" y="1757520"/>
            <a:ext cx="8137440" cy="49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9" name="Объект 3" descr=""/>
          <p:cNvPicPr/>
          <p:nvPr/>
        </p:nvPicPr>
        <p:blipFill>
          <a:blip r:embed="rId1"/>
          <a:srcRect l="-1036" t="0" r="-1036" b="0"/>
          <a:stretch/>
        </p:blipFill>
        <p:spPr>
          <a:xfrm>
            <a:off x="1116000" y="1417680"/>
            <a:ext cx="6985080" cy="4603680"/>
          </a:xfrm>
          <a:prstGeom prst="rect">
            <a:avLst/>
          </a:prstGeom>
          <a:ln w="0">
            <a:noFill/>
          </a:ln>
        </p:spPr>
      </p:pic>
      <p:sp>
        <p:nvSpPr>
          <p:cNvPr id="2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альчиковая гимнаст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инамические пауз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2" name="Объект 3" descr=""/>
          <p:cNvPicPr/>
          <p:nvPr/>
        </p:nvPicPr>
        <p:blipFill>
          <a:blip r:embed="rId2"/>
          <a:stretch/>
        </p:blipFill>
        <p:spPr>
          <a:xfrm>
            <a:off x="1692360" y="1816200"/>
            <a:ext cx="626436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PlaceHolder 1"/>
          <p:cNvSpPr>
            <a:spLocks noGrp="1"/>
          </p:cNvSpPr>
          <p:nvPr>
            <p:ph type="title"/>
          </p:nvPr>
        </p:nvSpPr>
        <p:spPr>
          <a:xfrm>
            <a:off x="650880" y="11556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рригирующая гимнаст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4" name="Объект 3" descr=""/>
          <p:cNvPicPr/>
          <p:nvPr/>
        </p:nvPicPr>
        <p:blipFill>
          <a:blip r:embed="rId1"/>
          <a:stretch/>
        </p:blipFill>
        <p:spPr>
          <a:xfrm>
            <a:off x="281160" y="963720"/>
            <a:ext cx="4162320" cy="2701800"/>
          </a:xfrm>
          <a:prstGeom prst="rect">
            <a:avLst/>
          </a:prstGeom>
          <a:ln w="0">
            <a:noFill/>
          </a:ln>
        </p:spPr>
      </p:pic>
      <p:pic>
        <p:nvPicPr>
          <p:cNvPr id="2285" name="Рисунок 6" descr=""/>
          <p:cNvPicPr/>
          <p:nvPr/>
        </p:nvPicPr>
        <p:blipFill>
          <a:blip r:embed="rId2"/>
          <a:srcRect l="0" t="0" r="-1596" b="0"/>
          <a:stretch/>
        </p:blipFill>
        <p:spPr>
          <a:xfrm>
            <a:off x="2394000" y="4005360"/>
            <a:ext cx="4100400" cy="2576520"/>
          </a:xfrm>
          <a:prstGeom prst="rect">
            <a:avLst/>
          </a:prstGeom>
          <a:ln w="0">
            <a:noFill/>
          </a:ln>
        </p:spPr>
      </p:pic>
      <p:pic>
        <p:nvPicPr>
          <p:cNvPr id="2286" name="Рисунок 1" descr=""/>
          <p:cNvPicPr/>
          <p:nvPr/>
        </p:nvPicPr>
        <p:blipFill>
          <a:blip r:embed="rId3"/>
          <a:stretch/>
        </p:blipFill>
        <p:spPr>
          <a:xfrm>
            <a:off x="4788000" y="982800"/>
            <a:ext cx="4092480" cy="26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ПСИХОГИМНАСТИКА</a:t>
            </a:r>
            <a:br>
              <a:rPr sz="4400"/>
            </a:b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   Д/и «Азбука настроений</a:t>
            </a: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»                                  Пиктограмм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8" name="Picture 2" descr="C:\Users\Владелец\Desktop\МО\sc0000.bmp"/>
          <p:cNvPicPr/>
          <p:nvPr/>
        </p:nvPicPr>
        <p:blipFill>
          <a:blip r:embed="rId2"/>
          <a:stretch/>
        </p:blipFill>
        <p:spPr>
          <a:xfrm rot="20119200">
            <a:off x="1801800" y="1566360"/>
            <a:ext cx="1674720" cy="2367000"/>
          </a:xfrm>
          <a:prstGeom prst="rect">
            <a:avLst/>
          </a:prstGeom>
          <a:ln w="0">
            <a:noFill/>
          </a:ln>
        </p:spPr>
      </p:pic>
      <p:pic>
        <p:nvPicPr>
          <p:cNvPr id="2289" name="Picture 3" descr="C:\Users\Владелец\Desktop\МО\sc0001.bmp"/>
          <p:cNvPicPr/>
          <p:nvPr/>
        </p:nvPicPr>
        <p:blipFill>
          <a:blip r:embed="rId3"/>
          <a:stretch/>
        </p:blipFill>
        <p:spPr>
          <a:xfrm>
            <a:off x="3419640" y="1484280"/>
            <a:ext cx="2114280" cy="1531800"/>
          </a:xfrm>
          <a:prstGeom prst="rect">
            <a:avLst/>
          </a:prstGeom>
          <a:ln w="0">
            <a:noFill/>
          </a:ln>
        </p:spPr>
      </p:pic>
      <p:pic>
        <p:nvPicPr>
          <p:cNvPr id="2290" name="Picture 4" descr="C:\Users\Владелец\Desktop\МО\sc0002.bmp"/>
          <p:cNvPicPr/>
          <p:nvPr/>
        </p:nvPicPr>
        <p:blipFill>
          <a:blip r:embed="rId4"/>
          <a:stretch/>
        </p:blipFill>
        <p:spPr>
          <a:xfrm rot="20298600">
            <a:off x="1692000" y="4233960"/>
            <a:ext cx="2360520" cy="2239920"/>
          </a:xfrm>
          <a:prstGeom prst="rect">
            <a:avLst/>
          </a:prstGeom>
          <a:ln w="0">
            <a:noFill/>
          </a:ln>
        </p:spPr>
      </p:pic>
      <p:pic>
        <p:nvPicPr>
          <p:cNvPr id="2291" name="Picture 5" descr="C:\Users\Владелец\Desktop\МО\sc0003.bmp"/>
          <p:cNvPicPr/>
          <p:nvPr/>
        </p:nvPicPr>
        <p:blipFill>
          <a:blip r:embed="rId5"/>
          <a:stretch/>
        </p:blipFill>
        <p:spPr>
          <a:xfrm rot="20632200">
            <a:off x="3733920" y="3063960"/>
            <a:ext cx="1879560" cy="2536920"/>
          </a:xfrm>
          <a:prstGeom prst="rect">
            <a:avLst/>
          </a:prstGeom>
          <a:ln w="0">
            <a:noFill/>
          </a:ln>
        </p:spPr>
      </p:pic>
      <p:pic>
        <p:nvPicPr>
          <p:cNvPr id="2292" name="Picture 6" descr="C:\Users\Владелец\Desktop\МО\sc0008.bmp"/>
          <p:cNvPicPr/>
          <p:nvPr/>
        </p:nvPicPr>
        <p:blipFill>
          <a:blip r:embed="rId6"/>
          <a:stretch/>
        </p:blipFill>
        <p:spPr>
          <a:xfrm>
            <a:off x="6192720" y="1382760"/>
            <a:ext cx="1729080" cy="1668240"/>
          </a:xfrm>
          <a:prstGeom prst="rect">
            <a:avLst/>
          </a:prstGeom>
          <a:ln w="0">
            <a:noFill/>
          </a:ln>
        </p:spPr>
      </p:pic>
      <p:pic>
        <p:nvPicPr>
          <p:cNvPr id="2293" name="Picture 2" descr="C:\Users\Владелец\Desktop\МО\sc0009.bmp"/>
          <p:cNvPicPr/>
          <p:nvPr/>
        </p:nvPicPr>
        <p:blipFill>
          <a:blip r:embed="rId7"/>
          <a:stretch/>
        </p:blipFill>
        <p:spPr>
          <a:xfrm rot="20430600">
            <a:off x="7157520" y="3006360"/>
            <a:ext cx="1724040" cy="1741320"/>
          </a:xfrm>
          <a:prstGeom prst="rect">
            <a:avLst/>
          </a:prstGeom>
          <a:ln w="0">
            <a:noFill/>
          </a:ln>
        </p:spPr>
      </p:pic>
      <p:pic>
        <p:nvPicPr>
          <p:cNvPr id="2294" name="Picture 3" descr="C:\Users\Владелец\Desktop\МО\sc0010.bmp"/>
          <p:cNvPicPr/>
          <p:nvPr/>
        </p:nvPicPr>
        <p:blipFill>
          <a:blip r:embed="rId8"/>
          <a:stretch/>
        </p:blipFill>
        <p:spPr>
          <a:xfrm rot="1255800">
            <a:off x="5994360" y="4443480"/>
            <a:ext cx="1844640" cy="18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/И «Маски»                               Кубик  эмоций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6" name="Picture 2" descr="C:\Users\Владелец\Desktop\МО\sc0004.bmp"/>
          <p:cNvPicPr/>
          <p:nvPr/>
        </p:nvPicPr>
        <p:blipFill>
          <a:blip r:embed="rId2"/>
          <a:srcRect l="0" t="-1043" r="0" b="0"/>
          <a:stretch/>
        </p:blipFill>
        <p:spPr>
          <a:xfrm rot="20935800">
            <a:off x="324000" y="1699920"/>
            <a:ext cx="1958760" cy="2408040"/>
          </a:xfrm>
          <a:prstGeom prst="rect">
            <a:avLst/>
          </a:prstGeom>
          <a:ln w="0">
            <a:noFill/>
          </a:ln>
        </p:spPr>
      </p:pic>
      <p:pic>
        <p:nvPicPr>
          <p:cNvPr id="2297" name="Picture 3" descr="C:\Users\Владелец\Desktop\МО\sc0005.bmp"/>
          <p:cNvPicPr/>
          <p:nvPr/>
        </p:nvPicPr>
        <p:blipFill>
          <a:blip r:embed="rId3"/>
          <a:stretch/>
        </p:blipFill>
        <p:spPr>
          <a:xfrm rot="724800">
            <a:off x="2187720" y="1677960"/>
            <a:ext cx="2117520" cy="2544840"/>
          </a:xfrm>
          <a:prstGeom prst="rect">
            <a:avLst/>
          </a:prstGeom>
          <a:ln w="0">
            <a:noFill/>
          </a:ln>
        </p:spPr>
      </p:pic>
      <p:pic>
        <p:nvPicPr>
          <p:cNvPr id="2298" name="Picture 4" descr="C:\Users\Владелец\Desktop\МО\sc0006.bmp"/>
          <p:cNvPicPr/>
          <p:nvPr/>
        </p:nvPicPr>
        <p:blipFill>
          <a:blip r:embed="rId4"/>
          <a:stretch/>
        </p:blipFill>
        <p:spPr>
          <a:xfrm>
            <a:off x="30240" y="3687840"/>
            <a:ext cx="2914560" cy="3017880"/>
          </a:xfrm>
          <a:prstGeom prst="rect">
            <a:avLst/>
          </a:prstGeom>
          <a:ln w="0">
            <a:noFill/>
          </a:ln>
        </p:spPr>
      </p:pic>
      <p:pic>
        <p:nvPicPr>
          <p:cNvPr id="2299" name="Picture 5" descr="C:\Users\Владелец\Desktop\МО\sc0007.bmp"/>
          <p:cNvPicPr/>
          <p:nvPr/>
        </p:nvPicPr>
        <p:blipFill>
          <a:blip r:embed="rId5"/>
          <a:srcRect l="0" t="-5479" r="0" b="0"/>
          <a:stretch/>
        </p:blipFill>
        <p:spPr>
          <a:xfrm rot="267000">
            <a:off x="2332080" y="3995640"/>
            <a:ext cx="2125800" cy="2784600"/>
          </a:xfrm>
          <a:prstGeom prst="rect">
            <a:avLst/>
          </a:prstGeom>
          <a:ln w="0">
            <a:noFill/>
          </a:ln>
        </p:spPr>
      </p:pic>
      <p:pic>
        <p:nvPicPr>
          <p:cNvPr id="2300" name="Рисунок 7" descr="C:\Users\Владелец\Desktop\картинки\эмоции\sc0000.bmp"/>
          <p:cNvPicPr/>
          <p:nvPr/>
        </p:nvPicPr>
        <p:blipFill>
          <a:blip r:embed="rId6"/>
          <a:stretch/>
        </p:blipFill>
        <p:spPr>
          <a:xfrm>
            <a:off x="5473800" y="817560"/>
            <a:ext cx="2249280" cy="2249640"/>
          </a:xfrm>
          <a:prstGeom prst="rect">
            <a:avLst/>
          </a:prstGeom>
          <a:ln w="0">
            <a:noFill/>
          </a:ln>
        </p:spPr>
      </p:pic>
      <p:pic>
        <p:nvPicPr>
          <p:cNvPr id="2301" name="Picture 6" descr="F:\флешка белая\эмоции 2\вина.jpg"/>
          <p:cNvPicPr/>
          <p:nvPr/>
        </p:nvPicPr>
        <p:blipFill>
          <a:blip r:embed="rId7"/>
          <a:stretch/>
        </p:blipFill>
        <p:spPr>
          <a:xfrm rot="21235800">
            <a:off x="4638600" y="3722760"/>
            <a:ext cx="1406520" cy="1962000"/>
          </a:xfrm>
          <a:prstGeom prst="rect">
            <a:avLst/>
          </a:prstGeom>
          <a:ln w="0">
            <a:noFill/>
          </a:ln>
        </p:spPr>
      </p:pic>
      <p:pic>
        <p:nvPicPr>
          <p:cNvPr id="2302" name="Picture 7" descr="F:\флешка белая\эмоции 2\гордость.jpg"/>
          <p:cNvPicPr/>
          <p:nvPr/>
        </p:nvPicPr>
        <p:blipFill>
          <a:blip r:embed="rId8"/>
          <a:stretch/>
        </p:blipFill>
        <p:spPr>
          <a:xfrm>
            <a:off x="5999040" y="3622680"/>
            <a:ext cx="1592280" cy="2168640"/>
          </a:xfrm>
          <a:prstGeom prst="rect">
            <a:avLst/>
          </a:prstGeom>
          <a:ln w="0">
            <a:noFill/>
          </a:ln>
        </p:spPr>
      </p:pic>
      <p:pic>
        <p:nvPicPr>
          <p:cNvPr id="2303" name="Picture 8" descr="F:\флешка белая\эмоции 2\злость.jpg"/>
          <p:cNvPicPr/>
          <p:nvPr/>
        </p:nvPicPr>
        <p:blipFill>
          <a:blip r:embed="rId9"/>
          <a:stretch/>
        </p:blipFill>
        <p:spPr>
          <a:xfrm rot="637800">
            <a:off x="7644960" y="3855600"/>
            <a:ext cx="1314360" cy="1755720"/>
          </a:xfrm>
          <a:prstGeom prst="rect">
            <a:avLst/>
          </a:prstGeom>
          <a:ln w="0">
            <a:noFill/>
          </a:ln>
        </p:spPr>
      </p:pic>
      <p:sp>
        <p:nvSpPr>
          <p:cNvPr id="2304" name="Прямая соединительная линия 2"/>
          <p:cNvSpPr/>
          <p:nvPr/>
        </p:nvSpPr>
        <p:spPr>
          <a:xfrm>
            <a:off x="5796000" y="1284120"/>
            <a:ext cx="720720" cy="416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5" name="Прямая соединительная линия 6"/>
          <p:cNvSpPr/>
          <p:nvPr/>
        </p:nvSpPr>
        <p:spPr>
          <a:xfrm flipV="1">
            <a:off x="6516720" y="1492200"/>
            <a:ext cx="863640" cy="20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6" name="Прямая соединительная линия 19"/>
          <p:cNvSpPr/>
          <p:nvPr/>
        </p:nvSpPr>
        <p:spPr>
          <a:xfrm flipV="1">
            <a:off x="5827680" y="1179000"/>
            <a:ext cx="865080" cy="1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7" name="Прямая соединительная линия 22"/>
          <p:cNvSpPr/>
          <p:nvPr/>
        </p:nvSpPr>
        <p:spPr>
          <a:xfrm flipV="1">
            <a:off x="6516720" y="2421000"/>
            <a:ext cx="863640" cy="20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8" name="Прямая соединительная линия 23"/>
          <p:cNvSpPr/>
          <p:nvPr/>
        </p:nvSpPr>
        <p:spPr>
          <a:xfrm>
            <a:off x="5827680" y="2271600"/>
            <a:ext cx="650880" cy="35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9" name="Прямая соединительная линия 24"/>
          <p:cNvSpPr/>
          <p:nvPr/>
        </p:nvSpPr>
        <p:spPr>
          <a:xfrm>
            <a:off x="5827680" y="1325520"/>
            <a:ext cx="0" cy="9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0" name="Прямая соединительная линия 27"/>
          <p:cNvSpPr/>
          <p:nvPr/>
        </p:nvSpPr>
        <p:spPr>
          <a:xfrm>
            <a:off x="6692760" y="1179360"/>
            <a:ext cx="669960" cy="34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1" name="Прямая соединительная линия 30"/>
          <p:cNvSpPr/>
          <p:nvPr/>
        </p:nvSpPr>
        <p:spPr>
          <a:xfrm>
            <a:off x="7362720" y="1521000"/>
            <a:ext cx="0" cy="900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2" name="Прямая соединительная линия 31"/>
          <p:cNvSpPr/>
          <p:nvPr/>
        </p:nvSpPr>
        <p:spPr>
          <a:xfrm flipV="1">
            <a:off x="6478560" y="1700280"/>
            <a:ext cx="0" cy="9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3" name="TextBox 28"/>
          <p:cNvSpPr/>
          <p:nvPr/>
        </p:nvSpPr>
        <p:spPr>
          <a:xfrm>
            <a:off x="4932360" y="321300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Д/И «Эмоци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4" name="PlaceHolder 1"/>
          <p:cNvSpPr>
            <a:spLocks noGrp="1"/>
          </p:cNvSpPr>
          <p:nvPr>
            <p:ph type="title"/>
          </p:nvPr>
        </p:nvSpPr>
        <p:spPr>
          <a:xfrm>
            <a:off x="2077920" y="-68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4040"/>
                </a:solidFill>
                <a:latin typeface="Calibri"/>
              </a:rPr>
              <a:t>Гимнастика для глаз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15" name="Picture 8" descr="H:\птички\DSC_0099.JPG"/>
          <p:cNvPicPr/>
          <p:nvPr/>
        </p:nvPicPr>
        <p:blipFill>
          <a:blip r:embed="rId2"/>
          <a:stretch/>
        </p:blipFill>
        <p:spPr>
          <a:xfrm>
            <a:off x="2077920" y="1413000"/>
            <a:ext cx="2454480" cy="2813040"/>
          </a:xfrm>
          <a:prstGeom prst="rect">
            <a:avLst/>
          </a:prstGeom>
          <a:ln w="0">
            <a:noFill/>
          </a:ln>
        </p:spPr>
      </p:pic>
      <p:pic>
        <p:nvPicPr>
          <p:cNvPr id="2316" name="Рисунок 1" descr=""/>
          <p:cNvPicPr/>
          <p:nvPr/>
        </p:nvPicPr>
        <p:blipFill>
          <a:blip r:embed="rId3"/>
          <a:stretch/>
        </p:blipFill>
        <p:spPr>
          <a:xfrm>
            <a:off x="4786200" y="3468600"/>
            <a:ext cx="2522520" cy="31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Благодарю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8" name=""/>
          <p:cNvSpPr txBox="1"/>
          <p:nvPr/>
        </p:nvSpPr>
        <p:spPr>
          <a:xfrm>
            <a:off x="457200" y="2071800"/>
            <a:ext cx="822960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19" name="Picture 10" descr="http://www.topglobus.ru/skin/smile/s6123.gif"/>
          <p:cNvPicPr/>
          <p:nvPr/>
        </p:nvPicPr>
        <p:blipFill>
          <a:blip r:embed="rId2"/>
          <a:stretch/>
        </p:blipFill>
        <p:spPr>
          <a:xfrm>
            <a:off x="3059280" y="2951280"/>
            <a:ext cx="317808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7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Задачи 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8" name=""/>
          <p:cNvSpPr txBox="1"/>
          <p:nvPr/>
        </p:nvSpPr>
        <p:spPr>
          <a:xfrm>
            <a:off x="394920" y="1196640"/>
            <a:ext cx="83026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вышение умственной и физической работоспособност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храна нервной системы, снятие психического и нервного напряже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ормирование умения регулировать мышечный тонус, освобождение от мышечных зажим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тимулирование речевых зон коры головного мозг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ормирование орального праксис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вершенствование общей и мелкой моторик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вышение резервов дыхательной систем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филактика нарушений зре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здание благоприятного эмоционального фо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9" name="PlaceHolder 1"/>
          <p:cNvSpPr>
            <a:spLocks noGrp="1"/>
          </p:cNvSpPr>
          <p:nvPr>
            <p:ph type="title"/>
          </p:nvPr>
        </p:nvSpPr>
        <p:spPr>
          <a:xfrm>
            <a:off x="2286000" y="189000"/>
            <a:ext cx="64008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4040"/>
                </a:solidFill>
                <a:latin typeface="Calibri"/>
              </a:rPr>
              <a:t>Основные принцип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0" name=""/>
          <p:cNvSpPr txBox="1"/>
          <p:nvPr/>
        </p:nvSpPr>
        <p:spPr>
          <a:xfrm>
            <a:off x="900000" y="1125000"/>
            <a:ext cx="7786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Calibri"/>
              </a:rPr>
              <a:t>доступности (использование здоровьесберегающих технологий в соответствии с возрастом детей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Calibri"/>
              </a:rPr>
              <a:t>систематичности (реализация оздоровительных мероприятий постоянно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Calibri"/>
              </a:rPr>
              <a:t>оптимальности (разумно сбалансированная психофизическая нагрузка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Calibri"/>
              </a:rPr>
              <a:t>последовательности (последовательное усложнение и увеличение нагрузки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Calibri"/>
              </a:rPr>
              <a:t>комплексного воздействия на все анализатор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Calibri"/>
              </a:rPr>
              <a:t>совместного педагогического воздействия (учителя – логопеда, воспитателя, физинструктора, музыкального руководителя, педагога – психолога, родителей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1" name="Объект 1" descr=""/>
          <p:cNvPicPr/>
          <p:nvPr/>
        </p:nvPicPr>
        <p:blipFill>
          <a:blip r:embed="rId2"/>
          <a:stretch/>
        </p:blipFill>
        <p:spPr>
          <a:xfrm>
            <a:off x="179280" y="1052640"/>
            <a:ext cx="4395960" cy="2808000"/>
          </a:xfrm>
          <a:prstGeom prst="rect">
            <a:avLst/>
          </a:prstGeom>
          <a:ln w="0">
            <a:noFill/>
          </a:ln>
        </p:spPr>
      </p:pic>
      <p:sp>
        <p:nvSpPr>
          <p:cNvPr id="2262" name="PlaceHolder 1"/>
          <p:cNvSpPr>
            <a:spLocks noGrp="1"/>
          </p:cNvSpPr>
          <p:nvPr>
            <p:ph type="title"/>
          </p:nvPr>
        </p:nvSpPr>
        <p:spPr>
          <a:xfrm>
            <a:off x="663480" y="0"/>
            <a:ext cx="822960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альчиковые игр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3" name="Рисунок 1" descr=""/>
          <p:cNvPicPr/>
          <p:nvPr/>
        </p:nvPicPr>
        <p:blipFill>
          <a:blip r:embed="rId3"/>
          <a:stretch/>
        </p:blipFill>
        <p:spPr>
          <a:xfrm>
            <a:off x="3348000" y="3357720"/>
            <a:ext cx="537696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4" name="PlaceHolder 1"/>
          <p:cNvSpPr>
            <a:spLocks noGrp="1"/>
          </p:cNvSpPr>
          <p:nvPr>
            <p:ph type="title"/>
          </p:nvPr>
        </p:nvSpPr>
        <p:spPr>
          <a:xfrm>
            <a:off x="41112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Шнуровк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5" name="Picture 4" descr="C:\Users\Владелец\Desktop\МО\sc0002 (3).bmp"/>
          <p:cNvPicPr/>
          <p:nvPr/>
        </p:nvPicPr>
        <p:blipFill>
          <a:blip r:embed="rId2"/>
          <a:stretch/>
        </p:blipFill>
        <p:spPr>
          <a:xfrm rot="20493000">
            <a:off x="2823840" y="3657240"/>
            <a:ext cx="2705040" cy="2133720"/>
          </a:xfrm>
          <a:prstGeom prst="rect">
            <a:avLst/>
          </a:prstGeom>
          <a:ln w="0">
            <a:noFill/>
          </a:ln>
        </p:spPr>
      </p:pic>
      <p:pic>
        <p:nvPicPr>
          <p:cNvPr id="2266" name="Рисунок 3" descr=""/>
          <p:cNvPicPr/>
          <p:nvPr/>
        </p:nvPicPr>
        <p:blipFill>
          <a:blip r:embed="rId3"/>
          <a:stretch/>
        </p:blipFill>
        <p:spPr>
          <a:xfrm rot="789000">
            <a:off x="576000" y="1969920"/>
            <a:ext cx="2401920" cy="1879920"/>
          </a:xfrm>
          <a:prstGeom prst="rect">
            <a:avLst/>
          </a:prstGeom>
          <a:ln w="0">
            <a:noFill/>
          </a:ln>
        </p:spPr>
      </p:pic>
      <p:pic>
        <p:nvPicPr>
          <p:cNvPr id="2267" name="Рисунок 1" descr=""/>
          <p:cNvPicPr/>
          <p:nvPr/>
        </p:nvPicPr>
        <p:blipFill>
          <a:blip r:embed="rId4"/>
          <a:stretch/>
        </p:blipFill>
        <p:spPr>
          <a:xfrm>
            <a:off x="5937120" y="1415880"/>
            <a:ext cx="3157560" cy="53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зноцветные бус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9" name="Объект 1" descr=""/>
          <p:cNvPicPr/>
          <p:nvPr/>
        </p:nvPicPr>
        <p:blipFill>
          <a:blip r:embed="rId2"/>
          <a:stretch/>
        </p:blipFill>
        <p:spPr>
          <a:xfrm>
            <a:off x="457200" y="1773360"/>
            <a:ext cx="8229600" cy="48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PlaceHolder 1"/>
          <p:cNvSpPr>
            <a:spLocks noGrp="1"/>
          </p:cNvSpPr>
          <p:nvPr>
            <p:ph type="title"/>
          </p:nvPr>
        </p:nvSpPr>
        <p:spPr>
          <a:xfrm>
            <a:off x="741240" y="0"/>
            <a:ext cx="80028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404040"/>
                </a:solidFill>
                <a:latin typeface="Calibri"/>
              </a:rPr>
              <a:t>Театр перчато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1" name="Объект 1" descr=""/>
          <p:cNvPicPr/>
          <p:nvPr/>
        </p:nvPicPr>
        <p:blipFill>
          <a:blip r:embed="rId2"/>
          <a:stretch/>
        </p:blipFill>
        <p:spPr>
          <a:xfrm>
            <a:off x="3600360" y="2538360"/>
            <a:ext cx="5146920" cy="3826080"/>
          </a:xfrm>
          <a:prstGeom prst="rect">
            <a:avLst/>
          </a:prstGeom>
          <a:ln w="0">
            <a:noFill/>
          </a:ln>
        </p:spPr>
      </p:pic>
      <p:pic>
        <p:nvPicPr>
          <p:cNvPr id="2272" name="Рисунок 1" descr=""/>
          <p:cNvPicPr/>
          <p:nvPr/>
        </p:nvPicPr>
        <p:blipFill>
          <a:blip r:embed="rId3"/>
          <a:stretch/>
        </p:blipFill>
        <p:spPr>
          <a:xfrm rot="20872200">
            <a:off x="250560" y="1349280"/>
            <a:ext cx="39607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3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040"/>
                </a:solidFill>
                <a:latin typeface="Calibri"/>
              </a:rPr>
              <a:t>               </a:t>
            </a:r>
            <a:r>
              <a:rPr b="1" lang="ru-RU" sz="4400" spc="-1" strike="noStrike">
                <a:solidFill>
                  <a:srgbClr val="404040"/>
                </a:solidFill>
                <a:latin typeface="Calibri"/>
              </a:rPr>
              <a:t>Шаблоны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4" name="Объект 1" descr=""/>
          <p:cNvPicPr/>
          <p:nvPr/>
        </p:nvPicPr>
        <p:blipFill>
          <a:blip r:embed="rId2"/>
          <a:stretch/>
        </p:blipFill>
        <p:spPr>
          <a:xfrm rot="297600">
            <a:off x="549360" y="1599840"/>
            <a:ext cx="804528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4040"/>
                </a:solidFill>
                <a:latin typeface="Calibri"/>
              </a:rPr>
              <a:t>Игры с прищепка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6" name="Объект 2" descr=""/>
          <p:cNvPicPr/>
          <p:nvPr/>
        </p:nvPicPr>
        <p:blipFill>
          <a:blip r:embed="rId2"/>
          <a:stretch/>
        </p:blipFill>
        <p:spPr>
          <a:xfrm>
            <a:off x="549360" y="1600200"/>
            <a:ext cx="8045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3T21:07:48Z</dcterms:created>
  <dc:creator>Владелец</dc:creator>
  <dc:description/>
  <dc:language>en-US</dc:language>
  <cp:lastModifiedBy>Никита</cp:lastModifiedBy>
  <dcterms:modified xsi:type="dcterms:W3CDTF">2016-11-30T03:56:43Z</dcterms:modified>
  <cp:revision>80</cp:revision>
  <dc:subject/>
  <dc:title>Презентация PowerPoint</dc:title>
</cp:coreProperties>
</file>