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gif" ContentType="image/gif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0412-6C74-49C3-A24C-963DB520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DF63-EE89-4202-8DB1-1C07F700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CC13-D8F7-464A-96DF-B4D31A7E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BE9B-1331-4028-AAC2-5BA75D5B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A7F1-8AC4-4037-9487-C98E6386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5A1D-C8C3-488B-8506-ABF0F392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98AB-D648-441E-972B-2B3212B9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2034-EB3D-403F-874D-056A52EA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2C4A-0734-40CC-ADAB-EB73F382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3A85-0C8F-4658-ABE8-FAD85676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DC82-9091-45FB-8860-DEB1886D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CE6A-B241-4421-BB53-57F80A70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85AC-08B6-4700-9AFC-AED45EF2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B07F-E2E7-458D-BE03-0452D92F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E345-DBFF-457A-912C-6BE11F4B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954C-A0BF-4C8D-9D5F-0CDDBA1F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D124-1E08-4752-AD25-69B8772B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FD009-D312-4C56-AAB6-D8501C70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C7B92-EC00-4223-9D5A-1A56650C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7FB91-3419-45B2-BA0D-BCC24F4A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7E734-DDF6-44D1-A2F5-C4E609AD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B41FB-E45F-43AA-A21E-84522E40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3E06-902F-42BD-BB03-DEA1B4CB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4C881-D18E-49DE-966A-2091D17A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15EDC-9A4D-4D2E-8B39-9134F485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0E650-A966-40B2-917E-CC7E24FE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A0EE8-0DA1-4BE8-9D15-CF5D6A4E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EE435-0FE5-4A6C-A73D-7A79AF5A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D4A27-6292-4C86-AFDA-BFCE13F4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6822D-57D8-492C-9384-AA8716C5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C004-F265-41BB-A0F1-E49ACAAB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8354-9D00-4110-80D8-2611FF0E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4CBD-7D4E-4F8A-935A-477F66DC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3FCB-98FF-45D8-9091-FF0C4530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CA42-660F-435D-A122-9D1505EA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ABAB-E09E-414A-A7F7-56C2CC94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5970-BD1E-4026-A17D-EC57D154BF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316F-3B06-4168-96DB-42EB2A5774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6D6B-E63A-45E2-8388-E19E41BF7A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61640" y="1766880"/>
          <a:ext cx="7769160" cy="4113360"/>
        </p:xfrm>
        <a:graphic>
          <a:graphicData uri="http://schemas.openxmlformats.org/drawingml/2006/table"/>
        </a:graphic>
      </p:graphicFrame>
      <p:pic>
        <p:nvPicPr>
          <p:cNvPr id="125" name="Picture 6" descr="http://gotovie-prezentacii.ru/wp-content/uploads/2013/02/SHablon-dlya-prezentatsii-na-shkolnuyu-tem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4"/>
          <p:cNvSpPr/>
          <p:nvPr/>
        </p:nvSpPr>
        <p:spPr>
          <a:xfrm>
            <a:off x="611280" y="333360"/>
            <a:ext cx="8208720" cy="57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  <a:ea typeface="Arial"/>
              </a:rPr>
              <a:t>ТЕХНОЛОГИЯ</a:t>
            </a:r>
            <a:r>
              <a:rPr b="1" lang="ru-RU" sz="11500" spc="-1" strike="noStrike">
                <a:solidFill>
                  <a:srgbClr val="ff0000"/>
                </a:solidFill>
                <a:latin typeface="Monotype Corsiva"/>
                <a:ea typeface="Arial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Monotype Corsiva"/>
                <a:ea typeface="Arial"/>
              </a:rPr>
              <a:t>РАЗВИТ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  <a:ea typeface="Arial"/>
              </a:rPr>
              <a:t>КРИТИЧЕСКОГ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  <a:ea typeface="Arial"/>
              </a:rPr>
              <a:t>МЫШЛ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Monotype Corsiva"/>
              </a:rPr>
              <a:t>Прием «Ромашка Блума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22"/>
          <p:cNvSpPr/>
          <p:nvPr/>
        </p:nvSpPr>
        <p:spPr>
          <a:xfrm rot="17934600">
            <a:off x="4080600" y="2664360"/>
            <a:ext cx="2467080" cy="880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то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3"/>
          <p:cNvSpPr/>
          <p:nvPr/>
        </p:nvSpPr>
        <p:spPr>
          <a:xfrm rot="21547200">
            <a:off x="4728960" y="3750840"/>
            <a:ext cx="2530440" cy="858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очняющ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4"/>
          <p:cNvSpPr/>
          <p:nvPr/>
        </p:nvSpPr>
        <p:spPr>
          <a:xfrm rot="3547200">
            <a:off x="4114800" y="4852800"/>
            <a:ext cx="2530440" cy="860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очны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5"/>
          <p:cNvSpPr/>
          <p:nvPr/>
        </p:nvSpPr>
        <p:spPr>
          <a:xfrm rot="17947200">
            <a:off x="2862720" y="4850280"/>
            <a:ext cx="2467080" cy="880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рческ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6"/>
          <p:cNvSpPr/>
          <p:nvPr/>
        </p:nvSpPr>
        <p:spPr>
          <a:xfrm rot="21547200">
            <a:off x="2084040" y="3785760"/>
            <a:ext cx="2530440" cy="860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пре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7"/>
          <p:cNvSpPr/>
          <p:nvPr/>
        </p:nvSpPr>
        <p:spPr>
          <a:xfrm rot="3547200">
            <a:off x="2775600" y="2664360"/>
            <a:ext cx="2530440" cy="858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ктическ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8"/>
          <p:cNvSpPr/>
          <p:nvPr/>
        </p:nvSpPr>
        <p:spPr>
          <a:xfrm rot="21415200">
            <a:off x="4329000" y="3814920"/>
            <a:ext cx="765360" cy="745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http://s17.rimg.info/618fa2b8e67a5dda335c15deb6186f09.gif"/>
          <p:cNvPicPr/>
          <p:nvPr/>
        </p:nvPicPr>
        <p:blipFill>
          <a:blip r:embed="rId1"/>
          <a:stretch/>
        </p:blipFill>
        <p:spPr>
          <a:xfrm>
            <a:off x="179280" y="4149720"/>
            <a:ext cx="1944720" cy="2478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75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175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Monotype Corsiva"/>
              </a:rPr>
              <a:t>Ромашка Блум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00040" y="1766520"/>
            <a:ext cx="8331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остые вопросы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фактические вопросы) – требуют знания фактического материала  ориентированы на работу памя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Уточняющие вопросы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«насколько я понял….», «правильно ли я Вас поняла, что…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Интерпретирующие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опрос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объясняющие) –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буждая учеников к интерпретации, мы учим их навыкам осознания причин тех или иных поступков или мнений (почему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ценочные вопросы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сравнение) – необходимо использовать, когда вы слышите, что кто-либо из учеников выражает соседу по парте свое недовольство или удовольствие от произошедшего на уро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Творческие вопросы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прогноз) – «Как вы думаете, что произойдет дальше…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актические вопрос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«Как мы можем…?» «Как поступили бы вы…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5480" y="142920"/>
            <a:ext cx="82868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0070c0"/>
                </a:solidFill>
                <a:latin typeface="Monotype Corsiva"/>
              </a:rPr>
              <a:t>Прием</a:t>
            </a:r>
            <a:r>
              <a:rPr b="0" lang="ru-RU" sz="2400" spc="-1" strike="noStrike">
                <a:solidFill>
                  <a:srgbClr val="0070c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Monotype Corsiva"/>
              </a:rPr>
              <a:t>«Знаю – Хочу знать – Узнал» (ЗХ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85840" y="1846440"/>
          <a:ext cx="8299440" cy="1868400"/>
        </p:xfrm>
        <a:graphic>
          <a:graphicData uri="http://schemas.openxmlformats.org/drawingml/2006/table">
            <a:tbl>
              <a:tblPr/>
              <a:tblGrid>
                <a:gridCol w="2562120"/>
                <a:gridCol w="2727360"/>
                <a:gridCol w="3009960"/>
              </a:tblGrid>
              <a:tr h="186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З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что мы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Х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что мы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тим узн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У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что мы узнали и что нам осталось узн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14200" y="3857760"/>
          <a:ext cx="8388360" cy="2714400"/>
        </p:xfrm>
        <a:graphic>
          <a:graphicData uri="http://schemas.openxmlformats.org/drawingml/2006/table">
            <a:tbl>
              <a:tblPr/>
              <a:tblGrid>
                <a:gridCol w="1935360"/>
                <a:gridCol w="2493720"/>
                <a:gridCol w="3959280"/>
              </a:tblGrid>
              <a:tr h="965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тегории информации, которыми мы намерены пользоваться    /Главные слова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, из которых мы намерены получить информац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Прямоугольник 6"/>
          <p:cNvSpPr/>
          <p:nvPr/>
        </p:nvSpPr>
        <p:spPr>
          <a:xfrm>
            <a:off x="512640" y="3571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Учимся воспринимать информац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4280" y="571320"/>
            <a:ext cx="762480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Monotype Corsiva"/>
              </a:rPr>
              <a:t>Инсерт</a:t>
            </a:r>
            <a:r>
              <a:rPr b="1" lang="en-US" sz="4800" spc="-1" strike="noStrike">
                <a:solidFill>
                  <a:srgbClr val="0070c0"/>
                </a:solidFill>
                <a:latin typeface="Monotype Corsiv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ем маркировки текста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28760" y="2019240"/>
          <a:ext cx="8464320" cy="2981520"/>
        </p:xfrm>
        <a:graphic>
          <a:graphicData uri="http://schemas.openxmlformats.org/drawingml/2006/table">
            <a:tbl>
              <a:tblPr/>
              <a:tblGrid>
                <a:gridCol w="1857240"/>
                <a:gridCol w="2357280"/>
                <a:gridCol w="2173320"/>
                <a:gridCol w="2076480"/>
              </a:tblGrid>
              <a:tr h="145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осознать новые зна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исправить неверные предполож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исправить неверные предпо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обудить дальнейший интерес к тем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Я это зн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Это для меня абсолютно нов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Это противоречит тому, что я зн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Я хочу знать об этом больш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Прямоугольник 3"/>
          <p:cNvSpPr/>
          <p:nvPr/>
        </p:nvSpPr>
        <p:spPr>
          <a:xfrm>
            <a:off x="428760" y="514368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"/>
          <p:cNvSpPr/>
          <p:nvPr/>
        </p:nvSpPr>
        <p:spPr>
          <a:xfrm>
            <a:off x="714240" y="100836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ием способствует развитию аналитического мышления, является средством отслеживания понимания матери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516096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Monotype Corsiva"/>
              </a:rPr>
              <a:t>СИНКВЕЙН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28760" y="2428560"/>
            <a:ext cx="840240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 первой строчке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ма называется одним словом (обычно существительны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Вторая строчка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это описание темы в двух словах (двумя прилагательным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Третья строчка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это описание действия в рамках этой темы тремя слов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Четвертая строчка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это фраза из четырех слов, показывающая отношение к те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оследняя строка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это синоним из одного слова, который повторяет суть темы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1"/>
          <p:cNvSpPr/>
          <p:nvPr/>
        </p:nvSpPr>
        <p:spPr>
          <a:xfrm>
            <a:off x="3643200" y="1082880"/>
            <a:ext cx="29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Это стихотворение из пяти стр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4"/>
          <p:cNvSpPr/>
          <p:nvPr/>
        </p:nvSpPr>
        <p:spPr>
          <a:xfrm>
            <a:off x="928800" y="1643040"/>
            <a:ext cx="61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Calibri"/>
              </a:rPr>
              <a:t>                        </a:t>
            </a:r>
            <a:r>
              <a:rPr b="1" lang="ru-RU" sz="2400" spc="-1" strike="noStrike">
                <a:solidFill>
                  <a:srgbClr val="00b0f0"/>
                </a:solidFill>
                <a:latin typeface="Monotype Corsiva"/>
              </a:rPr>
              <a:t>Форма письменной рефлек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http://go4.imgsmail.ru/imgpreview?key=b7032de524a2bda&amp;mb=imgdb_preview_1033"/>
          <p:cNvPicPr/>
          <p:nvPr/>
        </p:nvPicPr>
        <p:blipFill>
          <a:blip r:embed="rId1"/>
          <a:stretch/>
        </p:blipFill>
        <p:spPr>
          <a:xfrm>
            <a:off x="7020000" y="189000"/>
            <a:ext cx="1873080" cy="2160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061640" y="1766880"/>
          <a:ext cx="7769160" cy="4113360"/>
        </p:xfrm>
        <a:graphic>
          <a:graphicData uri="http://schemas.openxmlformats.org/drawingml/2006/table"/>
        </a:graphic>
      </p:graphicFrame>
      <p:pic>
        <p:nvPicPr>
          <p:cNvPr id="186" name="Picture 2" descr="http://linda6035.ucoz.ru/fokina_l-p-shablon_prezentacii.jpg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4"/>
          <p:cNvSpPr/>
          <p:nvPr/>
        </p:nvSpPr>
        <p:spPr>
          <a:xfrm>
            <a:off x="468360" y="105264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6"/>
          <p:cNvSpPr/>
          <p:nvPr/>
        </p:nvSpPr>
        <p:spPr>
          <a:xfrm>
            <a:off x="324000" y="333360"/>
            <a:ext cx="8820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технологии развития критического мышления (ТРКМ) меняются роли педагогов и обучающихся. Ученики не сидят пассивно, слушая учителя, а становятся главными действующими лицами урока. Они думают и вспоминают про себя, делятся рассуждениями друг с другом, читают, пишут, обсуждают прочитанное. Роль учителя в основном координирующа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http://kharkovsc119.ucoz.ru/_nw/6/83830957.gif"/>
          <p:cNvPicPr/>
          <p:nvPr/>
        </p:nvPicPr>
        <p:blipFill>
          <a:blip r:embed="rId2"/>
          <a:stretch/>
        </p:blipFill>
        <p:spPr>
          <a:xfrm>
            <a:off x="2987640" y="4365720"/>
            <a:ext cx="316872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062000" y="1766880"/>
          <a:ext cx="7561440" cy="4546440"/>
        </p:xfrm>
        <a:graphic>
          <a:graphicData uri="http://schemas.openxmlformats.org/drawingml/2006/table">
            <a:tbl>
              <a:tblPr/>
              <a:tblGrid>
                <a:gridCol w="1079640"/>
                <a:gridCol w="1081080"/>
                <a:gridCol w="1079280"/>
                <a:gridCol w="1081080"/>
                <a:gridCol w="1079640"/>
                <a:gridCol w="1081080"/>
                <a:gridCol w="1079640"/>
              </a:tblGrid>
              <a:tr h="11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Тип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абота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нформа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ционны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текс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абота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художест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енн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текс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заим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бу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иску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исьм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Урок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ссле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4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з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озг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тур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лас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озгов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тур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ерные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вер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твержде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“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олстые”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нвентариза-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озго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та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2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мыс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нсе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ение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танов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игз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мозаи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ерекрест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иску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став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ерново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кста, пра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пол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абл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Х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2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флек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звраще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ие к класте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лас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вод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аб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Эс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дактир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льнейш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леполага-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92" name="Picture 2" descr="http://linda6035.ucoz.ru/fokina_l-p-shablon_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4"/>
          <p:cNvSpPr/>
          <p:nvPr/>
        </p:nvSpPr>
        <p:spPr>
          <a:xfrm>
            <a:off x="468360" y="105264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9"/>
          <p:cNvSpPr/>
          <p:nvPr/>
        </p:nvSpPr>
        <p:spPr>
          <a:xfrm>
            <a:off x="684360" y="54936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Модель построения уроков в технологии развития критического мыш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79280" y="1700280"/>
          <a:ext cx="8675640" cy="4868640"/>
        </p:xfrm>
        <a:graphic>
          <a:graphicData uri="http://schemas.openxmlformats.org/drawingml/2006/table">
            <a:tbl>
              <a:tblPr/>
              <a:tblGrid>
                <a:gridCol w="1239840"/>
                <a:gridCol w="1238400"/>
                <a:gridCol w="1239840"/>
                <a:gridCol w="1239840"/>
                <a:gridCol w="1239840"/>
                <a:gridCol w="1238040"/>
                <a:gridCol w="1239840"/>
              </a:tblGrid>
              <a:tr h="1212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Тип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абота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нформа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ционны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текс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абота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художест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енн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текс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заим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бу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иску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исьм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Урок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ссле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14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з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озг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тур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лас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озгов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тур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ерные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вер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твержде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“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олстые”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нвентариза-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озго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та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49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мыс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нсе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ение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танов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игз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мозаи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ерекрест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иску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став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ерново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кста, пра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пол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абл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Х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91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флек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звраще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ие к класте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лас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вод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аб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Эс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дактир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льнейш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леполага-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8" name="Picture 6" descr="http://gotovie-prezentacii.ru/wp-content/uploads/2013/02/SHablon-dlya-prezentatsii-na-shkolnuyu-temu1.jpg"/>
          <p:cNvPicPr/>
          <p:nvPr/>
        </p:nvPicPr>
        <p:blipFill>
          <a:blip r:embed="rId1"/>
          <a:stretch/>
        </p:blipFill>
        <p:spPr>
          <a:xfrm>
            <a:off x="12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Прямоугольник 7"/>
          <p:cNvSpPr/>
          <p:nvPr/>
        </p:nvSpPr>
        <p:spPr>
          <a:xfrm>
            <a:off x="1763640" y="40464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8"/>
          <p:cNvSpPr/>
          <p:nvPr/>
        </p:nvSpPr>
        <p:spPr>
          <a:xfrm>
            <a:off x="324000" y="1700280"/>
            <a:ext cx="8208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ир-Бек С.И., Муштавинская И.В. Развитие критического мышления на уроках. – М., Просвещение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гашев И.О., Заир-Бек С.И., Муштавинская И.В. Учим детей критически мыслить. – СПб: Издательство «Альянс «Дельта», 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гашев И.О., Заир-Бек С.И. Критическое мышление: технология развития. – СПб: Издательство «Альянс «Дельта», 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лперн Д. Психология критического мышления. СПб: Питер,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удент в поле информации и коммуникации. – СПб, PETROC,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061640" y="1766880"/>
          <a:ext cx="7769160" cy="4113360"/>
        </p:xfrm>
        <a:graphic>
          <a:graphicData uri="http://schemas.openxmlformats.org/drawingml/2006/table"/>
        </a:graphic>
      </p:graphicFrame>
      <p:pic>
        <p:nvPicPr>
          <p:cNvPr id="129" name="Picture 2" descr="http://linda6035.ucoz.ru/fokina_l-p-shablon_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4"/>
          <p:cNvSpPr/>
          <p:nvPr/>
        </p:nvSpPr>
        <p:spPr>
          <a:xfrm>
            <a:off x="468360" y="1052640"/>
            <a:ext cx="83516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ление развивается в проблемной ситуации, когда ребёнок «собирает» понятия о предмете </a:t>
            </a:r>
            <a:br>
              <a:rPr sz="5400"/>
            </a:b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(Л. Выготски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061640" y="1766880"/>
          <a:ext cx="7769160" cy="4113360"/>
        </p:xfrm>
        <a:graphic>
          <a:graphicData uri="http://schemas.openxmlformats.org/drawingml/2006/table"/>
        </a:graphic>
      </p:graphicFrame>
      <p:pic>
        <p:nvPicPr>
          <p:cNvPr id="133" name="Picture 2" descr="http://linda6035.ucoz.ru/fokina_l-p-shablon_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468360" y="1052640"/>
            <a:ext cx="83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539640" y="836640"/>
            <a:ext cx="828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оположники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арльз Темплу, Курт Мередит, Джинни Стил, Скотт Уолтер, Джим и Кэрол Бирс, Донна и Бад Огл – американские педагоги. Венди Сол – редактор международного журнала «Перемен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едователи  в России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Е.С. Заир-Бек, О. Варшавер, Е.И. Иванышина, Т. Галактионова (г. Санкт-Петербур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61640" y="1766880"/>
          <a:ext cx="7769160" cy="4113360"/>
        </p:xfrm>
        <a:graphic>
          <a:graphicData uri="http://schemas.openxmlformats.org/drawingml/2006/table"/>
        </a:graphic>
      </p:graphicFrame>
      <p:pic>
        <p:nvPicPr>
          <p:cNvPr id="138" name="Picture 2" descr="http://linda6035.ucoz.ru/fokina_l-p-shablon_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4"/>
          <p:cNvSpPr/>
          <p:nvPr/>
        </p:nvSpPr>
        <p:spPr>
          <a:xfrm>
            <a:off x="468360" y="105264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324000" y="620640"/>
            <a:ext cx="828036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  основе технологии лежи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диалогическая концепц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ультуры М Бахтина-В.Библер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сихологические исследования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.Выготского, Ж. Пиаже 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едагогика сотрудничества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. Амонашв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Основа ТРКМ</a:t>
            </a: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рехфазная структура урок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571680" y="2357280"/>
            <a:ext cx="3279600" cy="855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выз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1928880" y="3429000"/>
            <a:ext cx="386712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осмыс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AutoShape 8"/>
          <p:cNvGrpSpPr/>
          <p:nvPr/>
        </p:nvGrpSpPr>
        <p:grpSpPr>
          <a:xfrm>
            <a:off x="3803760" y="4395960"/>
            <a:ext cx="4565520" cy="1279440"/>
            <a:chOff x="3803760" y="4395960"/>
            <a:chExt cx="4565520" cy="1279440"/>
          </a:xfrm>
        </p:grpSpPr>
        <p:pic>
          <p:nvPicPr>
            <p:cNvPr id="146" name="AutoShape 8" descr=""/>
            <p:cNvPicPr/>
            <p:nvPr/>
          </p:nvPicPr>
          <p:blipFill>
            <a:blip r:embed="rId1"/>
            <a:stretch/>
          </p:blipFill>
          <p:spPr>
            <a:xfrm>
              <a:off x="3803760" y="4395960"/>
              <a:ext cx="45655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906720" y="4478400"/>
              <a:ext cx="436104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рефлекс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Picture 11" descr="http://svit24.net/images/stories/articles/2013/Tecnology/09-2013/02/prodelkin_v_shkole_4.jpg"/>
          <p:cNvPicPr/>
          <p:nvPr/>
        </p:nvPicPr>
        <p:blipFill>
          <a:blip r:embed="rId2"/>
          <a:stretch/>
        </p:blipFill>
        <p:spPr>
          <a:xfrm>
            <a:off x="179280" y="4581360"/>
            <a:ext cx="309744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875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375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875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Роль учителя в ТРКМ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правляет усилия учеников в определенное рус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алкивает различные суж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здает условия, побуждающие к принятию самостоятельных реш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ает учащимся возможность самостоятельно делать выв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готавливает новые познавательные ситуации внутри уже существующ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Приёмы ТРКМ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071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 Верные, неверные высказывания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  Игра «Верите ли вы?» или «Данет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 Дерево предсказаний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 Корзина ид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.  Кластеры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. Инсер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  Таблица  ЗХУ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  Толстые и тонкие вопро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9.  Зигзаг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0.  Синквей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Monotype Corsiva"/>
              </a:rPr>
              <a:t>Приёмы ТРКМ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1. Мозговой штур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2. Ролевая иг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3. Свободное письм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4. Перепутанные логические цеп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5. Продвинутая лек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6. Взаимовопро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7. Карус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8. Куб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3"/>
          <p:cNvSpPr/>
          <p:nvPr/>
        </p:nvSpPr>
        <p:spPr>
          <a:xfrm>
            <a:off x="857160" y="3857760"/>
            <a:ext cx="42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http://intellect26.ru/images/1.png"/>
          <p:cNvPicPr/>
          <p:nvPr/>
        </p:nvPicPr>
        <p:blipFill>
          <a:blip r:embed="rId1"/>
          <a:stretch/>
        </p:blipFill>
        <p:spPr>
          <a:xfrm>
            <a:off x="6156360" y="4005360"/>
            <a:ext cx="27558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2142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Учимся задавать вопро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42600" y="1356840"/>
            <a:ext cx="807228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70c0"/>
                </a:solidFill>
                <a:latin typeface="Monotype Corsiva"/>
              </a:rPr>
              <a:t>Прием «Толстые и тонкие вопросы»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42960" y="2286000"/>
          <a:ext cx="8072280" cy="4398840"/>
        </p:xfrm>
        <a:graphic>
          <a:graphicData uri="http://schemas.openxmlformats.org/drawingml/2006/table">
            <a:tbl>
              <a:tblPr/>
              <a:tblGrid>
                <a:gridCol w="4118040"/>
                <a:gridCol w="3954240"/>
              </a:tblGrid>
              <a:tr h="106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стые» вопросы – это проблемные вопросы, требующие неоднозначного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Тонкое» вопросы репродуктивного плана, требующие односложного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йте три объяснения, почему…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ясните, почему…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чему вы думает6е…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чему Вы считаете…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чем различие…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положите, что будет, если…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, если…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то…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…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гда…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жет…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дет…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г ли…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 звать…? Было ли…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гласны ли Вы…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но ли…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1</dc:creator>
  <dc:description/>
  <dc:language>en-US</dc:language>
  <cp:lastModifiedBy>user1</cp:lastModifiedBy>
  <dcterms:modified xsi:type="dcterms:W3CDTF">2016-11-30T17:51:22Z</dcterms:modified>
  <cp:revision>134</cp:revision>
  <dc:subject/>
  <dc:title>ТЕХНОЛОГИЯ РАЗВИТИЯ КРИТИЧЕСКОГО МЫШЛЕНИЯ Подготовила: Плотникова Л.М., учитель МАОУ «СОШ п. Демьянка» 2014 г</dc:title>
</cp:coreProperties>
</file>