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61A-55FF-41D1-A54F-0988FA7D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DEF-B927-4EBB-BBEF-69023BF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EC3-2B1E-48FC-9FAB-4753CE81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7E1-DC08-487C-8B64-3A0C7F13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760F-233E-43CE-B689-180AF2BB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3DF2-1A69-434B-9085-258F9063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EBEE-A537-4D99-A5B9-D1914D9E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8F05-9A99-4E15-8B41-EA1B75B0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CEC8-3B58-4351-9EBC-20AD3694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5CB8-1604-411C-BB1E-33A2E0F9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65C1-2C9B-4E1D-A5F6-80BCAC3D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E3E-07D4-4334-9A8C-6AEA9F41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599C-B413-4B30-A5FC-FD3E7DA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AC61-AE1D-450D-830F-E334ED53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27DB-EA29-4ADD-A761-1F0A9A70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562D-A9EA-41BC-B80C-FFC3699E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45A8-27A8-481C-9F8E-3BBFDF7E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E1B-5362-4CB5-AD55-0D7F64D2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48E-E617-42A5-908B-C7F4EE8E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5E3-1608-4863-B9F4-FCCEFCC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2A0-4A96-4AE7-9313-AA908DA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E3B-C150-4254-8AE6-9228B10E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971-EC8E-4566-8BD1-2C1636A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1BF-90DD-4E5F-A121-FB16640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151D-58CE-4300-946C-35065D7A80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BCA3-A01D-427E-A1DD-BDA2B293C0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Урок русского языка  </a:t>
            </a: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в 4 класс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Игра «Отгадай фразеологизм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img3"/>
          <p:cNvPicPr/>
          <p:nvPr/>
        </p:nvPicPr>
        <p:blipFill>
          <a:blip r:embed="rId1"/>
          <a:stretch/>
        </p:blipFill>
        <p:spPr>
          <a:xfrm>
            <a:off x="250920" y="1916280"/>
            <a:ext cx="5903640" cy="3983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372360" y="3573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Сесть в луж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Игра «Отгадай фразеологизм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img5"/>
          <p:cNvPicPr/>
          <p:nvPr/>
        </p:nvPicPr>
        <p:blipFill>
          <a:blip r:embed="rId1"/>
          <a:stretch/>
        </p:blipFill>
        <p:spPr>
          <a:xfrm>
            <a:off x="324000" y="1778040"/>
            <a:ext cx="5400360" cy="4219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288120" y="3141720"/>
            <a:ext cx="239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Жить как кошк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с соба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Игра «Отгадай фразеологизм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img6"/>
          <p:cNvPicPr/>
          <p:nvPr/>
        </p:nvPicPr>
        <p:blipFill>
          <a:blip r:embed="rId1"/>
          <a:stretch/>
        </p:blipFill>
        <p:spPr>
          <a:xfrm>
            <a:off x="250920" y="1706400"/>
            <a:ext cx="4681440" cy="4430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5005800" y="3284640"/>
            <a:ext cx="37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Находиться под башмак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Игра «Отгадай фразеологизм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img4"/>
          <p:cNvPicPr/>
          <p:nvPr/>
        </p:nvPicPr>
        <p:blipFill>
          <a:blip r:embed="rId1"/>
          <a:stretch/>
        </p:blipFill>
        <p:spPr>
          <a:xfrm>
            <a:off x="324000" y="1700280"/>
            <a:ext cx="4032000" cy="4392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776840" y="335772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Сидеть на чемодан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Игра «Отгадай фразеологизм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img2"/>
          <p:cNvPicPr/>
          <p:nvPr/>
        </p:nvPicPr>
        <p:blipFill>
          <a:blip r:embed="rId1"/>
          <a:stretch/>
        </p:blipFill>
        <p:spPr>
          <a:xfrm>
            <a:off x="250920" y="1916280"/>
            <a:ext cx="4762440" cy="410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358240" y="3429000"/>
            <a:ext cx="32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Лить крокодильи сле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Игра «Отгадай фразеологизм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695920" y="299736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Белая воро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574560" y="2205000"/>
            <a:ext cx="4386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179280" y="195120"/>
            <a:ext cx="8659800" cy="64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09308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0920" y="1861200"/>
            <a:ext cx="316872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Закончите и изобразите фразеологизм</a:t>
            </a: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(мимикой, движениями)</a:t>
            </a: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лоден как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итёр как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услив как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доров как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дут как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ям как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20293845_1205425641_wolf1jpge"/>
          <p:cNvPicPr/>
          <p:nvPr/>
        </p:nvPicPr>
        <p:blipFill>
          <a:blip r:embed="rId1"/>
          <a:srcRect l="0" t="0" r="11145" b="13283"/>
          <a:stretch/>
        </p:blipFill>
        <p:spPr>
          <a:xfrm>
            <a:off x="7308720" y="19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kzl_tilki"/>
          <p:cNvPicPr/>
          <p:nvPr/>
        </p:nvPicPr>
        <p:blipFill>
          <a:blip r:embed="rId2"/>
          <a:srcRect l="7192" t="7782" r="12206" b="8222"/>
          <a:stretch/>
        </p:blipFill>
        <p:spPr>
          <a:xfrm>
            <a:off x="5508720" y="1989000"/>
            <a:ext cx="16826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zayac2"/>
          <p:cNvPicPr/>
          <p:nvPr/>
        </p:nvPicPr>
        <p:blipFill>
          <a:blip r:embed="rId3"/>
          <a:stretch/>
        </p:blipFill>
        <p:spPr>
          <a:xfrm>
            <a:off x="3635280" y="1971720"/>
            <a:ext cx="1758960" cy="1601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23084_5"/>
          <p:cNvPicPr/>
          <p:nvPr/>
        </p:nvPicPr>
        <p:blipFill>
          <a:blip r:embed="rId4"/>
          <a:stretch/>
        </p:blipFill>
        <p:spPr>
          <a:xfrm>
            <a:off x="7164360" y="4221000"/>
            <a:ext cx="1803600" cy="1922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275px-Male_north_american_turkey_supersaturated"/>
          <p:cNvPicPr/>
          <p:nvPr/>
        </p:nvPicPr>
        <p:blipFill>
          <a:blip r:embed="rId5"/>
          <a:stretch/>
        </p:blipFill>
        <p:spPr>
          <a:xfrm>
            <a:off x="5435640" y="4221000"/>
            <a:ext cx="1733400" cy="1922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ochi8"/>
          <p:cNvPicPr/>
          <p:nvPr/>
        </p:nvPicPr>
        <p:blipFill>
          <a:blip r:embed="rId6"/>
          <a:stretch/>
        </p:blipFill>
        <p:spPr>
          <a:xfrm>
            <a:off x="3708360" y="4221000"/>
            <a:ext cx="17175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978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Значение фразеологиз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img6"/>
          <p:cNvPicPr/>
          <p:nvPr/>
        </p:nvPicPr>
        <p:blipFill>
          <a:blip r:embed="rId1"/>
          <a:stretch/>
        </p:blipFill>
        <p:spPr>
          <a:xfrm>
            <a:off x="324000" y="1413000"/>
            <a:ext cx="77770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7137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Как появились фразеологизмы?</a:t>
            </a:r>
            <a:br>
              <a:rPr sz="2800"/>
            </a:b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(узнай, прочитав карточку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289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704880" y="304920"/>
            <a:ext cx="787068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549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b050"/>
                </a:solidFill>
                <a:latin typeface="Arial"/>
                <a:ea typeface="Arial"/>
              </a:rPr>
              <a:t>А что делать если не знаем , что обозначает фразеологизм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Объект 3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2874960" cy="287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4427640" y="1541520"/>
            <a:ext cx="3879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60160" y="404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место точек вставь нужное сло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… на голову (снег, дождь, град), как … вода (с курицы, с утки, с гуся), убить … зайцев (трех, двух, трех), … соли съесть (пуд, фунт, килограмм), выеденного … не стоит (огурца, яйца, яблока), как за … стеной (деревянной, глиняной, каменной), сказка про … бычка (белого, черного, рыжего), как лист … дрожит (березовый, кленовый, осиновый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268200" y="325440"/>
            <a:ext cx="83124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  достигли ли вы поставленной цел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 Что запомнилось с урока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учить, что обозначают фразеологизм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Лист будет выдан  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. 75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истопис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Еолог         фраз       мы         из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Verdana"/>
              </a:rPr>
              <a:t>Фразеологизмы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Цели урока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1. Вспомнить  всё , что мы знаем о фразеологизм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2. Узнать новые фразеологизм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3. Грамотно употреблять в речи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-67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800" spc="-1" strike="noStrike">
              <a:solidFill>
                <a:srgbClr val="cc0000"/>
              </a:solidFill>
              <a:latin typeface="Verdana"/>
            </a:endParaRPr>
          </a:p>
        </p:txBody>
      </p:sp>
      <p:pic>
        <p:nvPicPr>
          <p:cNvPr id="96" name="Picture 4" descr="img1"/>
          <p:cNvPicPr/>
          <p:nvPr/>
        </p:nvPicPr>
        <p:blipFill>
          <a:blip r:embed="rId1"/>
          <a:stretch/>
        </p:blipFill>
        <p:spPr>
          <a:xfrm>
            <a:off x="755640" y="2492280"/>
            <a:ext cx="4762440" cy="266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828720" y="1967040"/>
            <a:ext cx="22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Отгадай цепочку сл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055160" y="3438360"/>
            <a:ext cx="781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 Молодцы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ы уже знаем, что наша речь состоит из предложений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предложения – из слов. Не зная отдельных слов, нельзя понять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 чём говорится в предложении. Но, оказывается, есть предложения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мысл которых складывается не из значения отдельных слов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только от их сочетания. Такие устойчивые выражения называютс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016280" y="515772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РАЗЕОЛОГИЗ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258920" y="2997360"/>
            <a:ext cx="57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чь            предложение                 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34000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5003640" y="3213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Работа с учебником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Стр. 49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cc0000"/>
                </a:solidFill>
                <a:latin typeface="Verdana"/>
              </a:rPr>
              <a:t>Игра «Назови одним словом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15880" y="2354400"/>
            <a:ext cx="439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думайте и кратко (одним словом) ответьте на вопрос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 каком человеке говорят …”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 него куры денег не клюю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н обведёт вокруг пальца кого-либ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н ходит по струнке перед кем-т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н не лезет за словом в карм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н перебивается с хлеба на вод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н звёзд с неба не хвата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219640" y="3074760"/>
            <a:ext cx="3178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(БОГАТЫЙ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(ОБМАНЕТ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(БОИТСЯ, ВЫСЛУЖИВАЕТСЯ, ПОДЧИНЯЕТСЯ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(НАХОДЧИВЫЙ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(БЕДНЫЙ)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(ГЛУПЫЙ, НЕУДАЧЛИВЫЙ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Игра «Продолжи стишок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11280" y="2127600"/>
            <a:ext cx="34225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 маленького Паш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тинки просят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ружнее этих двух ребя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вете не найдёш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 них обычно говорят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дой …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жата – детки хоть куд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что же тут дивиться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дь мама держит их всегд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ежовых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к много принято у зме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сают за ногу гадю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потому при встрече с не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ерите, дети, ноги…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5" descr="img4"/>
          <p:cNvPicPr/>
          <p:nvPr/>
        </p:nvPicPr>
        <p:blipFill>
          <a:blip r:embed="rId1"/>
          <a:stretch/>
        </p:blipFill>
        <p:spPr>
          <a:xfrm>
            <a:off x="4643280" y="1947960"/>
            <a:ext cx="38163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6:59:29Z</dcterms:created>
  <dc:creator>Admin</dc:creator>
  <dc:description/>
  <dc:language>en-US</dc:language>
  <cp:lastModifiedBy>Ирина</cp:lastModifiedBy>
  <dcterms:modified xsi:type="dcterms:W3CDTF">2016-10-07T21:06:04Z</dcterms:modified>
  <cp:revision>10</cp:revision>
  <dc:subject/>
  <dc:title>Фразеологизмы</dc:title>
</cp:coreProperties>
</file>