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9FA-DCE5-4E5F-8885-3F1A5C1D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B55-2396-4CA6-9DCE-C1F18372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124EE-0E76-4E2D-AF10-3FDF08FF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56DA-FCF1-4991-AEF6-BFF7F5B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381A0-3958-4912-B0E3-6D785DCD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492B4-05B9-43F2-A32C-88D42D5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F23D4-BD1A-47C4-8D39-21E1FE1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53623-C397-45A4-9D72-1DCF796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DDDE2-C459-484B-B41B-752F8866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FAE4C-0A37-4F1D-8A54-45946AF1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C5D2-D168-4A1B-8207-6300C098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63C6C-06E2-4E6C-A8C6-B54CDE7A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E93-D4C0-42D1-8B3C-EBD2F4A8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33DE6-3EAE-48FE-A7A2-F21F90A7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05D73-8306-4850-B134-6C472E5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C6B6B-4542-47C5-8438-677BCDE8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B10B3-36A2-4B09-8579-4F3059B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F77C4-CDBC-4658-BF99-C59463DF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9A0A1-051E-4C92-B3B8-768BB9D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27FA0-F439-447D-9057-69FB7D4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435CA-A13E-4B2F-9155-4BEA4E0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FDDA2-E5F9-4EAB-8FB3-AF354B0E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9DE98-DE42-4861-82B9-1680DD9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502-35AA-4F90-912E-73ACD9E3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0C743-FE56-4B02-B7FD-B69CF1B3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F1D7B-5885-4009-AAC3-823B442B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FD36D-BBBC-4C7C-8A5A-43A277F3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9735E-AEAB-4DE3-8914-57D171F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8AABC-91DF-4D20-ABC6-1310175D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2069F-7922-4CA4-8DB1-96A9CE8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9216B-606C-4CF9-BB0C-7A8D62F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1EA19-FEC1-4402-A552-6E0E24C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9D538-5E78-4C0E-A2B6-F2A716FF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A55FE-08E6-4E92-B8E0-ABC8E1B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667-AFA2-467B-9BCB-1B6623C9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239FC-A2B2-4C2C-96AD-4E0321D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CA868-690A-4B19-8BDE-E05AD4CD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2F1E2-9471-439E-B5E1-6EA8FBE6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5A10B-B9C2-4688-BCCD-A0C42DAE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235C4-1B5B-4B98-84A1-CEC17EE7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8B1E7-1D5C-4BED-9064-3D746B74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CD049-8EEE-41E1-A9BA-49A3E6F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A5B15-71A0-418E-8305-7FA972B7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61CAB-6105-4261-A5AF-BEB214F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FFADF-C8FC-4F1A-877C-E791D70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A0D4-199E-4359-B59D-0ED78A2C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17549-9BC5-4E8C-83AF-8A31148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26D8B-5C88-43E8-A0B8-F9FCA52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357EC-A5DA-44ED-86BB-B32F5FF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E5AE7-34F2-4C06-BDE8-9B46B6D5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36C4B-618F-402F-9CC5-77D98297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D517-A52E-47A4-9DEF-E5DE387D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73C2-A12A-42DF-B579-98B8E459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43A7-9363-4440-B478-98F97D4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441-8910-4896-88D8-A5FFAAA0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521F-87DF-4179-9865-07DB6F1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A4A-CD6A-40EA-B18D-906DBAD9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44D2-B8D6-4CAD-948D-CDA6016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614-DEE1-433F-A473-4CD32C8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CD4E-1C8C-4895-A3BC-C4FB859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9B11-0341-4C1F-B682-2914AB5E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2318-5DF4-4AD8-BB49-01012AD8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6FCB-1366-46AE-8A29-D96C10D3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77D5-09E3-4135-ADDF-281B1E4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3273-452B-40B4-9C68-31D3B53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605B-4D47-402B-9C73-70344D2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1557-0B65-43D2-90AE-9E136B10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C70-7072-4EAE-99C2-737D2A3D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9431-658D-4F17-B74E-5AAA36DE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0131-D728-4A11-A111-D189B31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69B1-335B-4315-AD6C-E05D1DCF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FFEB-D2A4-47D4-AB99-1A2F34A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D4D4-D550-412B-A7B1-849102A1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B37F-6124-4ADF-82C9-093A23DD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B322-3206-4881-A6A9-CBBA1045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6499-E89B-4FD0-9F69-BF6BB5FE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5350-3E9E-4987-A99E-5C6F1727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5D42-D7A5-4522-88F9-589716CF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590-0ED7-4C47-AE6B-E12438D9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1C5A-E2BB-4E4E-895F-B24EBA8E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A74B-F467-411A-BCF9-3EC5D47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BA04-C030-4734-AF2F-DAC8BB48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4922-798F-49C0-B476-FFEF23A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8AD9-B493-4646-93C1-7BA5E06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809A-280F-4CEC-AB06-D1536D75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2DDC-5846-48FE-8544-5582510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2DB6F-E731-4850-A2E1-6A3DD086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9F99-7312-451A-96BB-2FE52EA2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698C-F0A0-4715-8932-9E546818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FCC-C7AA-4E14-B308-E645E31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D0B6-475C-4D63-A3B8-C1F3F8AF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27005-65F9-47D5-9A8D-F0F30123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9116B-004F-4FE9-9580-C3C4783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B1AB-A301-452E-B824-C53BA984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7E849-FCC6-44DC-8FEC-836DB8B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D876-15A5-4EEB-B043-3382C7C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56FD3-7FEA-40CC-8106-8ADC552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13B9-963C-4986-BE76-F7BB094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0A1A-E66F-422E-96FC-F8BDE42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9EAC-1B05-48D6-B5EB-F44BF743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A89-A85C-4C9F-A2FB-427F85A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61FA-4520-4305-A49A-5812DA66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4BED7-106F-46D6-B88C-ABE1E978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7BE2-130E-449C-BCE1-E6EB6BE4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630A-E026-4967-A49E-77A53BB4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C229-E20C-4A3E-B56E-938AA24B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F2B92-4C44-4F7B-979E-BA1D038E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5B08-A04E-4F7C-BDAC-49ACF85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1493-2D6D-4C81-BAB2-B9835562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61A1-46E1-4424-9B31-E091169B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928A-B7CD-4CED-8F17-391A806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BFB-B34F-42F9-884D-593F308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2FC6-A57D-4E64-8A8C-368A55D2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48629-DA94-4F45-9B89-D8FFA3ED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21D4-AAC1-417F-838B-7A399044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2881C-015C-4CFF-AECA-ADEF2E1F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2849-D801-4EF5-99FA-82CC015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EEFE-2095-43B3-850B-35591D3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5E60C-FBC7-4C99-BD75-68B06506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D8E3E-738D-46CE-A541-573A271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0EAD7-FE20-47EE-9939-CCC8E44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FE73-06E6-4FAC-BF80-E68EE1B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0CF-B1DB-4AB1-8F63-6020AA6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B9C9-ABE2-469E-930A-E2A42D5B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4548F-DDDC-4861-A247-D0AE9EF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F7490-DB44-4C31-8FBA-DB95D3E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1116-1E1E-4858-9EB9-CD48DB2D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6DD9-261C-4F61-AD80-E820CCC6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EDD1-1E87-4A02-9883-62B313F1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724A-1188-4F79-AAD3-39474AC8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D0451-48CA-4140-BCA2-FB0EE337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19752-A9D3-4EEC-B82C-829AD2B0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05ED-A61B-4303-B713-E6657756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F83-E24F-4CA5-87F1-E034D69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63DB-B472-4514-BFEB-07ADADA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E5AFA-8F5E-4ADB-99AC-E37FC0F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0C49-517B-4181-99B8-6CB380B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8944-113C-40A8-83E8-11974BA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7D9A-813D-4EB4-ACDB-96A4B238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6131-EDBC-4189-9002-EDA510DB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086F-DCDD-42E8-A5D4-30EB3B76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41094-9F7E-431C-9E3B-7AE500C7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B454E-A1B5-42FD-BA99-78940EDD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83D68-1174-4289-90AB-C6155589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0977-7210-40D4-8AEA-2E93D24A074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2B05-1248-4121-92F4-E02598A4C9A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B3B-459C-42F8-9757-C4EDD996FA7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9F5E-568D-44BB-9762-3E2894D8DE2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1F26-A3A7-46D8-9286-2B732F1BE2B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E0FF-A03C-4E47-A3DC-A81C8414E06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5BA-8627-4B51-B357-21388FCB8C6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D86D-27FC-44C2-A8CF-1B154D31937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5DB5-99E3-4001-8817-423266BC84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531-1591-41B2-95DB-AF8058AE6A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5957-A904-4245-875A-6E992AF93BD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85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21A-9C37-4D84-92B1-ABE0225817D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601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воя игр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«По странам и континентам»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тур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Подготовил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Горбунова Елена Юрьевн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учитель географии МОАУ «СОШ № 8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 г. Оренбург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Оренбургской област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лажные экваториальные леса в Бразилии называют…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920" y="2133360"/>
            <a:ext cx="67485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жунгли – это зона  …    в Южной и Юго-Восточной Азии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сокогорные пустыни и полупустыни в Андах называются …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467480" cy="466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Book"/>
              </a:rPr>
              <a:t>Номинально  принадлежит стране, площадь которой примерно в 50 раз меньше его площади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На этом острове расположено 3 государства: 2 монархии и 1 республика. Ранее он назывался Борнео. С 1945 г. название было заменено на современное, по коренному народу, населявшему остров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60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ткрыт экспедицией под руководством Дж. Кабота, который дал острову название «Терра-Прима-Виста» («Первая увиденная земля»). Однако мы называем его на английский манер – «Новая открытая земля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упнейший остров второго по площади архипелага принадлежит стране, занимающей второе место по площади территории. Он назван в честь штурмана английской экспедиции на корабле «Дискавери» под руководством капитана Байлот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53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тров, на котором частично расположена развитая страна, коренным народом которой является маори. Они называют свою страну Аотеароа («Длинное белое облако»). На острове расположена столица государств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звание столицы этого государства переводится как деревня у дамбы на реке Амстел. Вспомните его название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02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ая европейская страна получила название от европейской столицы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288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I 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тур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0" y="981000"/>
          <a:ext cx="9144000" cy="5119920"/>
        </p:xfrm>
        <a:graphic>
          <a:graphicData uri="http://schemas.openxmlformats.org/drawingml/2006/table">
            <a:tbl>
              <a:tblPr/>
              <a:tblGrid>
                <a:gridCol w="2000160"/>
                <a:gridCol w="1285920"/>
                <a:gridCol w="1428840"/>
                <a:gridCol w="1500120"/>
                <a:gridCol w="1428840"/>
                <a:gridCol w="15001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штатам СШ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ные зон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ров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городам и веся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огозначи-тельные     имена…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7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звание какого города, расположенного недалеко от Санкт-Петербурга, образовано от двух шведских слов – священный и замок (город)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звание этого города переводится с португальского как январская река, хотя никакой реки здесь нет.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7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зовите область в Испании, чье имя можно буквально перевести как страна вандалов.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0400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1536 г. Испанцы одну из гаваней в Южной Америке назвали Пуэрто-де-нуэстра-Сеньора-де-Санта-Мария-де-лос-Буэнос-Айрес – П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орт нашей госпожи святой Марии хороших ветро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Последняя часть этого длинного названия гавани стала названием столицы государства. Какого?</a:t>
            </a: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46748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олное название этого города звучит как </a:t>
            </a:r>
            <a:r>
              <a:rPr b="0" i="1" lang="ru-RU" sz="4600" spc="-1" strike="noStrike">
                <a:solidFill>
                  <a:srgbClr val="ffffff"/>
                </a:solidFill>
                <a:latin typeface="Arial"/>
              </a:rPr>
              <a:t>«Наша госпожа королева ангелов»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Закончите, как это звучит по-испански «Нуэстра-Сеньора-де-ла-Рейна-де-…»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53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Если русскую пословицу примерить к названию столицы Ирландии, то получится, что там водятся черти. Как переводится название этого города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а река зарождается в Тибетском нагорье, а путь ее к Желтому морю занимает более пяти тысяч километров. Ее китайское имя переводится как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«горе сыновей хана»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так как она часто меняет свое русло. Что это за река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звание какого канадского города образовали два французских слова – </a:t>
            </a:r>
            <a:r>
              <a:rPr b="0" i="1" lang="ru-RU" sz="4600" spc="-1" strike="noStrike">
                <a:solidFill>
                  <a:srgbClr val="ffffff"/>
                </a:solidFill>
                <a:latin typeface="Arial"/>
              </a:rPr>
              <a:t>гор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4600" spc="-1" strike="noStrike">
                <a:solidFill>
                  <a:srgbClr val="ffffff"/>
                </a:solidFill>
                <a:latin typeface="Arial"/>
              </a:rPr>
              <a:t>королевский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Этот американский штат, открытый испанцами в 1512 году в первый день Пасхи, был назван "Пасхой цветов", или "Цветущей пасхой". О каком штате идет речь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ициальное название этого штата – «Штат Столетия», т.к. он вошел в 1876 г., когда страна отмечала свое столетие. В нашей же стране его название ассоциируется с очень вредным насекомым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 назывался административный центр Аляски, когда он был российской колонией?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0920" y="249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94920" y="33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 из трех штатов (наряду с Ютой и Колорадо), все границы которого представляют собой параллели и меридианы, и, как и Колорадо, образует просто «прямоугольник» (точнее сектор земной поверхности) между парой широт и парой долгот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этого штата был разработан 13-летним мальчиком. На синем фоне изображены восемь золотых звезд: семь на изображении Большой Медведицы и Полярная звезда в правом верхнем углу. Большая медведица символизирует мощь, а что символизирует Полярная звезда? Флаг какого штата был описан?</a:t>
            </a: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7467480" cy="230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родную зону степей в Северной Америке  принято называть…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02920" y="2133360"/>
            <a:ext cx="667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уш – это название саванн в …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Franklin Gothic Book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3:14:43Z</dcterms:created>
  <dc:creator>SergR</dc:creator>
  <dc:description/>
  <dc:language>en-US</dc:language>
  <cp:lastModifiedBy>Admin</cp:lastModifiedBy>
  <dcterms:modified xsi:type="dcterms:W3CDTF">2016-11-30T17:39:32Z</dcterms:modified>
  <cp:revision>23</cp:revision>
  <dc:subject/>
  <dc:title>I тур</dc:title>
</cp:coreProperties>
</file>