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694-BFED-428C-A7EE-77C3BE38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D6-4AD0-499F-A8E4-A723D53D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965CB-0BC0-4AD4-848F-30A214ED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B417F-65B7-465C-BA04-36C9FF5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63CE4-7CD6-4627-9A1A-0412F69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3EB68-345F-4778-963B-9830922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F5715-FA9B-4904-9621-A05E60A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5523A-471C-4E86-A473-E10E18B9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2D9D7-86EB-45A9-8A8C-50011DA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851E6-4360-4567-B6C4-58E35CA1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89C50-1B9E-4C2D-A78A-235C1E1D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2A631-BDC3-4C49-A8BB-8AA5AA4A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1F5-0725-4A5E-B30C-18E4EA56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5DB08-3821-40E7-8533-C556932C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C831A-C34D-4D09-A69C-9763E479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24E44-94B4-438E-9D7E-CA7FEF5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AA672-F9F9-4601-AF30-FEEDFC0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F5648-DE1F-47DC-BCE0-47B3F24A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85559-5E9E-409D-96CE-E279F3B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3E199-0F21-4A81-8080-72FE39CC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DC29A-4586-496B-8C99-AC2DA88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B0626-1105-4DFF-B8B7-0D8FF9E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BEF86-153A-463E-8F55-07D383DB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15B-E15C-453B-A45E-B8A5AB29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6904F-6055-4A5E-B84E-EF65E6C1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0E5A-67FB-4662-9714-96DC7EC7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A81D1-A613-452C-9D93-79DC0ED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E26A-B056-45BA-99B3-C4EB99FB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D3D89-3BB2-4FCE-A728-4A2922D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D5F64-5B63-4D84-9EB2-6CBE2B6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18CC6-AE2F-418C-A0EF-FB71636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1C952-14E3-4715-A5EC-E991253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BB76-5532-43BF-99C9-28F5D23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E484E-5E72-47BA-AA14-4274287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3E5-9A25-411E-B453-0C867132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4A057-93BC-424F-9754-C49B2EB4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231C-1C58-4F93-A04D-61DE4C42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7E47-97CA-4178-B8F3-37CDDCF9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FB6CD-912C-4E3B-901B-3E57C5DC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3550B-F3A6-4C5A-AFB5-6C41C45C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53C82-29BB-491D-AB51-8335545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6BFCE-5B80-4F45-B682-187DCFEF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51C99-58F8-4EDB-99E2-7ADFDFB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5FF77-5613-40A3-AB1A-85009D83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DC71A-3F85-4098-B891-224A9A0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781-17A6-4EE9-AE06-3369562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FC269-A3AD-441A-A847-EC29963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9C040-9042-4134-B217-ACCF03F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C5431-271E-4CC4-AD0A-080E922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786EA-9A91-484E-A358-1C2D9B07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7E924-F358-4126-B103-AA337D1C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1060-4D70-48F0-83F6-96BA44A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D52B-5600-481E-8C76-8CFA42F4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597-60A2-41E8-AFEA-DD13A78C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E5EC-2F3E-4359-9B01-9312CAB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C57-38EB-4C96-8E3F-66D52166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22A-C60C-45AC-91B0-E3242D8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7189-8881-45BD-B5B9-1EB0DAF2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5E7C-FFD1-4095-A2A6-C86CE77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9D0-1C02-41A6-95B8-FF85DA6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AD31-1180-43AE-AF47-5E3DD22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0D38-5244-4098-9954-CBC44F8D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2B47-B84D-4A02-A6EA-2E3413C1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4E3C-7EFF-45E8-949E-F154D807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5C9F-A54C-47B4-9489-AD3A22E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CFFD-CBB0-4F2B-9CF5-0430C20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938C-724D-4BA0-9EAC-57DC065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B69-ED34-4592-B703-947F388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6CE1-F4CE-43B7-8601-07B0041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3516-D66E-4B36-8BF1-99F2AA0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E1F2-07B7-4524-8AEB-91BDEE2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1375-35CB-4C02-91A0-9BAAF71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B669-83AA-41B3-95CC-35C6E7E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0C0B-03C6-4D63-BB89-C2B019DE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67C4-9C60-41BC-B42F-F06B81A6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4C4D-13BA-4EC6-9A95-386B0AB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A11F-922B-4559-BB0B-F9C883D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A101-F068-432C-8E10-48918CA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289-B34D-436F-972D-AB640D7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B132-B566-48A9-A10D-E26CA9E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A7D9-125D-4A20-AAB8-26C2AA0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EFF9-D506-4997-BB7D-0DC291B1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20CD-3956-4B43-B326-5DA9849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D53D7-CA3E-43A5-A81B-88044FA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E2CA-8EA5-49AF-8136-E40BB61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FA9D-F615-4F7B-94C3-7968C47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661A-B805-4295-B8B7-26BA4EC5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7D84-A72A-4764-98F8-7354C51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EF9DE-DC71-4E18-ACF5-B1802A6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A0F-E391-4BB2-B57D-F5AF2990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979C-2EBD-43DE-8B6B-8D80EA8A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A1543-C458-4B56-B52F-C0BF0CFC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2F1D-1BF4-4F18-806E-B84FFF5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0127-254B-4CED-A745-46B3C93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BC37E-9814-4FF9-820B-F3EFA1FA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7B81-121C-4316-91D2-16435064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EDAFC-9D8A-4CDA-8711-2B72ACFF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4073-E363-4CAD-8CA3-1AE79B3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BFCE-A9C6-45B5-80A7-F2B5D2E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BB84-DD28-447C-BECC-02042009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EEF-64B4-4E84-841C-49A74C4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E902-C6C7-47EE-BBFC-5CB72AFD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98BB-A2CB-447A-9C02-426E80FB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E24D-1BA7-40C6-9C08-95489D4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F47CB-A4DC-42DD-BC2F-C56476E5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A347B-28F1-4A45-ABAE-D9BEFB4E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5A96-2E62-42C5-9381-40794CB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A559-C364-4DD7-9588-EE9DB94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5506-A878-4337-9FBD-1D31124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7196E-0B2C-407A-91C7-E2AA782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5233-0637-45EA-900D-45442FB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F25-3DD3-4DEB-A3D3-B67A2D9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E8D29-8E2E-4506-AD36-06FD5EC9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4C7D-A910-4EF0-B423-49F4212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59E9-DB57-4C46-AF6A-BB27EF5C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D3982-E711-4DF5-931E-0095DFB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11BFC-3601-40FC-9DD5-D77ECE2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0C41-EDF8-4BCC-A526-89373C3C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2C22-E3B8-4AF7-958A-BD9932A3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D225-A21E-4098-A101-EFAC3AA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D9DE-D79F-46CA-9C7D-C51C05A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AD94-380B-426E-AD19-17499BD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E51-9D8B-4E0E-9F4F-57B879E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1997-6FAF-417E-9094-AEE5325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F66C-CE1C-44AD-A1F3-7825497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DED8-48CF-48A1-A26B-3953518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9474-D8C9-4DD4-A5EE-7099CFEC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B496-02D0-4811-A4B2-18148A52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43AD2-E482-485C-8AE5-338679F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81D7E-828D-49CB-80AC-C4F2A1C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00AAD-D6CE-4ACB-8016-E99011E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F67F-631F-4A48-BD51-EE0C5CC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F925-18DF-4ABC-92AF-974F137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A60-8C97-40A5-B294-1D66BBA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C39C-4F20-4AA6-AA29-6788F3C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159A7-11B9-44F3-9F3C-8A376A2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5206E-2502-4F1A-AE54-8354569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8605C-BD78-4DC4-A538-F6A07A2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0E2F-0C3C-4E58-8AB9-8C6B26C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7629-74F3-40E1-9972-67FAAED5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F3C14-154C-49BA-91C2-92AAB58E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BB081-CD9A-4B2D-8698-99A819F9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5F93C-AED3-4A7D-8C4C-A89369E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99BB8-BC68-4FC5-BED4-B0CEF09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02F1-1A8E-4CC4-B714-F756E70D2580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F7D-5BE1-4C1D-8A90-275E79095DE3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DE46-925C-411E-BAAF-0C87AC468148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083F-1EB2-4B62-82E1-5B24A62F076A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A94B-C3E3-4CE1-B051-CD0C296CF921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E72F-5577-43A5-868E-4F4C9D9C5406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5B9-6CED-4B15-B447-D5D1C71FDA7B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FA22-431A-42E5-9385-1B1934B7972A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6CB-F82F-4B7E-BFF4-5699092903CC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2C0B-CDB5-4B23-8DBE-A1395D1A3E31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6CE-EC86-45AC-840F-B0021BB71EF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C32-2FCB-4A30-9C31-80528C76EA69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5280" y="2819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ПУТЕШЕСТВИЕ В СТРАН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ДОРОВЬЕ»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ГОНЧАРОВА ЕЛЕНА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380520"/>
            <a:ext cx="88567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Областное казё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Курская школа для детей с ОВЗ»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Рисунок 1" descr="http://www.artleo.com/pic/201407/2560x1600/artleo.com-80087.jpg"/>
          <p:cNvPicPr/>
          <p:nvPr/>
        </p:nvPicPr>
        <p:blipFill>
          <a:blip r:embed="rId1"/>
          <a:stretch/>
        </p:blipFill>
        <p:spPr>
          <a:xfrm>
            <a:off x="324000" y="189000"/>
            <a:ext cx="8459640" cy="6119640"/>
          </a:xfrm>
          <a:prstGeom prst="rect">
            <a:avLst/>
          </a:prstGeom>
          <a:ln w="0">
            <a:noFill/>
          </a:ln>
        </p:spPr>
      </p:pic>
      <p:pic>
        <p:nvPicPr>
          <p:cNvPr id="609" name="Прямоугольник 2" descr=""/>
          <p:cNvPicPr/>
          <p:nvPr/>
        </p:nvPicPr>
        <p:blipFill>
          <a:blip r:embed="rId2"/>
          <a:stretch/>
        </p:blipFill>
        <p:spPr>
          <a:xfrm>
            <a:off x="1689120" y="396720"/>
            <a:ext cx="6132600" cy="5523120"/>
          </a:xfrm>
          <a:prstGeom prst="rect">
            <a:avLst/>
          </a:prstGeom>
          <a:ln w="0">
            <a:noFill/>
          </a:ln>
        </p:spPr>
      </p:pic>
      <p:sp>
        <p:nvSpPr>
          <p:cNvPr id="610" name="Прямоугольник 3"/>
          <p:cNvSpPr/>
          <p:nvPr/>
        </p:nvSpPr>
        <p:spPr>
          <a:xfrm>
            <a:off x="2286000" y="3105000"/>
            <a:ext cx="457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доровье сбере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ебе я помо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826920" y="292428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ДОРОВЫЙ ЧЕЛОВЕК – БОГАТЫЙ ЧЕЛОВЕК»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 ЗДОРОВОМ ТЕЛЕ – ЗДОРОВЫЙ ДУХ»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танция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родная мудрость»</a:t>
            </a:r>
            <a:br>
              <a:rPr sz="4400"/>
            </a:b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станция «Мойдодыр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4" name="Содержимое 4" descr="http://kladraz.ru/images/0-7.jpg"/>
          <p:cNvPicPr/>
          <p:nvPr/>
        </p:nvPicPr>
        <p:blipFill>
          <a:blip r:embed="rId1"/>
          <a:stretch/>
        </p:blipFill>
        <p:spPr>
          <a:xfrm>
            <a:off x="179280" y="1773360"/>
            <a:ext cx="4427640" cy="4140000"/>
          </a:xfrm>
          <a:prstGeom prst="rect">
            <a:avLst/>
          </a:prstGeom>
          <a:ln w="0">
            <a:noFill/>
          </a:ln>
        </p:spPr>
      </p:pic>
      <p:pic>
        <p:nvPicPr>
          <p:cNvPr id="615" name="Содержимое 5" descr="http://static2.ozone.ru/multimedia/books_covers/1010606073.jpg"/>
          <p:cNvPicPr/>
          <p:nvPr/>
        </p:nvPicPr>
        <p:blipFill>
          <a:blip r:embed="rId2"/>
          <a:srcRect l="0" t="21184" r="0" b="0"/>
          <a:stretch/>
        </p:blipFill>
        <p:spPr>
          <a:xfrm>
            <a:off x="4643280" y="1773360"/>
            <a:ext cx="43214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рямоугольник 1"/>
          <p:cNvSpPr/>
          <p:nvPr/>
        </p:nvSpPr>
        <p:spPr>
          <a:xfrm>
            <a:off x="179280" y="115920"/>
            <a:ext cx="66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Костяная сп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Жёсткая щети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С мятной пастой дружит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И усердно слу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4"/>
          <p:cNvSpPr/>
          <p:nvPr/>
        </p:nvSpPr>
        <p:spPr>
          <a:xfrm>
            <a:off x="1042920" y="1268280"/>
            <a:ext cx="58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Он всегда лежит в кар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И у Ани, и у В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Если ты испачкал н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Ототрёт его без слё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7"/>
          <p:cNvSpPr/>
          <p:nvPr/>
        </p:nvSpPr>
        <p:spPr>
          <a:xfrm>
            <a:off x="2627280" y="2637000"/>
            <a:ext cx="42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Гладко, душисто, моет чис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Нужно, чтобы у каждого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Book Antiqua"/>
              </a:rPr>
              <a:t>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3132000" y="364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Хожу – брожу не по лесам,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А по усам, по волосам.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И зубы у меня длинней,</a:t>
            </a:r>
            <a:br>
              <a:rPr sz="1800"/>
            </a:br>
            <a:r>
              <a:rPr b="1" lang="ru-RU" sz="1800" spc="-1" strike="noStrike">
                <a:solidFill>
                  <a:srgbClr val="723103"/>
                </a:solidFill>
                <a:latin typeface="Book Antiqua"/>
              </a:rPr>
              <a:t>Чем у волков и медве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24000" y="472428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Говорят дорожка –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Два вышитых конца: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- помойся ты немножко,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Чернила смой с лица!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Иначе ты в полдня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Book Antiqua"/>
              </a:rPr>
              <a:t>Испачкаешь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Скругленный прямоугольник 11"/>
          <p:cNvSpPr/>
          <p:nvPr/>
        </p:nvSpPr>
        <p:spPr>
          <a:xfrm>
            <a:off x="5940360" y="333360"/>
            <a:ext cx="2808360" cy="719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1520">
            <a:solidFill>
              <a:srgbClr val="6a983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Содержимое 4" descr="Носовой платок женский - Матрасофф"/>
          <p:cNvPicPr/>
          <p:nvPr/>
        </p:nvPicPr>
        <p:blipFill>
          <a:blip r:embed="rId1"/>
          <a:stretch/>
        </p:blipFill>
        <p:spPr>
          <a:xfrm>
            <a:off x="4427640" y="1268280"/>
            <a:ext cx="2160360" cy="140508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6" descr="https://i.warosu.org/data/fa/img/0059/25/1365376953566.jpg"/>
          <p:cNvPicPr/>
          <p:nvPr/>
        </p:nvPicPr>
        <p:blipFill>
          <a:blip r:embed="rId2"/>
          <a:stretch/>
        </p:blipFill>
        <p:spPr>
          <a:xfrm>
            <a:off x="2916360" y="189000"/>
            <a:ext cx="19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7" descr="http://img0.reactor.cc/pics/comment/full/%D0%BB%D0%B8%D1%87%D0%BD%D0%BE%D0%B5-%D0%BD%D0%BE%D0%B3%D0%B0-85609.jpeg"/>
          <p:cNvPicPr/>
          <p:nvPr/>
        </p:nvPicPr>
        <p:blipFill>
          <a:blip r:embed="rId3"/>
          <a:srcRect l="0" t="0" r="0" b="6667"/>
          <a:stretch/>
        </p:blipFill>
        <p:spPr>
          <a:xfrm>
            <a:off x="6732720" y="2565360"/>
            <a:ext cx="1979640" cy="10796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20" descr="http://www.procosmo.su/upload/iblock/f09/f09c0610d2ffc37d366d8bdcf6cf8ddf.jpg"/>
          <p:cNvPicPr/>
          <p:nvPr/>
        </p:nvPicPr>
        <p:blipFill>
          <a:blip r:embed="rId4"/>
          <a:stretch/>
        </p:blipFill>
        <p:spPr>
          <a:xfrm>
            <a:off x="6659640" y="3716280"/>
            <a:ext cx="2089080" cy="11527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21" descr="http://s019.radikal.ru/i621/1301/85/5ee049d91137t.jpg"/>
          <p:cNvPicPr/>
          <p:nvPr/>
        </p:nvPicPr>
        <p:blipFill>
          <a:blip r:embed="rId5"/>
          <a:srcRect l="0" t="0" r="2590" b="0"/>
          <a:stretch/>
        </p:blipFill>
        <p:spPr>
          <a:xfrm>
            <a:off x="3622680" y="4738680"/>
            <a:ext cx="2173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1"/>
          <p:cNvSpPr/>
          <p:nvPr/>
        </p:nvSpPr>
        <p:spPr>
          <a:xfrm>
            <a:off x="250920" y="115920"/>
            <a:ext cx="66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Вот какой забавный случай!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Поселилась в ванной туча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ждик льётся с потолка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Мне на спину и бока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 чего ж приятно э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Дождик теплый, подогретый,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На полу не видно луж.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Book Antiqua"/>
                <a:ea typeface="Times New Roman"/>
              </a:rPr>
              <a:t>Все ребята любят…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4"/>
          <p:cNvSpPr/>
          <p:nvPr/>
        </p:nvSpPr>
        <p:spPr>
          <a:xfrm>
            <a:off x="324000" y="393372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Я молча смотрю на всех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И смотрят все на меня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Веселые видят смех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С печальными плачу я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Глубокое, как река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Я дома на вашей стене.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Увидит старик старика,</a:t>
            </a:r>
            <a:br>
              <a:rPr sz="1800"/>
            </a:br>
            <a:r>
              <a:rPr b="1" lang="ru-RU" sz="1800" spc="-1" strike="noStrike">
                <a:solidFill>
                  <a:srgbClr val="005828"/>
                </a:solidFill>
                <a:latin typeface="Book Antiqua"/>
              </a:rPr>
              <a:t>Ребенок – ребенка во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6"/>
          <p:cNvSpPr/>
          <p:nvPr/>
        </p:nvSpPr>
        <p:spPr>
          <a:xfrm>
            <a:off x="3780000" y="234936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м, где губка не осил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домоет, не домыл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ебя я труд бер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ятки, локти с мылом т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коленки оттира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чего не забыв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Рисунок 8" descr="http://cs623917.vk.me/v623917360/3919e/vqJ7rKgpPNU.jpg"/>
          <p:cNvPicPr/>
          <p:nvPr/>
        </p:nvPicPr>
        <p:blipFill>
          <a:blip r:embed="rId1"/>
          <a:stretch/>
        </p:blipFill>
        <p:spPr>
          <a:xfrm>
            <a:off x="4211640" y="4149720"/>
            <a:ext cx="1547640" cy="197964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9" descr="http://suntexnik.ru/published/publicdata/SUNTEXNIWA/attachments/SC/products_pictures/133381_2_b.jpg"/>
          <p:cNvPicPr/>
          <p:nvPr/>
        </p:nvPicPr>
        <p:blipFill>
          <a:blip r:embed="rId2"/>
          <a:stretch/>
        </p:blipFill>
        <p:spPr>
          <a:xfrm>
            <a:off x="3995640" y="333360"/>
            <a:ext cx="1979640" cy="1943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7" descr="http://f1.ds-russia.ru/u_dirs/057/57817/87690fcb3ba49ca4c79b2b1232b4386b.jpg"/>
          <p:cNvPicPr/>
          <p:nvPr/>
        </p:nvPicPr>
        <p:blipFill>
          <a:blip r:embed="rId3"/>
          <a:stretch/>
        </p:blipFill>
        <p:spPr>
          <a:xfrm>
            <a:off x="7020000" y="2349360"/>
            <a:ext cx="16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856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3103"/>
                </a:solidFill>
                <a:latin typeface="Times New Roman"/>
                <a:ea typeface="Times New Roman"/>
              </a:rPr>
              <a:t>3 станция </a:t>
            </a:r>
            <a:br>
              <a:rPr sz="4400"/>
            </a:br>
            <a:r>
              <a:rPr b="1" lang="ru-RU" sz="4400" spc="-1" strike="noStrike">
                <a:solidFill>
                  <a:srgbClr val="723103"/>
                </a:solidFill>
                <a:latin typeface="Times New Roman"/>
                <a:ea typeface="Times New Roman"/>
              </a:rPr>
              <a:t> «Вредно или полезно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35" name="Рисунок 3" descr="http://i.ytimg.com/vi/D6eIM_hsPhY/maxresdefault.jpg"/>
          <p:cNvPicPr/>
          <p:nvPr/>
        </p:nvPicPr>
        <p:blipFill>
          <a:blip r:embed="rId1"/>
          <a:stretch/>
        </p:blipFill>
        <p:spPr>
          <a:xfrm>
            <a:off x="468360" y="3213000"/>
            <a:ext cx="2268360" cy="194328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http://images.mreadz.com/288/287402/15.jpg"/>
          <p:cNvPicPr/>
          <p:nvPr/>
        </p:nvPicPr>
        <p:blipFill>
          <a:blip r:embed="rId2"/>
          <a:stretch/>
        </p:blipFill>
        <p:spPr>
          <a:xfrm>
            <a:off x="3002040" y="2708280"/>
            <a:ext cx="3139920" cy="144144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5" descr="http://img.md.buc.cmestatic.com/media/images/600x400/Nov2012/60686671.jpg"/>
          <p:cNvPicPr/>
          <p:nvPr/>
        </p:nvPicPr>
        <p:blipFill>
          <a:blip r:embed="rId3"/>
          <a:stretch/>
        </p:blipFill>
        <p:spPr>
          <a:xfrm>
            <a:off x="3132000" y="4437000"/>
            <a:ext cx="2943360" cy="194472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6" descr="http://cliparts.co/cliparts/yik/KqL/yikKqLrbT.png"/>
          <p:cNvPicPr/>
          <p:nvPr/>
        </p:nvPicPr>
        <p:blipFill>
          <a:blip r:embed="rId4"/>
          <a:stretch/>
        </p:blipFill>
        <p:spPr>
          <a:xfrm>
            <a:off x="6516720" y="3141720"/>
            <a:ext cx="2374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Рисунок 1" descr="http://fs00.infourok.ru/images/doc/112/132268/640/img2.jpg"/>
          <p:cNvPicPr/>
          <p:nvPr/>
        </p:nvPicPr>
        <p:blipFill>
          <a:blip r:embed="rId1"/>
          <a:stretch/>
        </p:blipFill>
        <p:spPr>
          <a:xfrm>
            <a:off x="468360" y="189000"/>
            <a:ext cx="8278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ОБРАТЬ  В ТАРЕЛКУ ТОЛЬКО ПОЛЕЗНЫЕ ДЛЯ ЗДОРОВЬЯ ПРОДУК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4 – станция </a:t>
            </a:r>
            <a:br>
              <a:rPr sz="4400"/>
            </a:b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Здоровое питание» 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692360" y="47232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бывай в числе други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льше кушать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Рисунок 5" descr="http://i65.beon.ru/74/31/593174/47/16502647/31991.jpeg"/>
          <p:cNvPicPr/>
          <p:nvPr/>
        </p:nvPicPr>
        <p:blipFill>
          <a:blip r:embed="rId1"/>
          <a:stretch/>
        </p:blipFill>
        <p:spPr>
          <a:xfrm>
            <a:off x="539640" y="4076640"/>
            <a:ext cx="1086120" cy="10810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6" descr="http://content-21.foto.my.mail.ru/mail/zzzzzz_zzzzzz_zzzzzz/_answers/h-37.jpg"/>
          <p:cNvPicPr/>
          <p:nvPr/>
        </p:nvPicPr>
        <p:blipFill>
          <a:blip r:embed="rId2"/>
          <a:stretch/>
        </p:blipFill>
        <p:spPr>
          <a:xfrm>
            <a:off x="5148360" y="3716280"/>
            <a:ext cx="1744560" cy="108108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7" descr="http://chudoderevo.kiev.ua/uploads/catalog/categories/00000000117.jpg"/>
          <p:cNvPicPr/>
          <p:nvPr/>
        </p:nvPicPr>
        <p:blipFill>
          <a:blip r:embed="rId3"/>
          <a:stretch/>
        </p:blipFill>
        <p:spPr>
          <a:xfrm>
            <a:off x="7380360" y="5157720"/>
            <a:ext cx="1087200" cy="1079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8" descr="http://fitobad.com/sites/default/files/u1/mandarin.jpg"/>
          <p:cNvPicPr/>
          <p:nvPr/>
        </p:nvPicPr>
        <p:blipFill>
          <a:blip r:embed="rId4"/>
          <a:stretch/>
        </p:blipFill>
        <p:spPr>
          <a:xfrm>
            <a:off x="3995640" y="3716280"/>
            <a:ext cx="1087560" cy="108108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10" descr="http://www.hd-wallpapersdownload.com/upload/bulk-upload/grapes-fruit-pictures-dowload.jpg"/>
          <p:cNvPicPr/>
          <p:nvPr/>
        </p:nvPicPr>
        <p:blipFill>
          <a:blip r:embed="rId5"/>
          <a:stretch/>
        </p:blipFill>
        <p:spPr>
          <a:xfrm>
            <a:off x="395280" y="5229360"/>
            <a:ext cx="1636560" cy="10792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11" descr="http://four.sytes.net/wp-content/uploads/3d50f8a7d5/01/31/31f10e6.png"/>
          <p:cNvPicPr/>
          <p:nvPr/>
        </p:nvPicPr>
        <p:blipFill>
          <a:blip r:embed="rId6"/>
          <a:stretch/>
        </p:blipFill>
        <p:spPr>
          <a:xfrm>
            <a:off x="5003640" y="5516640"/>
            <a:ext cx="1430640" cy="108108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12" descr="http://tvoi-povarenok.ru/wp-content/uploads/2013/11/morkov-350x260.jpg"/>
          <p:cNvPicPr/>
          <p:nvPr/>
        </p:nvPicPr>
        <p:blipFill>
          <a:blip r:embed="rId7"/>
          <a:stretch/>
        </p:blipFill>
        <p:spPr>
          <a:xfrm>
            <a:off x="7236000" y="3716280"/>
            <a:ext cx="1449360" cy="108108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13" descr="http://fri-go.ru/wp-content/uploads/2013/03/klubn.jpg"/>
          <p:cNvPicPr/>
          <p:nvPr/>
        </p:nvPicPr>
        <p:blipFill>
          <a:blip r:embed="rId8"/>
          <a:stretch/>
        </p:blipFill>
        <p:spPr>
          <a:xfrm>
            <a:off x="2627280" y="5516640"/>
            <a:ext cx="1606680" cy="108108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14" descr="http://www.myudm.ru/sites/default/files/cfgd.png"/>
          <p:cNvPicPr/>
          <p:nvPr/>
        </p:nvPicPr>
        <p:blipFill>
          <a:blip r:embed="rId9"/>
          <a:stretch/>
        </p:blipFill>
        <p:spPr>
          <a:xfrm>
            <a:off x="1692360" y="3789360"/>
            <a:ext cx="1900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8:03:04Z</dcterms:created>
  <dc:creator>Елена</dc:creator>
  <dc:description/>
  <dc:language>en-US</dc:language>
  <cp:lastModifiedBy>Елена</cp:lastModifiedBy>
  <dcterms:modified xsi:type="dcterms:W3CDTF">2016-11-30T20:29:29Z</dcterms:modified>
  <cp:revision>118</cp:revision>
  <dc:subject/>
  <dc:title>Слайд 1</dc:title>
</cp:coreProperties>
</file>