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704-7776-4906-9546-AD24AB10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2BE-65F7-4A71-8697-342A10BC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DE768-E037-451D-837F-20BB3D7F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62015-0BDC-493C-A4F8-3FDE18AF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B9B34-463B-47CB-B427-90EC9618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9E8F7-EC71-497C-8506-63053B5D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6AF97-C440-4721-BED2-6FDDEDDF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4C1F9-63D4-45A6-806A-50EFC49C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ABC0D-7886-401B-8311-5D713D3F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19AC4-4CAD-4487-83FF-60D9BFB6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B5D7C-C211-4171-9413-5995FD85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8D3CC-B0B0-4EEE-A38D-54D65FA3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59CB-5216-4869-9821-6F6BAEE0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8123E-E144-495B-8485-A99420E0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74A74-11AA-4EFE-AFC2-78281976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8B15BC-ADF8-4BED-8384-47D9C470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E49DA-BA44-4BF9-9B3A-881A942F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7EFEA-BF46-4161-8531-A2E095D5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29029-5ABB-41DD-B29C-E67C4763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F95AFC-345E-4322-A538-B9AE3BEA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ECE5C-8072-43BD-BFA2-CE7FB89B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77950-EBFD-488C-B7F0-312B46B9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86E25-4383-418E-B08E-539D0032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A5C-B683-46F4-9A61-57C4E0F4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37296-5CA4-4B26-9A60-7ECF00BF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3F4A5-09EC-48B3-895A-A3B83C57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FA79C-CFFE-48C5-9625-451EC60E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6CAF7-D5C6-4012-AE44-E299B865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EF9F6-142F-4DEA-A43A-AA396334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6734D-9E0E-47FF-A016-8DD36C0E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621BE-418A-4365-ABF1-68CF3BDB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394C2-3904-4650-A30D-C9C7A9A0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F4943-CA05-4FA4-A20C-ED2FC0C3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8C9BA-E462-4BC1-9FCC-852242B7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11E1-1498-4E56-A53A-6727976D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ED080-CF1A-45FD-9080-87E24502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45672-5C82-4DC8-8CF4-579FCD6F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6C3B0-D4CC-4A4B-83A5-B5DEBF57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9402B6-51F5-42B0-9B3F-183D4CE0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44C12-4E39-4D08-982D-CBBE9F53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6B278-D378-49F6-B61D-454A0AA5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931E8-6B44-4F00-9D3D-99F1C989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E43B2B-FAD7-4D0F-984B-B681B5B1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F1C5A-152C-4CC5-ABD1-2C617ADE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3DF9A-262A-4E51-B00E-03390B2D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D32E-9955-4BF6-9FC7-245D0426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FF09B8-4C80-4B2C-82DB-5A3C106C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F5EA9D-0592-4943-8BE7-37C9016F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73D08-E03C-4E08-BDA3-85414A9D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B95BD-D58A-4D03-91D4-A6F12B83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AF511A-FA05-4CDD-B30D-3C33FF6F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EBFD-C759-4112-9635-D47C7BB9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C08F-913B-4BC3-A7A6-5E7D7444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D001-E132-4005-A485-531A5474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1C83-D57E-4195-8A7B-D1CCC1EA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7A27-C325-4CD5-B13A-ABC3E6E1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D47-81A6-41DF-9D14-6E0B7ABC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F440-5A40-4E75-BDDF-B803FD3C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C532-2824-4E44-AF72-9B29088F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BCAB-E24B-471B-B5B4-0C650F96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9C28-A1D2-446A-B974-0AF8047B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A8D5-EBCB-4C4D-9618-695B1E17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7A351-1681-4C97-806A-D93D3FF9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ED9FC-5011-4627-B95C-7112637A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2AAFA-B62C-4054-B6FA-5CB9C316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8C9A3-232E-4AB7-816B-F51A1070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F5A88-A5ED-49D9-8EFC-0255805E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436-9F6A-4266-89BF-9C68D8A2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835B1-159E-44A5-B758-878F5DB6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85D63-779A-4935-9AE1-FD36C1BC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82B9-B454-4221-B1FC-6F94AAD9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AABD2-C02B-42F7-8793-18798567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1BBDE-FF84-4989-83A0-1959AADB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A9DBE-67CF-4EB3-B616-8F888F84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DC57-B4BC-4B52-9613-4E6EC8FF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DD680-9B86-4D22-AF0A-21C32213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07C94-1637-4B15-9D66-A8811353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3F039-A515-4100-ADC9-78F4F635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477-0C86-44A9-9980-5CC96C13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0F982-6B20-4AFC-A7B4-F53D5C58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CBFBE-E0A4-4F03-AE47-52026DDE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46E41-EC64-4E7B-A4F0-DE886FA6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1D8A7-6EC3-4C89-B21B-3D30897D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DBF48-F9A8-4EE1-BF2D-D53E7F74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F1933-18EB-4760-9264-C8336D4A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8F380-82AD-4498-A335-2CBC072D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A443F-933F-4B0F-8552-99F151BC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12048-4B61-4C58-922E-96CFE75B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0FE79-017C-4ED5-BADF-A1A9053D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0D0-4156-44E2-AFBC-E5EAFD02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08407-35D9-4C1D-828F-A34208D2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ECCEB-CC01-4F27-8468-E864009F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A14F2-0C96-4CF0-BFDC-320F4E11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E5DA7-96BD-4018-9D00-A67C8E6F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5FFAA-177A-4911-A6BB-D4F7C470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652CE-3947-43BB-AE74-1049AD04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F6545-E34C-435E-8694-20193A7A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FC167-65A1-4FA1-BF81-17829264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55AF3-57C1-4090-9D6C-4EB27CD4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E53B2-F75F-4AB8-8598-787FF61B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AAD-EC78-4339-8E25-E654451E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D2658-808C-4BE4-B267-D4C2B2D9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7650D-21F1-42F5-961A-D0C5FBD8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B4768-FA7B-42D8-B90F-E5FC74DF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9CF8C-CAE3-4386-A68B-E8EE2A60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A7770-F64C-4FD2-8949-7146754A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C659A-58D9-438A-A1C7-34386C76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9725F-2103-4763-BF53-69FF58B3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0C6B6-6F0E-4841-96A1-6BC8B3BE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7E234-A09F-43A2-A86B-CF83442E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D25DA-5969-4C13-9930-58092CED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636-0062-43D7-9980-ED26B5E4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2592B-4840-4CEC-9C6F-00823C9A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E7EAA-5CBD-46BC-BE25-B653E9D0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B25A1-1EF1-4C37-855F-0E71BC31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6A1D7-DD35-4190-B5ED-F8767AC7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4138E-8025-463E-9D2B-CA660FD1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6F9F1-5439-45F0-94E2-657DC67B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FBA06-1765-4BAB-8830-F02642AE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187F6-732B-44A7-BA63-D69796E7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A6B37-CC36-4981-BB25-C4E9DF43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15822-1795-4225-A5D5-5B5AAC74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DAC-18F4-4B81-B5DC-3D5E6988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950A6-C6F4-498E-8CEC-43029C53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49984-7BDC-4265-8178-E309C371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D52AF-CC89-46F0-8E2F-E894982B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54BDF-3F99-424E-83BE-F240E18B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47BDB-8F71-4E7D-B7C4-E751DE52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BFD2B-F413-40A8-AAC1-3754EFAE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DB873-D258-49A2-B309-8AA3022A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A616C-25A9-433F-A73C-3870DD3F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CEB59-453A-4724-946C-E186C357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A5959-1CDC-47EA-8ECE-B4EA08CE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798-F560-459D-A671-F6141FCB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DE059-F2D1-46BA-81B1-614644F4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AF310-5A9F-49C4-9B6B-08083C71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6E870-7D5C-449F-8D42-F16D3BD3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5B7DC-D8EE-4662-990D-B8948414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D9329-D639-41D2-9EBF-54906A48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3F7FB-0ACC-4856-9770-9263F370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5D1C2-32F5-411B-BD1C-4888CDA2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9F1F6-55B7-458B-8DFA-6F3C94B6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82F5A-D57F-42FE-8ABE-151CCD3C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FEDA2-7917-4DAE-AF79-2609138C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1618-18F0-450D-9858-609F6569A06E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520A-1281-4C8C-B7DE-3D0C155DC06C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242B-9E0A-40FE-85B8-BC3E17168BCC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7FEA-4D9E-48BC-95E7-F5A1EBAD22A9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6410-FA6C-4F20-9752-FE91006FF23D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387F-B129-47A9-9F93-DF3B13F71FB1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B4B8-5FBB-4710-B7B1-41C01FF0B00F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0FE5-99F9-4989-94A0-67ADE0B4D8C1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C721-90BA-4765-8228-0A454D64377F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BF12-C24E-4057-AB3E-6A8C2F79C3E6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3390-7202-4A81-8E23-DE4D9D147E67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45E8-9B88-4E63-9AED-FE6E4F6C90A4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95280" y="281952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ЧАС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«ПУТЕШЕСТВИЕ В СТРАНУ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«</a:t>
            </a:r>
            <a:r>
              <a:rPr b="1" i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ЗДОРОВЬЕ»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УЧИТЕЛЬ ТРУДОВОГО ОБУЧ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ГОНЧАРОВА ЕЛЕНА ГАВРИИЛОВ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79280" y="380520"/>
            <a:ext cx="885672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Областное казён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 «Курская школа для детей с ОВЗ»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9b4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Рисунок 1" descr="http://www.artleo.com/pic/201407/2560x1600/artleo.com-80087.jpg"/>
          <p:cNvPicPr/>
          <p:nvPr/>
        </p:nvPicPr>
        <p:blipFill>
          <a:blip r:embed="rId1"/>
          <a:stretch/>
        </p:blipFill>
        <p:spPr>
          <a:xfrm>
            <a:off x="324000" y="189000"/>
            <a:ext cx="8459640" cy="6119640"/>
          </a:xfrm>
          <a:prstGeom prst="rect">
            <a:avLst/>
          </a:prstGeom>
          <a:ln w="0">
            <a:noFill/>
          </a:ln>
        </p:spPr>
      </p:pic>
      <p:pic>
        <p:nvPicPr>
          <p:cNvPr id="609" name="Прямоугольник 2" descr=""/>
          <p:cNvPicPr/>
          <p:nvPr/>
        </p:nvPicPr>
        <p:blipFill>
          <a:blip r:embed="rId2"/>
          <a:stretch/>
        </p:blipFill>
        <p:spPr>
          <a:xfrm>
            <a:off x="1689120" y="396720"/>
            <a:ext cx="6132600" cy="5523120"/>
          </a:xfrm>
          <a:prstGeom prst="rect">
            <a:avLst/>
          </a:prstGeom>
          <a:ln w="0">
            <a:noFill/>
          </a:ln>
        </p:spPr>
      </p:pic>
      <p:sp>
        <p:nvSpPr>
          <p:cNvPr id="610" name="Прямоугольник 3"/>
          <p:cNvSpPr/>
          <p:nvPr/>
        </p:nvSpPr>
        <p:spPr>
          <a:xfrm>
            <a:off x="2286000" y="3105000"/>
            <a:ext cx="45720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доровье сбере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себе я помог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826920" y="2924280"/>
            <a:ext cx="7561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ЗДОРОВЫЙ ЧЕЛОВЕК – БОГАТЫЙ ЧЕЛОВЕК»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В ЗДОРОВОМ ТЕЛЕ – ЗДОРОВЫЙ ДУХ»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722160" y="0"/>
            <a:ext cx="7772400" cy="25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станция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родная мудрость»</a:t>
            </a:r>
            <a:br>
              <a:rPr sz="4400"/>
            </a:b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 станция «Мойдодыр»</a:t>
            </a: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  <p:pic>
        <p:nvPicPr>
          <p:cNvPr id="614" name="Содержимое 4" descr="http://kladraz.ru/images/0-7.jpg"/>
          <p:cNvPicPr/>
          <p:nvPr/>
        </p:nvPicPr>
        <p:blipFill>
          <a:blip r:embed="rId1"/>
          <a:stretch/>
        </p:blipFill>
        <p:spPr>
          <a:xfrm>
            <a:off x="179280" y="1773360"/>
            <a:ext cx="4427640" cy="4140000"/>
          </a:xfrm>
          <a:prstGeom prst="rect">
            <a:avLst/>
          </a:prstGeom>
          <a:ln w="0">
            <a:noFill/>
          </a:ln>
        </p:spPr>
      </p:pic>
      <p:pic>
        <p:nvPicPr>
          <p:cNvPr id="615" name="Содержимое 5" descr="http://static2.ozone.ru/multimedia/books_covers/1010606073.jpg"/>
          <p:cNvPicPr/>
          <p:nvPr/>
        </p:nvPicPr>
        <p:blipFill>
          <a:blip r:embed="rId2"/>
          <a:srcRect l="0" t="21184" r="0" b="0"/>
          <a:stretch/>
        </p:blipFill>
        <p:spPr>
          <a:xfrm>
            <a:off x="4643280" y="1773360"/>
            <a:ext cx="43214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рямоугольник 1"/>
          <p:cNvSpPr/>
          <p:nvPr/>
        </p:nvSpPr>
        <p:spPr>
          <a:xfrm>
            <a:off x="179280" y="115920"/>
            <a:ext cx="66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Костяная спин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Жёсткая щетин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С мятной пастой дружит</a:t>
            </a:r>
            <a:br>
              <a:rPr sz="1800"/>
            </a:br>
            <a:r>
              <a:rPr b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И усердно слу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4"/>
          <p:cNvSpPr/>
          <p:nvPr/>
        </p:nvSpPr>
        <p:spPr>
          <a:xfrm>
            <a:off x="1042920" y="1268280"/>
            <a:ext cx="58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Book Antiqua"/>
              </a:rPr>
              <a:t>Он всегда лежит в карм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Book Antiqua"/>
              </a:rPr>
              <a:t>И у Ани, и у В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Book Antiqua"/>
              </a:rPr>
              <a:t>Если ты испачкал но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Book Antiqua"/>
              </a:rPr>
              <a:t>Ототрёт его без слё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7"/>
          <p:cNvSpPr/>
          <p:nvPr/>
        </p:nvSpPr>
        <p:spPr>
          <a:xfrm>
            <a:off x="2627280" y="2637000"/>
            <a:ext cx="42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0"/>
                </a:solidFill>
                <a:latin typeface="Book Antiqua"/>
              </a:rPr>
              <a:t>Гладко, душисто, моет чис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0"/>
                </a:solidFill>
                <a:latin typeface="Book Antiqua"/>
              </a:rPr>
              <a:t>Нужно, чтобы у каждого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0"/>
                </a:solidFill>
                <a:latin typeface="Book Antiqua"/>
              </a:rPr>
              <a:t>Что это т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9"/>
          <p:cNvSpPr/>
          <p:nvPr/>
        </p:nvSpPr>
        <p:spPr>
          <a:xfrm>
            <a:off x="3132000" y="3645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3103"/>
                </a:solidFill>
                <a:latin typeface="Book Antiqua"/>
              </a:rPr>
              <a:t>Хожу – брожу не по лесам,</a:t>
            </a:r>
            <a:br>
              <a:rPr sz="1800"/>
            </a:br>
            <a:r>
              <a:rPr b="1" lang="ru-RU" sz="1800" spc="-1" strike="noStrike">
                <a:solidFill>
                  <a:srgbClr val="723103"/>
                </a:solidFill>
                <a:latin typeface="Book Antiqua"/>
              </a:rPr>
              <a:t>А по усам, по волосам.</a:t>
            </a:r>
            <a:br>
              <a:rPr sz="1800"/>
            </a:br>
            <a:r>
              <a:rPr b="1" lang="ru-RU" sz="1800" spc="-1" strike="noStrike">
                <a:solidFill>
                  <a:srgbClr val="723103"/>
                </a:solidFill>
                <a:latin typeface="Book Antiqua"/>
              </a:rPr>
              <a:t>И зубы у меня длинней,</a:t>
            </a:r>
            <a:br>
              <a:rPr sz="1800"/>
            </a:br>
            <a:r>
              <a:rPr b="1" lang="ru-RU" sz="1800" spc="-1" strike="noStrike">
                <a:solidFill>
                  <a:srgbClr val="723103"/>
                </a:solidFill>
                <a:latin typeface="Book Antiqua"/>
              </a:rPr>
              <a:t>Чем у волков и медве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11"/>
          <p:cNvSpPr/>
          <p:nvPr/>
        </p:nvSpPr>
        <p:spPr>
          <a:xfrm>
            <a:off x="324000" y="4724280"/>
            <a:ext cx="653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Book Antiqua"/>
              </a:rPr>
              <a:t>Говорят дорожка –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Book Antiqua"/>
              </a:rPr>
              <a:t>Два вышитых конца: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Book Antiqua"/>
              </a:rPr>
              <a:t>- помойся ты немножко,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Book Antiqua"/>
              </a:rPr>
              <a:t>Чернила смой с лица!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Book Antiqua"/>
              </a:rPr>
              <a:t>Иначе ты в полдня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Book Antiqua"/>
              </a:rPr>
              <a:t>Испачкаешь ме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Скругленный прямоугольник 11"/>
          <p:cNvSpPr/>
          <p:nvPr/>
        </p:nvSpPr>
        <p:spPr>
          <a:xfrm>
            <a:off x="5940360" y="333360"/>
            <a:ext cx="2808360" cy="719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1520">
            <a:solidFill>
              <a:srgbClr val="6a983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Содержимое 4" descr="Носовой платок женский - Матрасофф"/>
          <p:cNvPicPr/>
          <p:nvPr/>
        </p:nvPicPr>
        <p:blipFill>
          <a:blip r:embed="rId1"/>
          <a:stretch/>
        </p:blipFill>
        <p:spPr>
          <a:xfrm>
            <a:off x="4427640" y="1268280"/>
            <a:ext cx="2160360" cy="140508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16" descr="https://i.warosu.org/data/fa/img/0059/25/1365376953566.jpg"/>
          <p:cNvPicPr/>
          <p:nvPr/>
        </p:nvPicPr>
        <p:blipFill>
          <a:blip r:embed="rId2"/>
          <a:stretch/>
        </p:blipFill>
        <p:spPr>
          <a:xfrm>
            <a:off x="2916360" y="189000"/>
            <a:ext cx="1908000" cy="100800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17" descr="http://img0.reactor.cc/pics/comment/full/%D0%BB%D0%B8%D1%87%D0%BD%D0%BE%D0%B5-%D0%BD%D0%BE%D0%B3%D0%B0-85609.jpeg"/>
          <p:cNvPicPr/>
          <p:nvPr/>
        </p:nvPicPr>
        <p:blipFill>
          <a:blip r:embed="rId3"/>
          <a:srcRect l="0" t="0" r="0" b="6667"/>
          <a:stretch/>
        </p:blipFill>
        <p:spPr>
          <a:xfrm>
            <a:off x="6732720" y="2565360"/>
            <a:ext cx="1979640" cy="107964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20" descr="http://www.procosmo.su/upload/iblock/f09/f09c0610d2ffc37d366d8bdcf6cf8ddf.jpg"/>
          <p:cNvPicPr/>
          <p:nvPr/>
        </p:nvPicPr>
        <p:blipFill>
          <a:blip r:embed="rId4"/>
          <a:stretch/>
        </p:blipFill>
        <p:spPr>
          <a:xfrm>
            <a:off x="6659640" y="3716280"/>
            <a:ext cx="2089080" cy="115272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21" descr="http://s019.radikal.ru/i621/1301/85/5ee049d91137t.jpg"/>
          <p:cNvPicPr/>
          <p:nvPr/>
        </p:nvPicPr>
        <p:blipFill>
          <a:blip r:embed="rId5"/>
          <a:srcRect l="0" t="0" r="2590" b="0"/>
          <a:stretch/>
        </p:blipFill>
        <p:spPr>
          <a:xfrm>
            <a:off x="3622680" y="4738680"/>
            <a:ext cx="21733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Прямоугольник 1"/>
          <p:cNvSpPr/>
          <p:nvPr/>
        </p:nvSpPr>
        <p:spPr>
          <a:xfrm>
            <a:off x="250920" y="115920"/>
            <a:ext cx="66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Book Antiqua"/>
                <a:ea typeface="Times New Roman"/>
              </a:rPr>
              <a:t>Вот какой забавный случай!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Book Antiqua"/>
                <a:ea typeface="Times New Roman"/>
              </a:rPr>
              <a:t>Поселилась в ванной туча.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Book Antiqua"/>
                <a:ea typeface="Times New Roman"/>
              </a:rPr>
              <a:t>Дождик льётся с потолка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Book Antiqua"/>
                <a:ea typeface="Times New Roman"/>
              </a:rPr>
              <a:t>Мне на спину и бока.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Book Antiqua"/>
                <a:ea typeface="Times New Roman"/>
              </a:rPr>
              <a:t>До чего ж приятно эт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Book Antiqua"/>
                <a:ea typeface="Times New Roman"/>
              </a:rPr>
              <a:t>Дождик теплый, подогретый,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Book Antiqua"/>
                <a:ea typeface="Times New Roman"/>
              </a:rPr>
              <a:t>На полу не видно луж.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Book Antiqua"/>
                <a:ea typeface="Times New Roman"/>
              </a:rPr>
              <a:t>Все ребята любят…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4"/>
          <p:cNvSpPr/>
          <p:nvPr/>
        </p:nvSpPr>
        <p:spPr>
          <a:xfrm>
            <a:off x="324000" y="393372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Book Antiqua"/>
              </a:rPr>
              <a:t>Я молча смотрю на всех,</a:t>
            </a:r>
            <a:br>
              <a:rPr sz="1800"/>
            </a:br>
            <a:r>
              <a:rPr b="1" lang="ru-RU" sz="1800" spc="-1" strike="noStrike">
                <a:solidFill>
                  <a:srgbClr val="005828"/>
                </a:solidFill>
                <a:latin typeface="Book Antiqua"/>
              </a:rPr>
              <a:t>И смотрят все на меня.</a:t>
            </a:r>
            <a:br>
              <a:rPr sz="1800"/>
            </a:br>
            <a:r>
              <a:rPr b="1" lang="ru-RU" sz="1800" spc="-1" strike="noStrike">
                <a:solidFill>
                  <a:srgbClr val="005828"/>
                </a:solidFill>
                <a:latin typeface="Book Antiqua"/>
              </a:rPr>
              <a:t>Веселые видят смех,</a:t>
            </a:r>
            <a:br>
              <a:rPr sz="1800"/>
            </a:br>
            <a:r>
              <a:rPr b="1" lang="ru-RU" sz="1800" spc="-1" strike="noStrike">
                <a:solidFill>
                  <a:srgbClr val="005828"/>
                </a:solidFill>
                <a:latin typeface="Book Antiqua"/>
              </a:rPr>
              <a:t>С печальными плачу я.</a:t>
            </a:r>
            <a:br>
              <a:rPr sz="1800"/>
            </a:br>
            <a:r>
              <a:rPr b="1" lang="ru-RU" sz="1800" spc="-1" strike="noStrike">
                <a:solidFill>
                  <a:srgbClr val="005828"/>
                </a:solidFill>
                <a:latin typeface="Book Antiqua"/>
              </a:rPr>
              <a:t>Глубокое, как река,</a:t>
            </a:r>
            <a:br>
              <a:rPr sz="1800"/>
            </a:br>
            <a:r>
              <a:rPr b="1" lang="ru-RU" sz="1800" spc="-1" strike="noStrike">
                <a:solidFill>
                  <a:srgbClr val="005828"/>
                </a:solidFill>
                <a:latin typeface="Book Antiqua"/>
              </a:rPr>
              <a:t>Я дома на вашей стене.</a:t>
            </a:r>
            <a:br>
              <a:rPr sz="1800"/>
            </a:br>
            <a:r>
              <a:rPr b="1" lang="ru-RU" sz="1800" spc="-1" strike="noStrike">
                <a:solidFill>
                  <a:srgbClr val="005828"/>
                </a:solidFill>
                <a:latin typeface="Book Antiqua"/>
              </a:rPr>
              <a:t>Увидит старик старика,</a:t>
            </a:r>
            <a:br>
              <a:rPr sz="1800"/>
            </a:br>
            <a:r>
              <a:rPr b="1" lang="ru-RU" sz="1800" spc="-1" strike="noStrike">
                <a:solidFill>
                  <a:srgbClr val="005828"/>
                </a:solidFill>
                <a:latin typeface="Book Antiqua"/>
              </a:rPr>
              <a:t>Ребенок – ребенка во м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6"/>
          <p:cNvSpPr/>
          <p:nvPr/>
        </p:nvSpPr>
        <p:spPr>
          <a:xfrm>
            <a:off x="3780000" y="2349360"/>
            <a:ext cx="324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ам, где губка не осил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домоет, не домыл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себя я труд бер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ятки, локти с мылом т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 коленки оттира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ичего не забыва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Рисунок 8" descr="http://cs623917.vk.me/v623917360/3919e/vqJ7rKgpPNU.jpg"/>
          <p:cNvPicPr/>
          <p:nvPr/>
        </p:nvPicPr>
        <p:blipFill>
          <a:blip r:embed="rId1"/>
          <a:stretch/>
        </p:blipFill>
        <p:spPr>
          <a:xfrm>
            <a:off x="4211640" y="4149720"/>
            <a:ext cx="1547640" cy="1979640"/>
          </a:xfrm>
          <a:prstGeom prst="rect">
            <a:avLst/>
          </a:prstGeom>
          <a:ln w="0">
            <a:noFill/>
          </a:ln>
        </p:spPr>
      </p:pic>
      <p:pic>
        <p:nvPicPr>
          <p:cNvPr id="631" name="Рисунок 9" descr="http://suntexnik.ru/published/publicdata/SUNTEXNIWA/attachments/SC/products_pictures/133381_2_b.jpg"/>
          <p:cNvPicPr/>
          <p:nvPr/>
        </p:nvPicPr>
        <p:blipFill>
          <a:blip r:embed="rId2"/>
          <a:stretch/>
        </p:blipFill>
        <p:spPr>
          <a:xfrm>
            <a:off x="3995640" y="333360"/>
            <a:ext cx="1979640" cy="1943280"/>
          </a:xfrm>
          <a:prstGeom prst="rect">
            <a:avLst/>
          </a:prstGeom>
          <a:ln w="0">
            <a:noFill/>
          </a:ln>
        </p:spPr>
      </p:pic>
      <p:pic>
        <p:nvPicPr>
          <p:cNvPr id="632" name="Рисунок 7" descr="http://f1.ds-russia.ru/u_dirs/057/57817/87690fcb3ba49ca4c79b2b1232b4386b.jpg"/>
          <p:cNvPicPr/>
          <p:nvPr/>
        </p:nvPicPr>
        <p:blipFill>
          <a:blip r:embed="rId3"/>
          <a:stretch/>
        </p:blipFill>
        <p:spPr>
          <a:xfrm>
            <a:off x="7020000" y="2349360"/>
            <a:ext cx="1692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179280" y="2421000"/>
            <a:ext cx="8856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23103"/>
                </a:solidFill>
                <a:latin typeface="Times New Roman"/>
                <a:ea typeface="Times New Roman"/>
              </a:rPr>
              <a:t>3 станция </a:t>
            </a:r>
            <a:br>
              <a:rPr sz="4400"/>
            </a:br>
            <a:r>
              <a:rPr b="1" lang="ru-RU" sz="4400" spc="-1" strike="noStrike">
                <a:solidFill>
                  <a:srgbClr val="723103"/>
                </a:solidFill>
                <a:latin typeface="Times New Roman"/>
                <a:ea typeface="Times New Roman"/>
              </a:rPr>
              <a:t> «Вредно или полезно»</a:t>
            </a: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  <p:pic>
        <p:nvPicPr>
          <p:cNvPr id="635" name="Рисунок 3" descr="http://i.ytimg.com/vi/D6eIM_hsPhY/maxresdefault.jpg"/>
          <p:cNvPicPr/>
          <p:nvPr/>
        </p:nvPicPr>
        <p:blipFill>
          <a:blip r:embed="rId1"/>
          <a:stretch/>
        </p:blipFill>
        <p:spPr>
          <a:xfrm>
            <a:off x="468360" y="3213000"/>
            <a:ext cx="2268360" cy="1943280"/>
          </a:xfrm>
          <a:prstGeom prst="rect">
            <a:avLst/>
          </a:prstGeom>
          <a:ln w="0">
            <a:noFill/>
          </a:ln>
        </p:spPr>
      </p:pic>
      <p:pic>
        <p:nvPicPr>
          <p:cNvPr id="636" name="Рисунок 4" descr="http://images.mreadz.com/288/287402/15.jpg"/>
          <p:cNvPicPr/>
          <p:nvPr/>
        </p:nvPicPr>
        <p:blipFill>
          <a:blip r:embed="rId2"/>
          <a:stretch/>
        </p:blipFill>
        <p:spPr>
          <a:xfrm>
            <a:off x="3002040" y="2708280"/>
            <a:ext cx="3139920" cy="1441440"/>
          </a:xfrm>
          <a:prstGeom prst="rect">
            <a:avLst/>
          </a:prstGeom>
          <a:ln w="0">
            <a:noFill/>
          </a:ln>
        </p:spPr>
      </p:pic>
      <p:pic>
        <p:nvPicPr>
          <p:cNvPr id="637" name="Рисунок 5" descr="http://img.md.buc.cmestatic.com/media/images/600x400/Nov2012/60686671.jpg"/>
          <p:cNvPicPr/>
          <p:nvPr/>
        </p:nvPicPr>
        <p:blipFill>
          <a:blip r:embed="rId3"/>
          <a:stretch/>
        </p:blipFill>
        <p:spPr>
          <a:xfrm>
            <a:off x="3132000" y="4437000"/>
            <a:ext cx="2943360" cy="194472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6" descr="http://cliparts.co/cliparts/yik/KqL/yikKqLrbT.png"/>
          <p:cNvPicPr/>
          <p:nvPr/>
        </p:nvPicPr>
        <p:blipFill>
          <a:blip r:embed="rId4"/>
          <a:stretch/>
        </p:blipFill>
        <p:spPr>
          <a:xfrm>
            <a:off x="6516720" y="3141720"/>
            <a:ext cx="2374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Рисунок 1" descr="http://fs00.infourok.ru/images/doc/112/132268/640/img2.jpg"/>
          <p:cNvPicPr/>
          <p:nvPr/>
        </p:nvPicPr>
        <p:blipFill>
          <a:blip r:embed="rId1"/>
          <a:stretch/>
        </p:blipFill>
        <p:spPr>
          <a:xfrm>
            <a:off x="468360" y="189000"/>
            <a:ext cx="82789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НИЕ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ОБРАТЬ  В ТАРЕЛКУ ТОЛЬКО ПОЛЕЗНЫЕ ДЛЯ ЗДОРОВЬЯ ПРОДУКТ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40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4 – станция </a:t>
            </a:r>
            <a:br>
              <a:rPr sz="4400"/>
            </a:br>
            <a:r>
              <a:rPr b="1" lang="ru-RU" sz="4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 «Здоровое питание» </a:t>
            </a: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692360" y="47232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ывай в числе других проду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льше кушать овощей и фр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Рисунок 5" descr="http://i65.beon.ru/74/31/593174/47/16502647/31991.jpeg"/>
          <p:cNvPicPr/>
          <p:nvPr/>
        </p:nvPicPr>
        <p:blipFill>
          <a:blip r:embed="rId1"/>
          <a:stretch/>
        </p:blipFill>
        <p:spPr>
          <a:xfrm>
            <a:off x="539640" y="4076640"/>
            <a:ext cx="1086120" cy="1081080"/>
          </a:xfrm>
          <a:prstGeom prst="rect">
            <a:avLst/>
          </a:prstGeom>
          <a:ln w="0">
            <a:noFill/>
          </a:ln>
        </p:spPr>
      </p:pic>
      <p:pic>
        <p:nvPicPr>
          <p:cNvPr id="644" name="Рисунок 6" descr="http://content-21.foto.my.mail.ru/mail/zzzzzz_zzzzzz_zzzzzz/_answers/h-37.jpg"/>
          <p:cNvPicPr/>
          <p:nvPr/>
        </p:nvPicPr>
        <p:blipFill>
          <a:blip r:embed="rId2"/>
          <a:stretch/>
        </p:blipFill>
        <p:spPr>
          <a:xfrm>
            <a:off x="5148360" y="3716280"/>
            <a:ext cx="1744560" cy="1081080"/>
          </a:xfrm>
          <a:prstGeom prst="rect">
            <a:avLst/>
          </a:prstGeom>
          <a:ln w="0">
            <a:noFill/>
          </a:ln>
        </p:spPr>
      </p:pic>
      <p:pic>
        <p:nvPicPr>
          <p:cNvPr id="645" name="Рисунок 7" descr="http://chudoderevo.kiev.ua/uploads/catalog/categories/00000000117.jpg"/>
          <p:cNvPicPr/>
          <p:nvPr/>
        </p:nvPicPr>
        <p:blipFill>
          <a:blip r:embed="rId3"/>
          <a:stretch/>
        </p:blipFill>
        <p:spPr>
          <a:xfrm>
            <a:off x="7380360" y="5157720"/>
            <a:ext cx="1087200" cy="1079640"/>
          </a:xfrm>
          <a:prstGeom prst="rect">
            <a:avLst/>
          </a:prstGeom>
          <a:ln w="0">
            <a:noFill/>
          </a:ln>
        </p:spPr>
      </p:pic>
      <p:pic>
        <p:nvPicPr>
          <p:cNvPr id="646" name="Рисунок 8" descr="http://fitobad.com/sites/default/files/u1/mandarin.jpg"/>
          <p:cNvPicPr/>
          <p:nvPr/>
        </p:nvPicPr>
        <p:blipFill>
          <a:blip r:embed="rId4"/>
          <a:stretch/>
        </p:blipFill>
        <p:spPr>
          <a:xfrm>
            <a:off x="3995640" y="3716280"/>
            <a:ext cx="1087560" cy="1081080"/>
          </a:xfrm>
          <a:prstGeom prst="rect">
            <a:avLst/>
          </a:prstGeom>
          <a:ln w="0">
            <a:noFill/>
          </a:ln>
        </p:spPr>
      </p:pic>
      <p:pic>
        <p:nvPicPr>
          <p:cNvPr id="647" name="Рисунок 10" descr="http://www.hd-wallpapersdownload.com/upload/bulk-upload/grapes-fruit-pictures-dowload.jpg"/>
          <p:cNvPicPr/>
          <p:nvPr/>
        </p:nvPicPr>
        <p:blipFill>
          <a:blip r:embed="rId5"/>
          <a:stretch/>
        </p:blipFill>
        <p:spPr>
          <a:xfrm>
            <a:off x="395280" y="5229360"/>
            <a:ext cx="1636560" cy="1079280"/>
          </a:xfrm>
          <a:prstGeom prst="rect">
            <a:avLst/>
          </a:prstGeom>
          <a:ln w="0">
            <a:noFill/>
          </a:ln>
        </p:spPr>
      </p:pic>
      <p:pic>
        <p:nvPicPr>
          <p:cNvPr id="648" name="Рисунок 11" descr="http://four.sytes.net/wp-content/uploads/3d50f8a7d5/01/31/31f10e6.png"/>
          <p:cNvPicPr/>
          <p:nvPr/>
        </p:nvPicPr>
        <p:blipFill>
          <a:blip r:embed="rId6"/>
          <a:stretch/>
        </p:blipFill>
        <p:spPr>
          <a:xfrm>
            <a:off x="5003640" y="5516640"/>
            <a:ext cx="1430640" cy="1081080"/>
          </a:xfrm>
          <a:prstGeom prst="rect">
            <a:avLst/>
          </a:prstGeom>
          <a:ln w="0">
            <a:noFill/>
          </a:ln>
        </p:spPr>
      </p:pic>
      <p:pic>
        <p:nvPicPr>
          <p:cNvPr id="649" name="Рисунок 12" descr="http://tvoi-povarenok.ru/wp-content/uploads/2013/11/morkov-350x260.jpg"/>
          <p:cNvPicPr/>
          <p:nvPr/>
        </p:nvPicPr>
        <p:blipFill>
          <a:blip r:embed="rId7"/>
          <a:stretch/>
        </p:blipFill>
        <p:spPr>
          <a:xfrm>
            <a:off x="7236000" y="3716280"/>
            <a:ext cx="1449360" cy="1081080"/>
          </a:xfrm>
          <a:prstGeom prst="rect">
            <a:avLst/>
          </a:prstGeom>
          <a:ln w="0">
            <a:noFill/>
          </a:ln>
        </p:spPr>
      </p:pic>
      <p:pic>
        <p:nvPicPr>
          <p:cNvPr id="650" name="Рисунок 13" descr="http://fri-go.ru/wp-content/uploads/2013/03/klubn.jpg"/>
          <p:cNvPicPr/>
          <p:nvPr/>
        </p:nvPicPr>
        <p:blipFill>
          <a:blip r:embed="rId8"/>
          <a:stretch/>
        </p:blipFill>
        <p:spPr>
          <a:xfrm>
            <a:off x="2627280" y="5516640"/>
            <a:ext cx="1606680" cy="1081080"/>
          </a:xfrm>
          <a:prstGeom prst="rect">
            <a:avLst/>
          </a:prstGeom>
          <a:ln w="0">
            <a:noFill/>
          </a:ln>
        </p:spPr>
      </p:pic>
      <p:pic>
        <p:nvPicPr>
          <p:cNvPr id="651" name="Рисунок 14" descr="http://www.myudm.ru/sites/default/files/cfgd.png"/>
          <p:cNvPicPr/>
          <p:nvPr/>
        </p:nvPicPr>
        <p:blipFill>
          <a:blip r:embed="rId9"/>
          <a:stretch/>
        </p:blipFill>
        <p:spPr>
          <a:xfrm>
            <a:off x="1692360" y="3789360"/>
            <a:ext cx="1900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18:03:04Z</dcterms:created>
  <dc:creator>Елена</dc:creator>
  <dc:description/>
  <dc:language>en-US</dc:language>
  <cp:lastModifiedBy>Елена</cp:lastModifiedBy>
  <dcterms:modified xsi:type="dcterms:W3CDTF">2016-11-30T20:29:29Z</dcterms:modified>
  <cp:revision>118</cp:revision>
  <dc:subject/>
  <dc:title>Слайд 1</dc:title>
</cp:coreProperties>
</file>