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39B-B90A-4049-9E5A-1F886A6E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428-81A7-4F8C-9A36-1C5B23FB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072-E7C1-4952-BC30-95299EC1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4C8-374B-4EB5-96FD-52285212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740A-AFFB-41EC-89E6-8CD1D87F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13C9-C208-42AA-9B24-999589D9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EC76-249F-4B0D-9335-02C670EC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AF27-4C5E-41C3-9A23-F3018D5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323E-2B3C-49A0-B2AA-BC24D4A6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A6D1-9D19-49EC-B35E-9D74EF1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7DC4-15E3-4415-AA31-9E3ABADA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EC8-002F-48A3-963E-2B1DC407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67BD-C39C-410A-9008-2625233C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968E-AF09-4AAE-81FD-7A2B047D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C714-17EB-4A0D-8932-34F81385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1922-73D2-437F-8A67-B7610B63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BF7D-38CF-4E14-A71A-675A8769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D98F-6464-493F-BDF1-33AE81E8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8AEB-8554-4A26-9D73-E27CBFFD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38D20-2884-4109-B584-5CD696E2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65B6-F607-4488-B7C1-0A4C302B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CBDD-9B65-4B5E-B3FC-D381EA63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C24-FE7D-4F55-A658-AB312A5C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6E6D-F41C-43BD-A186-E18EDC69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A03D-51E8-404B-A996-1F71749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DB16-F51B-47FA-A82B-8DFDEC4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55A2-BD09-46D7-90C9-E4DF8868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956E-B6A0-4C11-8C09-042AD338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0855-AB04-48D3-85F3-A530E6B5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7DF5-FFF7-45A7-A5A5-A586767C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E03B-BF92-42DF-A46E-416811AB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CABCE-C4D0-4EF4-BD16-756E5FA6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4F32-4D86-44FF-A1C0-755F1965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9E1-38FF-4A41-B2E1-97871D71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70C5-91FB-4925-844B-CAFCBB13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B517D-1669-4805-A7BC-920E806D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96EF-E74D-4869-B7F1-98CE9A54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508B-8E66-47D4-85C0-48C0848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A82D-64DF-4093-A768-B0AB9A0D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CE3C-FCCC-4010-8492-27D27D83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7E0D-0F74-4F4A-AEA9-56341D86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0384C-30E0-4FA4-8449-8A81F7DA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44AC-22F3-4071-B7BB-09850CE7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A25-C087-45B8-A38D-8EA02F4D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29E-2C75-48DE-831D-129E5DC9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14A-1A2A-41EA-BAC1-71E7EC15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E08-F8C2-4F4A-8474-AF8EA8E3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DA0-DD2E-42B4-A976-F74D560A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5135-F59A-4710-9B5B-FA5A0E5C775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A821-43C3-44B4-B696-ABB46A78AAE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DB34-2482-4D82-A439-F89BFD5B0508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4C81-B2C4-4ECE-9D6F-1339DA867EE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601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Своя игр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«По странам и континентам»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тур</a:t>
            </a:r>
            <a:br>
              <a:rPr sz="3600"/>
            </a:br>
            <a:br>
              <a:rPr sz="36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Подготовил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Горбунова Елена Юрьевн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учитель географии МОАУ «СОШ № 8»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г. Оренбурга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Оренбургской област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923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Обычно к заветной цели идут грудью вперед. Но однажды малоизвестный американский студент повернулся к цели спиной и..... вошёл таким образом в историю. Что представляла собой цель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270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т район Нью-Йорка в переводе с индейского означает "место выпивки". Это название ведет начало с 1524 года, когда предприимчивый флорентинец Джованни Веррацано, поселившись там, стал первым спаивать индейцев "огненной водой" и обирать их. Как называется этот район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50 году в Америку впервые ввезли птицу, которая вскоре там освоилась. Когда в пригороде Бостона численность насекомых-вредителей достигла угрожающих размеров, на помощь пришла эта птица, уничтожив гусениц, наносивших серьезный вред посевам. В знак благодарности жители Бостона поставили памятник этой птице в центральном парке города. Назовите эту птицу.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2420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лавный город этой области долгое время называли городом невест из-за преобладания предприятий, использующих женскую рабочую силу.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0920" y="2204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 этой области раскручивают туристический бренд «Родина Снегурочки»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2133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ренных жителей этого субъекта федерации принято подразделять на горных и луговых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420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ный  в 1374 новгородцами, этот город не раз менял свое название. Так с 1455 г. по 1780 г. он именовался Хлыновск, а с 1934 года называется в честь известного советского партийного деятеля. В остальное же время город называли так же, как и реку, на которой он стоит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область, центром которой он является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2060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лавный город этой области в старину назывался Переяславлем.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45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А.П. Чехов так мог сказать об этой реке: «Я не видел реки великолепнее… Могучий, неистовый богатырь, который не знает, куда девать свои силы и молодость». Поэт И. Кокарев посвятил ей стихи: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Тебе кипучее начало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Дано вершинами Саян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Недаром гордо, величаво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Franklin Gothic Book"/>
              </a:rPr>
              <a:t>Ты мчишься в грозный океан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Какая это река? В какой океан она мчит свои воды?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3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азовите реку в Северной Америке с притоком, превышающем по длине главную рек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92888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II 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тур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57160"/>
          <a:ext cx="9144000" cy="4900680"/>
        </p:xfrm>
        <a:graphic>
          <a:graphicData uri="http://schemas.openxmlformats.org/drawingml/2006/table">
            <a:tbl>
              <a:tblPr/>
              <a:tblGrid>
                <a:gridCol w="2000160"/>
                <a:gridCol w="1285920"/>
                <a:gridCol w="1428840"/>
                <a:gridCol w="1500120"/>
                <a:gridCol w="1428840"/>
                <a:gridCol w="15001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карте ми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2</a:t>
                      </a:r>
                      <a:r>
                        <a:rPr b="0" lang="ru-RU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4</a:t>
                      </a:r>
                      <a:r>
                        <a:rPr b="0" lang="ru-RU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6</a:t>
                      </a:r>
                      <a:r>
                        <a:rPr b="0" lang="ru-RU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8</a:t>
                      </a:r>
                      <a:r>
                        <a:rPr b="0" lang="ru-RU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10</a:t>
                      </a:r>
                      <a:r>
                        <a:rPr b="0" lang="ru-RU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Ш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</a:t>
                      </a:r>
                      <a:r>
                        <a:rPr b="0" lang="ru-RU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</a:t>
                      </a:r>
                      <a:r>
                        <a:rPr b="0" lang="ru-RU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6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тешествие по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та сокровищ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68360" y="213372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ая река расположена западнее – р. Потомак или р. Колорад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7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азовите самую большую реку не имеющую стока в океа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8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56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оих стихах Ю. Марцинкевич так представил эту реку: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 вода голубая из озера Ильмень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о как только я к Ладоге трогаюсь в путь,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зникает тогда мое древнее имя, Глуховатое чуть и волшебное чуть!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ая это река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4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Название какой реки в России имеет тюрскско-монгольское происхождение и связано со словом «золото»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вспомните название золотой монеты в России)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45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звание какого острова в Средиземном море буквально переводится как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мед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од в ЮАР получил свое название от фамилии английского министра колоний и прославился добычей алмазов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45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акой город в соседней области на границе между Европейской и Азиатской частями России носит «минеральное» название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45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ак переводится название залива Атлантического океана Ла Плата?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08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Ссылки на изображения</a:t>
            </a:r>
            <a:br>
              <a:rPr sz="36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к слайду 6: </a:t>
            </a: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http://tyr-tailand.ru/wp-content/uploads/2013/06/christ-e1370574440568.jpg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1844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Franklin Gothic Book"/>
              </a:rPr>
              <a:t>Эта страна вступила в ООН лишь в 2004 году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 этой стране три государственных языка, каждый из которых является официальным языком одного из государств, с которыми она граничит.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2420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вание этой страны «составили» из начальных букв названий провинций на круглом столе в Лондоне. Правда некоторые из этих провинций, например Кашмир, в состав этого государства в итоге так и не вошли. Определите страну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от в мешк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т город Нового Света был одно время столицей государства Старого Св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зовите ег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Рио-де Жанейро"/>
          <p:cNvPicPr/>
          <p:nvPr/>
        </p:nvPicPr>
        <p:blipFill>
          <a:blip r:embed="rId1"/>
          <a:stretch/>
        </p:blipFill>
        <p:spPr>
          <a:xfrm>
            <a:off x="4000680" y="1643040"/>
            <a:ext cx="4314600" cy="30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2781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огласно реализованному проектору архитекторов  Л. Косты и О. Нимейра, в плане столица этого государства имеет очертания самолета, в «фюзеляже» которого находятся административные и общественные здания, в «крыльях» - жилые кварталы, а в «кабине пилота» - резиденции президента национального конгресса и правосудия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2420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приехала из Франции. Над ее имиджем работали Эдуард де Лабулайе и Фридерик Бартольди. Широкой публике она была представлена в 1886 году президентом США Гровером Кливлендом. Кто же эта загадочная мисс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280" y="2420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одном американском городке, подарившем миру знаменитого писателя, есть памятник, деталью которого является дохлая кошка. Подумайте, в честь кого был воздвигнут такой странный монумент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3:14:43Z</dcterms:created>
  <dc:creator>SergR</dc:creator>
  <dc:description/>
  <dc:language>en-US</dc:language>
  <cp:lastModifiedBy>Admin</cp:lastModifiedBy>
  <dcterms:modified xsi:type="dcterms:W3CDTF">2016-11-30T17:39:42Z</dcterms:modified>
  <cp:revision>26</cp:revision>
  <dc:subject/>
  <dc:title>I тур</dc:title>
</cp:coreProperties>
</file>