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8A1-E00C-437E-869D-6ADE9F2B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A04-60AE-4D02-8881-73978105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D2753-4F97-42FD-8A52-E957E5C3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3439E-DF22-41D5-A90A-21C02B80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134B1-979B-4406-92C7-47FC2B98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C3BF0-0A1F-4F5B-A154-8EAF90F6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A816A-D65F-4C96-B380-21A5344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9ACA9-28DD-4B68-A5C0-209F5118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98E1E-0621-44BB-9258-B69FF15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5F508-E7AB-4A1F-8512-4BABAA78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4FF0A-F166-4FC5-AB1A-9E9E806A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9A2F5-3365-4198-9298-DF51311F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4C3-F062-4A61-B045-4630A2A8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9B03F-43AF-4FB7-BDF6-E6E052E8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ED544-B6A8-4D54-AB02-597BA383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D8892-42E3-44E8-9476-15C06328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68457-B0CD-4345-BE13-622CFF3A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39459-01A1-4805-AE52-E905864F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67A28-49B8-4198-B595-7E8E0FB2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4905A-4BEF-4CB0-B2EC-B5B6F874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816ED-AAF6-4CD1-A47B-16244F8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661A0-B907-437B-81CA-A979B6E9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3B618-2068-41BE-8A9E-D4413199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211-CFC4-4CD1-B1CB-3B85F365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6E93A-612D-4CD7-8E1E-9F6A25AE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BF261-5C42-4EE7-93DC-C931CE7D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EBD70-AE94-4B60-A0FB-EF9171FB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D44BA-4D4C-4558-A37E-8F6B0FC2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15595-3BB9-472E-ABF2-FB3D2940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18911-7301-4923-B9BA-CF642F6E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A8525-DD9E-42D0-8EB2-0AF90863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4D48D-AC79-4F12-A603-642508A1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0A4E5-6B24-4082-AE70-34DB21D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E6510-CE87-4A9E-9BDD-EB7CD0A6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9579-6221-440C-8618-F1127342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9EBB3-E6F9-4535-B483-41BBA61F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3E4C1-7027-4C4E-8D4D-62CFD9EA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4B550-7326-4609-A3A3-B4BEB6C0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359D9-1035-44BE-9244-E3B0EC23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D16FB-C987-49A7-9660-4A2B562E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468FC-772E-410C-BAD1-513F6593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04CC1-6E15-4775-921F-9AB553B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42AA9-B96D-4A75-B6FC-19F1849E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1B89E-5297-41C5-B71B-610A5784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768A5-C032-4A6C-B0E1-91B81DC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46EC-D0DF-4A72-9EC0-B6FB2967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1653C-DCD4-406D-97E5-CC5A6AC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09505-06C4-47EA-BBEA-FD7F822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6AA84-DE01-4060-BD75-46CA4AA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687EB-DF61-4DDF-948A-A555FA58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9CC2C-C291-40B4-BAA6-DC7A326B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46F3-69AE-4789-B11F-7B727641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8737-42E9-4DAB-ACB2-BF274A9A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DF84-6B79-402E-827C-8482DCA7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5136-2F52-43A6-A56A-787ADAB0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B180-1B80-4EEB-82C2-FDDE940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4E8-7353-4587-B0C9-BD8EC362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4D2C-A938-44F6-A6D7-F0797008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C5D-0365-40C4-97E9-395102C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85DC-D5C8-4591-8EC4-FCF894E2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89D7-2498-49C8-8277-6C9FF927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9AB3-8CCB-4376-AC5F-F0AA556F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6724-1B08-43B0-B6DE-70B1ED0E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9D92-1E5C-4642-809E-66E1FCE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3D9A-9C7F-467A-BE2B-96C8E23A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F539-2341-4905-9BC1-D9016E7C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2C70-7EDF-4CF1-9325-1FB5E5C2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CDD-3002-4839-AD91-13DF009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A8D8-CA16-4E99-95D2-29B8E9D8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0EEF3-F36C-48A3-8877-12CF7CB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05D23-1DFD-47D3-9201-7387723E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8AA9-47CA-4A05-A0E6-594901AB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DCB7F-7E29-425D-B53D-67371AA1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606A-5A5A-4935-BE84-3236DF39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E113-4461-41BC-8556-C8900AF9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9B3E-68D7-4916-92DF-C2746B98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DA8D-909E-485D-A7AE-01A0D218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F06A-059D-4FBC-A2E9-F4E67BF6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28D-3B8A-4007-92F2-CF5E9376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3422A-7843-4ABF-AFCE-CF67A1B6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9ADC-AB89-4A35-A0DB-B8EA0D71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74F3-B567-4E99-A7EB-46D1AB74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B70F4-B4D1-4FAA-A2E5-420AE768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C9F33-894C-4ED2-B4FB-6ECBBFD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1E9D8-11C0-4908-B505-0F3C0D6E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858B-E7B7-4E3A-BA16-11456615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9FB51-8274-4D65-AF49-BB553D16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D6B1-EBA6-4FCC-8691-CB3AD1C9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8ADAD-7107-4C82-821C-EF6C41F8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512-54F4-40F8-8068-AEEBDA7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FA1D0-8581-419C-A0CE-8BE46C29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EE6A-64B7-49C9-AC02-1638BF1A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454FA-F7C8-4618-8CD8-5954532C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79270-686B-488C-A38C-12EAEFDA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E83F-9AD7-4B8A-97E4-8AC5FB55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647D-2182-42FB-8E50-EED013E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2E9FF-E551-436A-B094-4B5F664D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6A8C-3D77-4FA8-9D49-40409FF1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A8779-FF89-43E4-928C-E7CFB788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A58CF-5CDF-4EEE-B93C-62A24EDE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32D-535F-4F3D-8981-7D047A72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AE355-7D7B-4706-A88C-8A2314BC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B880F-587A-40C7-A01D-808CA6EB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E2EE-D824-4125-96A8-9DA1E58D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094D-1354-4A0E-BCF0-F6CC6B8D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6F5F3-7A23-4E17-9059-1F39C864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9D1B0-891D-426F-B7E5-1CEEB1A4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66B7B-D907-4F65-862C-7AB80F28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0B6C7-F2BD-40C5-AA6F-59B29FE5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C288-1198-4832-8937-7F862E98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63D42-E03E-46D9-8E50-98E955F3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DA9-E3DA-4163-B2E3-DDAF725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56C76-A81B-493F-800D-D9279D2F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ED9B9-F110-4EDF-A725-99768BB3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5896-34B5-48F3-B460-7C2A28F0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EE109-1BE8-4B4A-8A09-54D92575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3A80E-82E4-412F-81CD-DAE7262F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56994-4A1E-44DB-9ED9-7D8149D6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9A6F9-5DAB-417E-A6E4-AC2343B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B1624-5E37-4679-B737-FC0CBFB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A14CA-E8A6-4CCE-9D00-4DECDC9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46507-CBDF-4E47-A7DD-C973DDE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96E-258A-40C8-89F3-435F618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1ECA7-EF21-4772-988E-532316CC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75BE6-D39E-4E3D-8E72-57D4C927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67B6-CC10-400A-B36F-02BEA01D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5A326-9F77-440E-AA5F-ABA96DAD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BCC4B-9505-424C-A2C4-A1777B87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D86F6-7797-4DEB-A9C1-44BE4D05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C2CCD-9A11-47F0-BE43-F856DACF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D00C3-D656-4A7E-89BE-DACBF3E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59299-6D42-4195-970C-B8600B1D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6DC52-5E2A-4B20-88D0-C93ECBAC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594-57C8-4125-AB79-99989E40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B4AD-C70E-46BD-90E1-69B85D61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853B4-1998-49FA-B4B1-11AA28C3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F1796-881A-4762-BB58-DEAE38C2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43D70-3F93-49F9-AC19-7D22BFA6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BB1AD-668E-4933-83BC-23099714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361E7-0202-494B-90F3-8007CCD0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7B9F1-3DF7-47DA-BCFD-62D36543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9E7E6-4267-4B5D-9698-2BA4BA4F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84FFE-CF1D-4759-9677-4B24508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BF45F-1F9C-4041-A0F1-6C125B57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642D-C193-4E7B-9452-C889C4430F3E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1E9-B4B7-4CE6-BABE-358E461900E4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0746-4AAF-46FA-9CB3-8C9ABDFC03BE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5031-81DE-4FE6-95F4-7F5D815BEAE5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A7A-45E0-4681-A659-E7F07BF98C74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070A-94FC-4DBE-942A-99FDB5BFB42B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8AB6-F883-4E2E-8DF6-EEA94D8F6B2D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7B5-CAC2-4D59-9A5F-89FAF41FBA1B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F819-FCB5-4F9D-B4B9-FC0274A4737C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4BC8-D1E8-4D7E-B604-349B143C9DF1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72DC-34E1-4BC2-9F82-4BD8D737D8E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9b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9b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b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9b45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b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fff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9b45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062D-566C-4E2A-BB85-BC7247A99CBA}" type="slidenum">
              <a:rPr b="0" lang="ru-RU" sz="1600" spc="-1" strike="noStrike">
                <a:solidFill>
                  <a:srgbClr val="009b45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95280" y="28195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ПУТЕШЕСТВИЕ В СТРАН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</a:t>
            </a:r>
            <a:r>
              <a:rPr b="1" i="1" lang="ru-RU" sz="4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ЗДОРОВЬЕ»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УЧИТЕЛЬ ТРУДОВОГО ОБУЧЕН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ГОНЧАРОВА ЕЛЕНА ГАВРИИЛО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79280" y="380520"/>
            <a:ext cx="885672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Областное казён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«Курская школа для детей с ОВЗ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6 класс</a:t>
            </a:r>
            <a:br>
              <a:rPr sz="2000"/>
            </a:br>
            <a:endParaRPr b="0" lang="en-US" sz="2000" spc="-1" strike="noStrike">
              <a:solidFill>
                <a:srgbClr val="009b4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5 -  станция «Витаминная»</a:t>
            </a:r>
            <a:r>
              <a:rPr b="0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10" name="Рисунок 2" descr="http://ds35.ucoz.ru/_si/0/21316049.jpg"/>
          <p:cNvPicPr/>
          <p:nvPr/>
        </p:nvPicPr>
        <p:blipFill>
          <a:blip r:embed="rId1"/>
          <a:stretch/>
        </p:blipFill>
        <p:spPr>
          <a:xfrm>
            <a:off x="1258920" y="1628640"/>
            <a:ext cx="6727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– ДЕМОНСТРАЦИЯ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i="1" lang="ru-RU" sz="4000" spc="-1" strike="noStrike">
                <a:solidFill>
                  <a:srgbClr val="aa4a04"/>
                </a:solidFill>
                <a:latin typeface="Georgia"/>
              </a:rPr>
              <a:t>МЫ НЕ ДРУЖИМ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a4a04"/>
                </a:solidFill>
                <a:latin typeface="Georgia"/>
              </a:rPr>
              <a:t>С СУХОМЯТКОЙ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395280" y="533160"/>
            <a:ext cx="835344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6 – станция </a:t>
            </a:r>
            <a:br>
              <a:rPr sz="4400"/>
            </a:b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«Кафе «Приятного аппетита»» 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1186920" y="5877000"/>
            <a:ext cx="6985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7 -  станция «Неболейка»</a:t>
            </a:r>
            <a:r>
              <a:rPr b="0" lang="ru-RU" sz="4400" spc="-1" strike="noStrike">
                <a:solidFill>
                  <a:srgbClr val="005828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15" name="Рисунок 3" descr="http://vdvbezheck.ru/pic/news/1441868868.jpg"/>
          <p:cNvPicPr/>
          <p:nvPr/>
        </p:nvPicPr>
        <p:blipFill>
          <a:blip r:embed="rId1"/>
          <a:stretch/>
        </p:blipFill>
        <p:spPr>
          <a:xfrm>
            <a:off x="1619280" y="2421000"/>
            <a:ext cx="59403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 станция «Спортивная»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18" name="Рисунок 3" descr="http://horoshev.ru/wp-content/uploads/2015/09/55d3e5a30fc9d.jpg"/>
          <p:cNvPicPr/>
          <p:nvPr/>
        </p:nvPicPr>
        <p:blipFill>
          <a:blip r:embed="rId1"/>
          <a:stretch/>
        </p:blipFill>
        <p:spPr>
          <a:xfrm>
            <a:off x="900000" y="2637000"/>
            <a:ext cx="73040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b45"/>
                </a:solidFill>
                <a:latin typeface="Times New Roman"/>
                <a:ea typeface="Times New Roman"/>
              </a:rPr>
              <a:t>Мультфильм «Азбука здоровя»</a:t>
            </a:r>
            <a:endParaRPr b="0" lang="en-US" sz="4400" spc="-1" strike="noStrike">
              <a:solidFill>
                <a:srgbClr val="009b45"/>
              </a:solidFill>
              <a:latin typeface="Georgia"/>
            </a:endParaRPr>
          </a:p>
        </p:txBody>
      </p:sp>
      <p:pic>
        <p:nvPicPr>
          <p:cNvPr id="620" name="Азбука здоровья - Быть здоровым — здорово!.mp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43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1"/>
          <p:cNvSpPr/>
          <p:nvPr/>
        </p:nvSpPr>
        <p:spPr>
          <a:xfrm>
            <a:off x="1908000" y="549360"/>
            <a:ext cx="60487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каля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f7f00"/>
                </a:solidFill>
                <a:latin typeface="Times New Roman"/>
                <a:ea typeface="Times New Roman"/>
              </a:rPr>
              <a:t>правильно пита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людать правила гигие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43c"/>
                </a:solidFill>
                <a:latin typeface="Times New Roman"/>
                <a:ea typeface="Times New Roman"/>
              </a:rPr>
              <a:t>уметь отдыхать, расслабля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a4a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a4a04"/>
                </a:solidFill>
                <a:latin typeface="Times New Roman"/>
                <a:ea typeface="Times New Roman"/>
              </a:rPr>
              <a:t>делать заряд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f7f00"/>
                </a:solidFill>
                <a:latin typeface="Times New Roman"/>
                <a:ea typeface="Times New Roman"/>
              </a:rPr>
              <a:t>больше двига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иматься спор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блюдать чисто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выкать к вредным привычк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ще улыбаться, говорить добрые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0"/>
                </a:solidFill>
                <a:latin typeface="Times New Roman"/>
                <a:ea typeface="Times New Roman"/>
              </a:rPr>
              <a:t>ЖЕЛАЮ ВСЕМ КРЕПКОГО ЗДОРОВ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8:03:04Z</dcterms:created>
  <dc:creator>Елена</dc:creator>
  <dc:description/>
  <dc:language>en-US</dc:language>
  <cp:lastModifiedBy>Елена</cp:lastModifiedBy>
  <dcterms:modified xsi:type="dcterms:W3CDTF">2016-11-30T20:32:21Z</dcterms:modified>
  <cp:revision>117</cp:revision>
  <dc:subject/>
  <dc:title>Слайд 1</dc:title>
</cp:coreProperties>
</file>