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B9F-9DE6-4E38-ABFC-0ABD5042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33C-49D3-4B83-932A-CA237CA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DE787-F6CB-4F70-8C13-6B0BD53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17C0E-A172-43E5-94DA-6B52280C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86818-A302-4B54-A890-6F0FCA6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AAF17-C0E3-44AC-9AB7-9087DE9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97905-189B-466A-B4E2-3660EA45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1C573-2E21-477A-8304-A222B6D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4E7E7-199D-446D-AF50-2DEE6A1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520A1-AF79-4591-AC91-5174F534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8A28-9FA4-4F97-B612-B3EFA715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D0A89-274E-42A2-B9D5-6B388CD1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959-98D8-41DA-824C-C7D8B649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FA639-1A95-4B10-8EA0-F0A4186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1481D-B15B-4EB0-8904-ACC6E76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8DAA3-E359-48DC-8F81-F0A7910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AAE7E-6920-4BBB-BB91-A28FABA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A09AF-820F-417F-8AC6-92C4D1A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86BF1-D234-42AC-8799-D38E554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2FA20-9891-4C80-BC8C-D558A61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C31BA-6180-4A9C-B803-7D3C20F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A7C2F-EA31-4337-BAD8-F74A7C1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BA362-E1D4-48CE-9EC9-273E1347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06D-09FB-4955-85DE-8974B6CE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279D0-99D3-4473-935F-CB41F1E6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4F36E-E7A5-4572-8A60-AB930A6E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600FF-2CE2-4B42-A3CB-6DF1E35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32847-4FDB-4E60-9377-55D77A3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891E-45DF-47F2-B223-0AEFA6C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E4AB-D00E-4130-95C8-55DDFD0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88091-0BB6-44BD-8D0D-46CC6A0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CAF0B-5233-4CA0-865D-ADC24871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F189-1756-46C1-B471-CBC47AA7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E04D2-87F5-4E5C-8DCE-E02E88F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1087-20EA-45E5-B48B-D810C77D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6DF8-E6F5-4B68-A1DC-B83011C8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4C1B4-9E91-4F77-B4D5-080F25C8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093F-EF9D-43DC-A8AB-F8E7D06E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3E21E-B802-4FD6-B71B-5B7EAE3D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9A356-46DA-4B96-BD0D-3D22775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56675-D837-4071-88B4-9D1CE60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28368-950A-49DE-BEF0-A674088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662BD-B88C-4B1B-8BC0-19CC4A29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90BF4-26B2-47F4-B17C-A5EDAC3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DE796-96BD-4AF7-B414-39419FFE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540C-FEED-4E0B-BA33-566618A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83871-17D3-4952-B36F-915BC26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3BD91-FE67-4776-B6BE-1E488A2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3A20F-5CA4-4B80-95F6-CC56D72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12EA2-69A8-4C75-AD81-2FF86E9C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9F5C3-E200-4531-A7E0-B485FAB1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260D-1696-4C90-87FB-27EBD97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68B-E41B-4F1D-9ED3-15D3190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AE8D-3551-4496-9392-5CB418F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6E53-1D7F-43A4-AC9D-ECD6744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0BE4-9800-404C-9583-DB26C50B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8A9-5C7C-42A9-B5F8-AB622FA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6E4-CBC3-4B92-91ED-59FABEE8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5372-D05D-43B1-9C32-5F3BE8B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7715-0F95-40A1-BDE7-CA5E098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E867-F07F-4382-B1F9-55703D3F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707-0F5E-4115-9916-ED4DF27D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39B0-1D0A-4D4B-810E-29C7DC77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34CC-42B0-4F8E-AD91-DD62B06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8FA3-531D-4C35-9217-C609AAB1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923D-CB87-4E82-A179-78B01D1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0BEB-6628-4642-89BE-2CFA6A7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34-D542-416C-9652-000833C7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5B4B-AF06-4C97-9542-F776AA1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477B-060A-4484-978C-12D9AD5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257F-FFB4-42B9-AF77-37BB10F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7607-A2E0-4EAC-A8D9-3C9F4C5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BB2F-5207-4A92-9C73-7ABB028B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3D8F-0637-4C33-B0BD-A788DE44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02E6-83F0-45FE-BBFA-C8D070FA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3DFC-DEE5-40FB-854B-B5ED831F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040F-F436-4551-BA63-4C62B46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FD45-9670-4292-9FF6-5B16EBC5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D99-7C60-42AD-82C6-212C1566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EB12-B906-4777-B259-ABFC35C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695EC-1390-4C62-B82C-07686CE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EA0F-CA22-46F9-A015-95BB821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9B5C-7F8E-4D27-9BC2-F4EC31E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008F-1A64-44E8-B900-32005F47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78C37-1D14-463A-B216-B300246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BEB9-28F4-4784-B6DF-E6B125F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9F9B-9C1C-477C-BCBC-7DED24CF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6DA2-DC2C-4608-A020-D732BB8C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D124-8383-44C9-8190-DACAB4F0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18B-0517-43CA-A032-7E110DD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F681-0A76-4F6F-8525-E383A9A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5E1B-3E7C-456E-B5E7-164ADA6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E0AA-414E-416A-A6C1-A4AF93C3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C1BF-2261-4D6C-BFF7-70B01B0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FD36-1453-45C6-9AF5-C1FDDF1F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E0FF9-126D-42E6-B3AA-222A0BE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B588-806F-43AD-B44B-E4C64CD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4B54D-6914-4208-8058-E288F4D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913A-D8DA-437E-92F7-FED1AE1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9991-30A6-4552-8F57-0DB42142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288-B5AE-4430-A03A-DFD76EB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C82C-43E2-4267-AAE6-1140725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A51F8-30E1-4FFC-84E6-24A52BB2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0FA7-D7B0-4FE9-AF5B-FDF208F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7D1D-66E9-4F1E-8C40-0F510A53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B864-28A5-4DCA-B09C-D1624434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7AAF-2377-4892-928B-834B5EF3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30E7-54A2-4E59-BD3C-11AD95C4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4051D-CB5D-4C14-9B3D-2709B6B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BC33-4832-4098-8B3F-0C1DBD09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CF84-97B7-4325-9754-555C20D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5D3-37DE-49A1-904D-7C38B31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7B9D-CE0F-46B6-917D-CB7B65DF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A4B9-82EC-4093-95DC-BCBB462E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1328-D77C-4B30-869B-4BE12372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1DEE6-5D04-469C-B9A7-5D759283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FAC5-F36D-478E-9124-638A824B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2FBF4-A0D5-43BB-8FED-2945AE9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45548-5DD5-4427-8430-F2E7BA03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64E2-47D4-4E8D-B83F-08DD3B69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E1AA8-2B0D-4C1B-864E-1DA6A30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D1BA-7A09-4A50-8633-C6185A84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78F-CE43-427B-AE1E-732A795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F0206-299F-4DBB-A15C-DCFADFA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CF56-E881-4597-A693-EB0AAFC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4BFF6-6708-4E28-B2C2-C4D4D7C1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F6D3-48A9-490A-936A-A9EE9E1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08975-311A-46D7-A08B-19AC6307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9B06B-A92E-45F8-8F14-13D430C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9B5A-39E2-4C3F-BF4E-BAC0133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95FBE-268E-4686-9A23-E5E757B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960C3-9259-4A57-A285-A336E2B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CCD9-5143-43D5-9F58-1740DA8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326-1822-4C0E-A8FF-B16E003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3763-0B2F-4426-90BE-BEB3B901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E67D-1662-459A-9F3C-96F1D1B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4BC7D-049B-412C-B3B0-3503715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45CF7-6E3C-452E-962E-5C90A89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023D-1699-41B1-9BAB-A1E8BEB7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D81C-8C32-4BBB-8EAE-D660BA7A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D15F-74AA-4C68-8D39-FCD67F23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69FD2-1F72-488C-B433-339D491B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11D7A-54C7-4D34-BAC2-DFDF6CB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759BE-E6FA-4F39-A80F-BD9E7F5E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57CB-4B7B-4662-9C19-E91E68D85EDF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F24-E5A9-493F-AA9A-AC3EEE75A202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25D-1F18-4B29-A12E-BE4F5255A6F2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51A0-EC9C-403C-9DC4-9C26CDC24374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F63-2966-4A6C-860E-E331C5242C79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F31-75EC-42F6-BE27-2C80B90535F7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027-DD39-4D80-8E1D-85ED5795AA89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2F91-78DE-4C25-B726-C03C0A6956FD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6D4-2586-45E7-A7C8-852EE93C3C1A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25A0-9DB0-4BA0-8253-C404B739D98E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3E7F-5D8F-470F-9AFD-41EE288597F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268E-7EBC-4E72-8663-78976C04C477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5280" y="2819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ПУТЕШЕСТВИЕ В СТРАН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ДОРОВЬЕ»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ГОНЧАРОВА ЕЛЕНА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380520"/>
            <a:ext cx="88567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Областное казё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Курская школа для детей с ОВЗ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6 класс</a:t>
            </a:r>
            <a:br>
              <a:rPr sz="2000"/>
            </a:br>
            <a:endParaRPr b="0" lang="en-US" sz="20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5 -  станция «Витаминная»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0" name="Рисунок 2" descr="http://ds35.ucoz.ru/_si/0/21316049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27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– ДЕМОНСТРАЦИ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4000" spc="-1" strike="noStrike">
                <a:solidFill>
                  <a:srgbClr val="aa4a04"/>
                </a:solidFill>
                <a:latin typeface="Georgia"/>
              </a:rPr>
              <a:t>МЫ НЕ ДРУЖИМ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a4a04"/>
                </a:solidFill>
                <a:latin typeface="Georgia"/>
              </a:rPr>
              <a:t>С СУХОМЯТКО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95280" y="533160"/>
            <a:ext cx="8353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6 – станция </a:t>
            </a:r>
            <a:br>
              <a:rPr sz="4400"/>
            </a:b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Кафе «Приятного аппетита»» 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86920" y="5877000"/>
            <a:ext cx="6985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7 -  станция «Неболейка»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5" name="Рисунок 3" descr="http://vdvbezheck.ru/pic/news/1441868868.jpg"/>
          <p:cNvPicPr/>
          <p:nvPr/>
        </p:nvPicPr>
        <p:blipFill>
          <a:blip r:embed="rId1"/>
          <a:stretch/>
        </p:blipFill>
        <p:spPr>
          <a:xfrm>
            <a:off x="1619280" y="2421000"/>
            <a:ext cx="5940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 станция «Спортивная»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8" name="Рисунок 3" descr="http://horoshev.ru/wp-content/uploads/2015/09/55d3e5a30fc9d.jpg"/>
          <p:cNvPicPr/>
          <p:nvPr/>
        </p:nvPicPr>
        <p:blipFill>
          <a:blip r:embed="rId1"/>
          <a:stretch/>
        </p:blipFill>
        <p:spPr>
          <a:xfrm>
            <a:off x="900000" y="2637000"/>
            <a:ext cx="7304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b45"/>
                </a:solidFill>
                <a:latin typeface="Times New Roman"/>
                <a:ea typeface="Times New Roman"/>
              </a:rPr>
              <a:t>Мультфильм «Азбука здоровя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20" name="Азбука здоровья - Быть здоровым — здорово!.mp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43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1"/>
          <p:cNvSpPr/>
          <p:nvPr/>
        </p:nvSpPr>
        <p:spPr>
          <a:xfrm>
            <a:off x="1908000" y="549360"/>
            <a:ext cx="6048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каля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00"/>
                </a:solidFill>
                <a:latin typeface="Times New Roman"/>
                <a:ea typeface="Times New Roman"/>
              </a:rPr>
              <a:t>правильно пита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людать правила гигие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43c"/>
                </a:solidFill>
                <a:latin typeface="Times New Roman"/>
                <a:ea typeface="Times New Roman"/>
              </a:rPr>
              <a:t>уметь отдыхать, расслабля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a4a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a4a04"/>
                </a:solidFill>
                <a:latin typeface="Times New Roman"/>
                <a:ea typeface="Times New Roman"/>
              </a:rPr>
              <a:t>делать заряд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00"/>
                </a:solidFill>
                <a:latin typeface="Times New Roman"/>
                <a:ea typeface="Times New Roman"/>
              </a:rPr>
              <a:t>больше двига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иматься спо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блюдать чисто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выкать к вредным привы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ще улыбаться, говорить добры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ЖЕЛАЮ ВСЕМ КРЕПКОГО ЗДОРОВ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8:03:04Z</dcterms:created>
  <dc:creator>Елена</dc:creator>
  <dc:description/>
  <dc:language>en-US</dc:language>
  <cp:lastModifiedBy>Елена</cp:lastModifiedBy>
  <dcterms:modified xsi:type="dcterms:W3CDTF">2016-11-30T20:32:21Z</dcterms:modified>
  <cp:revision>117</cp:revision>
  <dc:subject/>
  <dc:title>Слайд 1</dc:title>
</cp:coreProperties>
</file>