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CA2D-0D4D-4497-ACC5-BE9B8A86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39B2-B838-4E3A-BBC0-F6494A61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EE6B-4315-4AA8-8DB1-FDA9750B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6890-0C4B-4412-88E8-5A532B9CB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4F1C-1386-4631-A90D-3FB1C3E0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84EE-1493-4288-A6CE-AD4B2C1A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B4D6-0D3B-4BD1-B607-9C007E58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85D0-48E7-4AC0-9CAC-C64E0083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685F-7F4C-41F0-B435-3516B236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95A9-20E4-4515-9C45-6E0E4433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7FA3-D923-4227-A5EF-FF67E462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444A-18CA-42AE-B581-11E01CF5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6897-22B9-4FEF-B5E2-69AAD9DE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FB55-0ED0-4670-AD7F-A8B0CB9A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0E02-4E8C-43AA-AAF6-8605EC5E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470A-A65B-49F5-B4AD-FE4138C0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C5D2-F614-4D3B-87DC-096AB439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6072B-ACC2-4C17-9D7B-6AD70262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90946-32FE-494C-B1A8-D22A55ED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C990B-6914-4610-A673-3DAFB547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5AE18-14C4-47FC-B011-E4C9760A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55D4C-B22A-4B52-9472-CA02AE27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550D-DBC9-4730-9FED-DB9D9FE8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A7264-49A5-472B-93EC-C174196E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C8593-9E36-4EC9-80EB-8AA7AD7F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077B6-627B-406C-90C0-6CBD1E96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223A7-B774-40F6-A587-5535EE96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E5120-4E6D-4E20-B91D-F64B4ABF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BFB25-6FFC-4E94-AB99-EDAF5AF1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9314F-3E94-4C7B-A8B6-AFD58908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20AFF-26B5-4747-8550-4F4D6B03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65738-F974-431B-A017-6B5033C0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85C90-1546-4CB8-A409-BF1D03F7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6402-1C4C-442B-8F19-DB9866E5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D331A-205C-415D-BC6B-8EED815B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E8C20-6A9D-4ED0-9A50-0E9B8D77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C10C2-6609-4CBB-8595-4D5A41B5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8399D-8D6D-453C-A8A5-0B072FBC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18916-C3AF-4EDD-94B3-DD73A6C5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B72EC-AB51-42B9-9CC3-EA2B0BC2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70868-75FE-4E6E-8EA5-425D6808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19D49-D19A-4F0A-A99E-733D2B4A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89EE3-093E-4336-9C6E-BFB62FA0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127E-7E60-4BFE-919A-F6B8C29C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20DB-7454-4CB9-9205-1ED656D5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595D-C50D-4BF0-9316-6A802F38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FF5B-D35D-441E-8217-1A082A42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544E-A5D0-41C1-B3B7-52F43FBE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c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8001-5734-4592-B0B8-D7B3A850D8D5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c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EA48-5E73-41C5-92CB-9F2957E3F659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c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2876-0614-459C-8215-F8F84F0F94A6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c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7A24-83D2-4FB4-8941-38D735FC2865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601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Своя игра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«По странам и континентам»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III</a:t>
            </a: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 тур</a:t>
            </a:r>
            <a:br>
              <a:rPr sz="3600"/>
            </a:br>
            <a:br>
              <a:rPr sz="3600"/>
            </a:b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Подготовил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Горбунова Елена Юрьевн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учитель географии МОАУ «СОШ № 8»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г. Оренбурга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Оренбургской области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928880" cy="714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III </a:t>
            </a: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тур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2357280"/>
          <a:ext cx="9144000" cy="1920960"/>
        </p:xfrm>
        <a:graphic>
          <a:graphicData uri="http://schemas.openxmlformats.org/drawingml/2006/table">
            <a:tbl>
              <a:tblPr/>
              <a:tblGrid>
                <a:gridCol w="1928880"/>
                <a:gridCol w="1428840"/>
                <a:gridCol w="1500120"/>
                <a:gridCol w="1428840"/>
                <a:gridCol w="1428480"/>
                <a:gridCol w="1428840"/>
              </a:tblGrid>
              <a:tr h="192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егори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c8c3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400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c8c3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400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c8c3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400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c8c3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0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c8c3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400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Как правило, любая деталь на гербе той или иной страны неслучайна. На государственном гербе Индонезии изображена мифическая птица Гаруда. Количество перьев – на каждом из ее крыльев 17, на хвосте 8 и на шее 45 – являются символическими. Что же они означают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 u="sng">
                <a:solidFill>
                  <a:srgbClr val="00c8c3"/>
                </a:solidFill>
                <a:uFillTx/>
                <a:latin typeface="Franklin Gothic Book"/>
                <a:hlinkClick r:id="rId1" action="ppaction://hlinksldjump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105264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Ведущими производителями этой сельскохозяйственной продукции являются Бразилия, Индия, Китай. США, Таиланд, Куба. Определите, что это за продукт. Из каких видов сельскохозяйственного сырья он производится?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 u="sng">
                <a:solidFill>
                  <a:srgbClr val="00c8c3"/>
                </a:solidFill>
                <a:uFillTx/>
                <a:latin typeface="Franklin Gothic Book"/>
                <a:hlinkClick r:id="rId1" action="ppaction://hlinksldjump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7467480" cy="5459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Этот остров неоднократно описанный в художественной и географической литературе, фигурой, по словам одного русского писателя напоминает стерлядь. Протянулся он на 910 км, загораживая собой от океана берег материка и устье одной из крупнейших рек нашей страны. На карте его поверхность пестрит условными знаками горных хребтов, полезных ископаемых, городов и поселков, носящих славные имена русских моряков-исследователей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Назовите его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 u="sng">
                <a:solidFill>
                  <a:srgbClr val="00c8c3"/>
                </a:solidFill>
                <a:uFillTx/>
                <a:latin typeface="Franklin Gothic Book"/>
                <a:hlinkClick r:id="rId1" action="ppaction://hlinksldjump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24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Что связывает столицу Либерии и столицу США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 u="sng">
                <a:solidFill>
                  <a:srgbClr val="00c8c3"/>
                </a:solidFill>
                <a:uFillTx/>
                <a:latin typeface="Franklin Gothic Book"/>
                <a:hlinkClick r:id="rId1" action="ppaction://hlinksldjump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74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 начала 80-х годов одна из стран Старого света противостояла государству Нового света в войне за острова. Один латиноамериканский писатель позже сравнит эту борьбу с «дракой двух лысых за расческу»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беда в войне европейцев стала причиной роста популярности женщины премьер-министра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каких странах и островах идет речь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8" name="Заголовок 1"/>
          <p:cNvSpPr/>
          <p:nvPr/>
        </p:nvSpPr>
        <p:spPr>
          <a:xfrm>
            <a:off x="214200" y="6143760"/>
            <a:ext cx="1571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 u="sng">
                <a:solidFill>
                  <a:srgbClr val="00c8c3"/>
                </a:solidFill>
                <a:uFillTx/>
                <a:latin typeface="Franklin Gothic Book"/>
                <a:hlinkClick r:id="rId1" action="ppaction://hlinksldjump"/>
              </a:rPr>
              <a:t>назад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3:55:17Z</dcterms:created>
  <dc:creator>SergR</dc:creator>
  <dc:description/>
  <dc:language>en-US</dc:language>
  <cp:lastModifiedBy>Admin</cp:lastModifiedBy>
  <dcterms:modified xsi:type="dcterms:W3CDTF">2016-11-30T17:39:50Z</dcterms:modified>
  <cp:revision>12</cp:revision>
  <dc:subject/>
  <dc:title>III тур</dc:title>
</cp:coreProperties>
</file>