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564-202D-4E2B-B360-ACB59AA6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1CB-61F2-476F-A874-7499ACA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D7A-57D8-432B-97D3-33AC7779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5B2-1A97-49D0-9FCE-D124027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A6E-60D2-4A14-9AB7-2DA76C1B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9B6-F174-4782-9AD9-B0064DF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2C8C-EA85-4AC8-888D-799A48A7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5453-E40F-454B-9362-9A957D20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7DD9-30C5-417E-AB8E-57ED94C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29DD-A3AE-4D9E-8508-392FC5C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2921-4A4A-4861-8F7A-8585E8A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525-50A7-46EF-832A-56CB8B4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7E1D-0D84-48D2-81CF-8567DAF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38D-79D7-4B20-A450-237ADCF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7A39-B443-40FA-9FE9-A444E55E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C93A-EAFD-49CC-9C45-9B2DC149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DF7-C923-4F90-A5FF-2038F1BA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517E-0FFC-41F8-BBD7-45715804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21FE-BCE2-431D-8BBA-639673D3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AEC6-8290-455B-B5B1-16CBC2DC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DC4EB-5A6D-43A0-B2BE-D6121B4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FB25-307A-42F5-A2C6-7493F3C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507-9382-4280-9517-E550F4EB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A79B-4E92-4474-83D3-8FAD643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37FC-881A-45D3-855B-48D4689B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5A05-6968-4B61-B437-2B66AF0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3AA4-9F41-4490-BA6E-5213FBE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CD51-21B3-44F2-A398-9EE5412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5D66-00D1-4965-98E5-811F899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B451-8A47-4A28-AD21-49AE23D6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AD13-C787-478E-8A68-D3CAF2ED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F26F-5251-4C24-B47F-B58C2EF6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10B7-FEE4-46B4-9730-9FFA447D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CB3-7418-4C51-ADA7-820C458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6526-8F28-4619-9B49-5B8FE6FB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7214-CA2E-4796-8688-A1B752C2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4601-367D-473F-BFAD-6BD0DB4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8A137-1757-4920-88C7-3E11189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8C45-D413-4449-B0AC-3EE4DE4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8CAC9-31C5-4DA2-BE65-8001FBF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95A0-9DDF-416B-A7FE-539E5AC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ECD7-7926-4894-8A9B-0C41D30B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2E95-E6A9-4BC5-A14C-000D6115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5C52-EC6C-4656-AB75-80A58A49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359-9DB9-40A1-8A75-DFA7BD5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81DA-EC39-4BDB-920B-59BD5E6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66B0-7310-4D0A-A91E-61415DA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769E-5539-404A-BA82-3635C77B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EA19-1396-45F6-A4AB-89643FE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33B2-A6A4-41B2-8CB6-FCAC2B3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4AC1B-E863-48A9-A629-CD6EB6C1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6D09-106F-4BA9-A4ED-82D05A9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916F-ECF7-46B8-9932-ADD21FE7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3E31-1652-4869-B5E3-A913209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5925-231C-4B90-8BD5-EE1B5AB2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E23-4428-4420-8BE9-9CA0802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D5F7-50D3-46BE-AA9F-7D774865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66D95-F957-4CF2-A13A-001AB9EB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8F150-229F-4BFE-8FD7-767F397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80A6-43C7-4E27-AD72-64A3BE5D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2135-1BDF-41AC-8A5D-E796709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4AEF-4BE0-48E5-87F7-FFC6DE1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90F7-2CDE-4846-9C2D-BF51D0C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BC9C-B67E-449E-9331-4680C15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6903-4BBD-42E3-93A1-57470EB0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E148-CCBE-434C-AD92-51AD282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BE3-4C6D-4ED6-9688-74C772E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5590-BB56-485B-BC65-7F47C5E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3620-35C8-4FC4-A03A-149A4441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B98A-27F0-45AA-ABA4-3EDA0F4A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0D9-34D3-47C3-85A2-8B211AC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65A-4037-4DD7-B330-2271B5BC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C22A-24F5-444B-9057-7D05EB4981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6D36-51DD-4059-8E99-FB5E980078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92CA-684F-4C9C-827B-33501A8EAD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783-1D1C-4D14-8452-7D93CDAF9E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934-907B-4BB1-A9E6-BF688058EA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D4B-6AC3-4BFF-9AC1-1743F3D1F4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11336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3329"/>
                </a:solidFill>
                <a:latin typeface="Franklin Gothic Book"/>
              </a:rPr>
              <a:t>Тема: </a:t>
            </a:r>
            <a:r>
              <a:rPr b="1" i="1" lang="ru-RU" sz="3900" spc="-1" strike="noStrike" u="sng">
                <a:solidFill>
                  <a:srgbClr val="443329"/>
                </a:solidFill>
                <a:uFillTx/>
                <a:latin typeface="Franklin Gothic Book"/>
              </a:rPr>
              <a:t>«Наша курская 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443329"/>
                </a:solidFill>
                <a:uFillTx/>
                <a:latin typeface="Franklin Gothic Book"/>
              </a:rPr>
              <a:t>соловушка 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443329"/>
                </a:solidFill>
                <a:uFillTx/>
                <a:latin typeface="Franklin Gothic Book"/>
              </a:rPr>
              <a:t>Надежда Крыгина».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3329"/>
                </a:solidFill>
                <a:latin typeface="Franklin Gothic Book"/>
              </a:rPr>
              <a:t>2015 – 2016 г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2357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был образован в 1981 году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Это был самобытный, многообещающий «девчоночий» ансамбль, где пели Надя Крыгина, Надя Кадышева, Элла Мамонова, Римма Масленникова, студентки музыкального училища имени Ипполитова–Иванова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6" name="Содержимое 4" descr="img076.jpg"/>
          <p:cNvPicPr/>
          <p:nvPr/>
        </p:nvPicPr>
        <p:blipFill>
          <a:blip r:embed="rId1"/>
          <a:stretch/>
        </p:blipFill>
        <p:spPr>
          <a:xfrm>
            <a:off x="2676600" y="928800"/>
            <a:ext cx="6467400" cy="592920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-208080"/>
            <a:ext cx="737100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6076800" y="274680"/>
            <a:ext cx="3122640" cy="386388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4" descr="img093.jpg"/>
          <p:cNvPicPr/>
          <p:nvPr/>
        </p:nvPicPr>
        <p:blipFill>
          <a:blip r:embed="rId2"/>
          <a:stretch/>
        </p:blipFill>
        <p:spPr>
          <a:xfrm>
            <a:off x="0" y="0"/>
            <a:ext cx="597384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5" descr="img094.jpg"/>
          <p:cNvPicPr/>
          <p:nvPr/>
        </p:nvPicPr>
        <p:blipFill>
          <a:blip r:embed="rId3"/>
          <a:stretch/>
        </p:blipFill>
        <p:spPr>
          <a:xfrm>
            <a:off x="6000840" y="4060800"/>
            <a:ext cx="292896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Содержимое 5" descr="img071.jpg"/>
          <p:cNvPicPr/>
          <p:nvPr/>
        </p:nvPicPr>
        <p:blipFill>
          <a:blip r:embed="rId1"/>
          <a:stretch/>
        </p:blipFill>
        <p:spPr>
          <a:xfrm>
            <a:off x="5000760" y="1071720"/>
            <a:ext cx="4143240" cy="5786280"/>
          </a:xfrm>
          <a:prstGeom prst="rect">
            <a:avLst/>
          </a:prstGeom>
          <a:ln w="0">
            <a:noFill/>
          </a:ln>
        </p:spPr>
      </p:pic>
      <p:pic>
        <p:nvPicPr>
          <p:cNvPr id="342" name="Заголовок 1" descr=""/>
          <p:cNvPicPr/>
          <p:nvPr/>
        </p:nvPicPr>
        <p:blipFill>
          <a:blip r:embed="rId2"/>
          <a:stretch/>
        </p:blipFill>
        <p:spPr>
          <a:xfrm>
            <a:off x="298440" y="208080"/>
            <a:ext cx="9491760" cy="115092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4" descr="img077.jpg"/>
          <p:cNvPicPr/>
          <p:nvPr/>
        </p:nvPicPr>
        <p:blipFill>
          <a:blip r:embed="rId3"/>
          <a:stretch/>
        </p:blipFill>
        <p:spPr>
          <a:xfrm>
            <a:off x="0" y="1103400"/>
            <a:ext cx="4143240" cy="57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IMG_9717"/>
          <p:cNvPicPr/>
          <p:nvPr/>
        </p:nvPicPr>
        <p:blipFill>
          <a:blip r:embed="rId1"/>
          <a:stretch/>
        </p:blipFill>
        <p:spPr>
          <a:xfrm>
            <a:off x="1042920" y="1197000"/>
            <a:ext cx="6265800" cy="364788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4" descr=""/>
          <p:cNvPicPr/>
          <p:nvPr/>
        </p:nvPicPr>
        <p:blipFill>
          <a:blip r:embed="rId2"/>
          <a:stretch/>
        </p:blipFill>
        <p:spPr>
          <a:xfrm>
            <a:off x="1316160" y="274680"/>
            <a:ext cx="6018120" cy="10303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42560" y="5105160"/>
            <a:ext cx="64818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e18"/>
                </a:solidFill>
                <a:latin typeface="Times New Roman"/>
              </a:rPr>
              <a:t>Школа – это удивительный мир, в котором каждый человек учится, развивается и воспитывается. Каждая школа имеет свою непохожую на другие школьную жизнь – интересную, захватывающую, полную энергии детских улыбок и радосте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D:\лена мои документы\света николаевна\P2010229.JPG"/>
          <p:cNvPicPr/>
          <p:nvPr/>
        </p:nvPicPr>
        <p:blipFill>
          <a:blip r:embed="rId1"/>
          <a:stretch/>
        </p:blipFill>
        <p:spPr>
          <a:xfrm>
            <a:off x="1643040" y="928800"/>
            <a:ext cx="5500800" cy="3286080"/>
          </a:xfrm>
          <a:prstGeom prst="rect">
            <a:avLst/>
          </a:prstGeom>
          <a:ln w="0">
            <a:noFill/>
          </a:ln>
        </p:spPr>
      </p:pic>
      <p:pic>
        <p:nvPicPr>
          <p:cNvPr id="318" name="Заголовок 2" descr=""/>
          <p:cNvPicPr/>
          <p:nvPr/>
        </p:nvPicPr>
        <p:blipFill>
          <a:blip r:embed="rId2"/>
          <a:stretch/>
        </p:blipFill>
        <p:spPr>
          <a:xfrm>
            <a:off x="1279440" y="176040"/>
            <a:ext cx="6224760" cy="10303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26920" y="4076640"/>
            <a:ext cx="705672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филь музея: историко – краеведческий.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стоит из 5 разделов: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траницы военной истории;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Герои Советского Союза – наши земляки;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- воины – интернационалисты;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знаменитые люди села;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Краеведение; </a:t>
            </a: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ec9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23" name="Содержимое 3" descr="img089.jpg"/>
          <p:cNvPicPr/>
          <p:nvPr/>
        </p:nvPicPr>
        <p:blipFill>
          <a:blip r:embed="rId1"/>
          <a:stretch/>
        </p:blipFill>
        <p:spPr>
          <a:xfrm>
            <a:off x="214200" y="142920"/>
            <a:ext cx="850104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761f"/>
                </a:solidFill>
                <a:latin typeface="Franklin Gothic Medium"/>
              </a:rPr>
              <a:t>НАШИ ЗНАМЕНИТЫЕ ЗЕМЛЯК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761f"/>
                </a:solidFill>
                <a:latin typeface="Franklin Gothic Medium"/>
              </a:rPr>
              <a:t>НАША ГОРД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6" name="Содержимое 6" descr="img091.jpg"/>
          <p:cNvPicPr/>
          <p:nvPr/>
        </p:nvPicPr>
        <p:blipFill>
          <a:blip r:embed="rId1"/>
          <a:stretch/>
        </p:blipFill>
        <p:spPr>
          <a:xfrm>
            <a:off x="142920" y="1316160"/>
            <a:ext cx="2786040" cy="394164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7" descr="img092.jpg"/>
          <p:cNvPicPr/>
          <p:nvPr/>
        </p:nvPicPr>
        <p:blipFill>
          <a:blip r:embed="rId2"/>
          <a:stretch/>
        </p:blipFill>
        <p:spPr>
          <a:xfrm>
            <a:off x="6215040" y="1316160"/>
            <a:ext cx="2643120" cy="389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_\Мои документы\Мои рисунки\img090.jpg"/>
          <p:cNvPicPr/>
          <p:nvPr/>
        </p:nvPicPr>
        <p:blipFill>
          <a:blip r:embed="rId3"/>
          <a:stretch/>
        </p:blipFill>
        <p:spPr>
          <a:xfrm>
            <a:off x="3286080" y="1285920"/>
            <a:ext cx="2643120" cy="39290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4900680"/>
            <a:ext cx="932184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5126040" y="853920"/>
            <a:ext cx="3884760" cy="5083200"/>
          </a:xfrm>
          <a:prstGeom prst="rect">
            <a:avLst/>
          </a:prstGeom>
          <a:ln w="0">
            <a:noFill/>
          </a:ln>
        </p:spPr>
      </p:pic>
      <p:pic>
        <p:nvPicPr>
          <p:cNvPr id="331" name="Содержимое 3" descr="img074.jpg"/>
          <p:cNvPicPr/>
          <p:nvPr/>
        </p:nvPicPr>
        <p:blipFill>
          <a:blip r:embed="rId2"/>
          <a:stretch/>
        </p:blipFill>
        <p:spPr>
          <a:xfrm>
            <a:off x="-142920" y="0"/>
            <a:ext cx="5365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4" descr="img073.jpg"/>
          <p:cNvPicPr/>
          <p:nvPr/>
        </p:nvPicPr>
        <p:blipFill>
          <a:blip r:embed="rId1"/>
          <a:stretch/>
        </p:blipFill>
        <p:spPr>
          <a:xfrm>
            <a:off x="371484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13840" y="609120"/>
            <a:ext cx="325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Franklin Gothic Book"/>
              </a:rPr>
              <a:t>В Михайловской восьмилетней школе Черемисиновского района вовремя заметили талант Надюши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Franklin Gothic Book"/>
              </a:rPr>
              <a:t>   </a:t>
            </a:r>
            <a:r>
              <a:rPr b="1" lang="ru-RU" sz="2200" spc="-1" strike="noStrike">
                <a:solidFill>
                  <a:srgbClr val="002060"/>
                </a:solidFill>
                <a:latin typeface="Franklin Gothic Book"/>
              </a:rPr>
              <a:t>Опыт выступлений на различных школьных фестивалях и врожденный артистизм помогли девочке в дальнейшем поступить в Московское музыкальное училище имени М.М. Ипполитова–Иванов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5303880"/>
            <a:ext cx="884556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6:31Z</dcterms:created>
  <dc:creator>Королькова Л.А.</dc:creator>
  <dc:description/>
  <dc:language>en-US</dc:language>
  <cp:lastModifiedBy>Елена</cp:lastModifiedBy>
  <dcterms:modified xsi:type="dcterms:W3CDTF">2016-11-30T16:21:44Z</dcterms:modified>
  <cp:revision>61</cp:revision>
  <dc:subject/>
  <dc:title>МОУ «Михайловская средняя общеобразовательная школа имени Героя Советского Союза В.Ф. Нестерова» Черемисиновского района Курской области</dc:title>
</cp:coreProperties>
</file>