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13F-4BB8-442F-8A19-9D2D27E0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B2F-534B-47BB-8242-53A57BE3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257-B95E-4D21-AB27-205A54BE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212-1F2F-4576-A42B-F10E8539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C37-2667-43D1-B0B1-C6CC684B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F517-4CE4-4240-9FEE-03C0E07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D6D-91D6-4072-8D22-27453D7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FE20-9C35-4B89-B291-8ADD416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67F0-76BF-405F-834F-B2242B5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B4A-B5E6-4D5B-AF49-70F0EDD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6653-E2B8-4F77-B720-14E8AFE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A74-3A49-44CD-9D9A-23CED17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E59-3F75-4C5C-8B15-1E0BECB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EDD9-4B23-4883-9306-0F09F5C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7DE-B62F-4F82-8226-CCD2270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B3D5-7BC7-404F-AFEB-135B4C4D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613C-584A-45FD-9C49-957C8013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3B41-11B6-4538-BD89-6862ABAF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5FAD-B665-41DF-89EA-9C38C091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A4C4-95A9-4304-A0FB-D4B92841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AFC8-6828-458B-B661-43B39AFE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00C6-DE6C-4F97-8CF3-84BF69DD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646-B366-4F99-BF35-087AED6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3B02-D6B4-48AA-BCE9-607D4BDD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D8D9-E33B-41F0-9ACD-064CADD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78B3-02B6-4DF5-AA1D-567F135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6271-F999-423C-A92E-242E8F7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C789-7EE8-424A-9CF5-2022E2E2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C7A4-A529-4BBD-B724-8C715D2C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4B6D-4E89-4623-88DB-2D4D1C56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5917-5E62-46C5-8F29-ECAFFCA4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B0D2-B324-473F-8D27-CC14F3B6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DF37-8FB5-4FFF-9B2B-1BC38638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683-5045-4516-A567-FD387490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1EA5-4929-4DD0-9347-D3A7C371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5D3B-BA32-4C1E-8638-F265753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A2D4-3301-4A8B-BC45-3E9FA026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924FB-0D92-4D8E-816D-1BD8BAA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5515-044F-483D-975D-B581CE6A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CD75-0920-4B5F-A4DA-2588DAB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FBBD-0B16-49A9-84EC-3826126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FAE8-D6C8-4299-A8D5-2EA58D7F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C964-9B13-4BEC-B1E0-5389368E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B559-96F5-43EC-9EF7-6652B4FC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529-E97D-4875-A740-D4E36C3D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B5B6-2207-4FF6-B07E-F536794D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FC44-763C-4BDB-8750-C47552C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489B-5A49-4730-8162-F3090EA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B043-79CD-44F9-974A-E7EA58C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9B7F-69C2-4F79-A8B5-170949A9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71AD-BA52-4E3C-86F3-E95CCEDE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60F52-5342-49C8-AA20-BC33E62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8B6B-BA6E-4C75-82C9-56F5B2F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9DCC3-8701-41AC-BB75-6CCAFA6A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6EDE-D68B-463C-B9E3-875C323F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DE9-64A6-42DE-B52D-ADDE73EA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304F-B310-455B-9709-9D0B97AE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2E0A3-C138-4DE0-B7E9-94009017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CD1B-424F-49F3-885E-E8E7EF83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5A658-660B-44ED-9325-89DC8EB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5480-45C0-4798-BBDC-6136B95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ACF3-9DFB-4376-B06D-41E39C0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951E-501D-498B-A93E-375F1492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1B42-AA2E-439B-A4F1-9006CBC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748E-4994-4E3B-A7FF-6227B9B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5E9F-1EFB-43C0-92C8-1C19F74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30E-D162-4156-AD4D-72DA30C4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7376-402B-4E43-929A-43AA24D0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97AB3-0AC4-4814-87F2-1559DEF3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EB81-E1AC-479E-B29C-60763B2E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2C9-539C-4926-9A82-B7875DBF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E37-5099-49E7-8C11-9E927AA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4E8A-9907-4D5A-89B3-5AF39EA251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AD1-51C9-479A-A327-1DC72CBC8F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EC5-CAC2-4477-8A17-3F754F142B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22D-D7D2-4489-B09E-16AB9C0847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9C93-4CA3-4731-A879-497ADEAF0D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9DC6-3F3A-46AE-8776-4BF26D5917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Содержимое 5" descr="img071.jpg"/>
          <p:cNvPicPr/>
          <p:nvPr/>
        </p:nvPicPr>
        <p:blipFill>
          <a:blip r:embed="rId1"/>
          <a:stretch/>
        </p:blipFill>
        <p:spPr>
          <a:xfrm>
            <a:off x="5000760" y="1071720"/>
            <a:ext cx="4143240" cy="5786280"/>
          </a:xfrm>
          <a:prstGeom prst="rect">
            <a:avLst/>
          </a:prstGeom>
          <a:ln w="0">
            <a:noFill/>
          </a:ln>
        </p:spPr>
      </p:pic>
      <p:pic>
        <p:nvPicPr>
          <p:cNvPr id="313" name="Заголовок 1" descr=""/>
          <p:cNvPicPr/>
          <p:nvPr/>
        </p:nvPicPr>
        <p:blipFill>
          <a:blip r:embed="rId2"/>
          <a:stretch/>
        </p:blipFill>
        <p:spPr>
          <a:xfrm>
            <a:off x="298440" y="208080"/>
            <a:ext cx="9491760" cy="115092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4" descr="img077.jpg"/>
          <p:cNvPicPr/>
          <p:nvPr/>
        </p:nvPicPr>
        <p:blipFill>
          <a:blip r:embed="rId3"/>
          <a:stretch/>
        </p:blipFill>
        <p:spPr>
          <a:xfrm>
            <a:off x="0" y="1103400"/>
            <a:ext cx="4143240" cy="57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Содержимое 3" descr="img085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Заголовок 1" descr=""/>
          <p:cNvPicPr/>
          <p:nvPr/>
        </p:nvPicPr>
        <p:blipFill>
          <a:blip r:embed="rId2"/>
          <a:stretch/>
        </p:blipFill>
        <p:spPr>
          <a:xfrm>
            <a:off x="5400720" y="506520"/>
            <a:ext cx="3925800" cy="42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Надежда часто бывает в своем родном доме, который находится селе Петрищево Михайловского сельсовет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«Уже само ощущение того, что ты дома, придает силы. Я всегда была вместе со своим народом – как живет он, так и я. Земля дает мне силы, надежду и уверенность в себе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Единственное, о чем я переживаю после визита в свое родное село, это о том, что мои родители уже старенькие»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8" name="Содержимое 4" descr="img078.jpg"/>
          <p:cNvPicPr/>
          <p:nvPr/>
        </p:nvPicPr>
        <p:blipFill>
          <a:blip r:embed="rId1"/>
          <a:stretch/>
        </p:blipFill>
        <p:spPr>
          <a:xfrm>
            <a:off x="2928960" y="428760"/>
            <a:ext cx="6215040" cy="64292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-182520"/>
            <a:ext cx="848052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5913360" y="457200"/>
            <a:ext cx="3479760" cy="4906800"/>
          </a:xfrm>
          <a:prstGeom prst="rect">
            <a:avLst/>
          </a:prstGeom>
          <a:ln w="0">
            <a:noFill/>
          </a:ln>
        </p:spPr>
      </p:pic>
      <p:pic>
        <p:nvPicPr>
          <p:cNvPr id="341" name="Содержимое 3" descr="img088.jpg"/>
          <p:cNvPicPr/>
          <p:nvPr/>
        </p:nvPicPr>
        <p:blipFill>
          <a:blip r:embed="rId2"/>
          <a:stretch/>
        </p:blipFill>
        <p:spPr>
          <a:xfrm>
            <a:off x="0" y="0"/>
            <a:ext cx="60008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13840" y="428400"/>
            <a:ext cx="300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рогая Наденька,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ся ты на виду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ть на речке кладинка,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 по ней иду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ы такая русская,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учше не найти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ы такая курская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а мы в пути!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 нам летит соловушк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 густых ветвей,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моя головушк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онится к твоей!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Бок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 июня 2005 года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Содержимое 4" descr="img087.jpg"/>
          <p:cNvPicPr/>
          <p:nvPr/>
        </p:nvPicPr>
        <p:blipFill>
          <a:blip r:embed="rId1"/>
          <a:stretch/>
        </p:blipFill>
        <p:spPr>
          <a:xfrm>
            <a:off x="3165480" y="0"/>
            <a:ext cx="59785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4" descr=""/>
          <p:cNvPicPr/>
          <p:nvPr/>
        </p:nvPicPr>
        <p:blipFill>
          <a:blip r:embed="rId2"/>
          <a:stretch/>
        </p:blipFill>
        <p:spPr>
          <a:xfrm>
            <a:off x="1042920" y="5541840"/>
            <a:ext cx="607716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3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3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3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3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Содержимое 4" descr="img081.jpg"/>
          <p:cNvPicPr/>
          <p:nvPr/>
        </p:nvPicPr>
        <p:blipFill>
          <a:blip r:embed="rId1"/>
          <a:stretch/>
        </p:blipFill>
        <p:spPr>
          <a:xfrm>
            <a:off x="0" y="214200"/>
            <a:ext cx="3397320" cy="42148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6" descr="img075.jpg"/>
          <p:cNvPicPr/>
          <p:nvPr/>
        </p:nvPicPr>
        <p:blipFill>
          <a:blip r:embed="rId2"/>
          <a:stretch/>
        </p:blipFill>
        <p:spPr>
          <a:xfrm>
            <a:off x="3835440" y="0"/>
            <a:ext cx="530856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Заголовок 1" descr=""/>
          <p:cNvPicPr/>
          <p:nvPr/>
        </p:nvPicPr>
        <p:blipFill>
          <a:blip r:embed="rId3"/>
          <a:stretch/>
        </p:blipFill>
        <p:spPr>
          <a:xfrm>
            <a:off x="353880" y="5095800"/>
            <a:ext cx="8296560" cy="18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645080" y="396720"/>
            <a:ext cx="4548240" cy="5139000"/>
          </a:xfrm>
          <a:prstGeom prst="rect">
            <a:avLst/>
          </a:prstGeom>
          <a:ln w="0">
            <a:noFill/>
          </a:ln>
        </p:spPr>
      </p:pic>
      <p:pic>
        <p:nvPicPr>
          <p:cNvPr id="319" name="Содержимое 4" descr="img080.jpg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4" descr="img083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754680"/>
          </a:xfrm>
          <a:prstGeom prst="rect">
            <a:avLst/>
          </a:prstGeom>
          <a:ln w="0">
            <a:noFill/>
          </a:ln>
        </p:spPr>
      </p:pic>
      <p:pic>
        <p:nvPicPr>
          <p:cNvPr id="321" name="Заголовок 1" descr=""/>
          <p:cNvPicPr/>
          <p:nvPr/>
        </p:nvPicPr>
        <p:blipFill>
          <a:blip r:embed="rId2"/>
          <a:stretch/>
        </p:blipFill>
        <p:spPr>
          <a:xfrm>
            <a:off x="-6480" y="3833640"/>
            <a:ext cx="4791240" cy="215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Documents and Settings\_\Мои документы\Мои рисунки\img095.jpg"/>
          <p:cNvPicPr/>
          <p:nvPr/>
        </p:nvPicPr>
        <p:blipFill>
          <a:blip r:embed="rId3"/>
          <a:stretch/>
        </p:blipFill>
        <p:spPr>
          <a:xfrm>
            <a:off x="500040" y="0"/>
            <a:ext cx="3286080" cy="37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Содержимое 4" descr="img084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3786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В 2002 году перед поездкой в Болгарию на Фестиваль русской народной песни был создан коллектив «Русский берег», художественным руководителем которого в настоящее время является Надежда Евгеньевна Крыгин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5" name="Прямоугольник 4" descr=""/>
          <p:cNvPicPr/>
          <p:nvPr/>
        </p:nvPicPr>
        <p:blipFill>
          <a:blip r:embed="rId2"/>
          <a:stretch/>
        </p:blipFill>
        <p:spPr>
          <a:xfrm>
            <a:off x="1066680" y="4900680"/>
            <a:ext cx="763272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30085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Franklin Gothic Book"/>
              </a:rPr>
              <a:t>«С обликом курской соловушки Надежды Крыгиной ассоциируются мои представления о славянском характере и душе, образе славян. Талант и очарование, пленительный артистизм, редкое обаяние, широта ума и сила духа, приветливость и добросердечие. Эти ее черты давно уже покорили зрителей и слушателей. Покорили они и меня»</a:t>
            </a:r>
            <a:r>
              <a:rPr b="0" lang="ru-RU" sz="1400" spc="-1" strike="noStrike">
                <a:solidFill>
                  <a:srgbClr val="c00000"/>
                </a:solidFill>
                <a:latin typeface="Franklin Gothic Book"/>
              </a:rPr>
              <a:t>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                           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7" name="Содержимое 4" descr="img086.jpg"/>
          <p:cNvPicPr/>
          <p:nvPr/>
        </p:nvPicPr>
        <p:blipFill>
          <a:blip r:embed="rId1"/>
          <a:stretch/>
        </p:blipFill>
        <p:spPr>
          <a:xfrm>
            <a:off x="3357720" y="0"/>
            <a:ext cx="5786280" cy="50720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>
            <a:off x="0" y="3071880"/>
            <a:ext cx="292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Вячеслав Клыков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Президент Международного Фонда            славянской письменности                и культуры, академик,             Заслуженный деятель            искусств РФ,                         Народный художник России,   лауреат Государственной преми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9" name="Прямоугольник 5" descr=""/>
          <p:cNvPicPr/>
          <p:nvPr/>
        </p:nvPicPr>
        <p:blipFill>
          <a:blip r:embed="rId2"/>
          <a:stretch/>
        </p:blipFill>
        <p:spPr>
          <a:xfrm>
            <a:off x="3352680" y="4900680"/>
            <a:ext cx="522468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4" descr="IMG_2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IMG_2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4" descr="img079.jpg"/>
          <p:cNvPicPr/>
          <p:nvPr/>
        </p:nvPicPr>
        <p:blipFill>
          <a:blip r:embed="rId1"/>
          <a:stretch/>
        </p:blipFill>
        <p:spPr>
          <a:xfrm>
            <a:off x="0" y="0"/>
            <a:ext cx="4357800" cy="586260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5" descr="img072.jpg"/>
          <p:cNvPicPr/>
          <p:nvPr/>
        </p:nvPicPr>
        <p:blipFill>
          <a:blip r:embed="rId2"/>
          <a:stretch/>
        </p:blipFill>
        <p:spPr>
          <a:xfrm>
            <a:off x="4643280" y="-41400"/>
            <a:ext cx="4500720" cy="6899400"/>
          </a:xfrm>
          <a:prstGeom prst="rect">
            <a:avLst/>
          </a:prstGeom>
          <a:ln w="0">
            <a:noFill/>
          </a:ln>
        </p:spPr>
      </p:pic>
      <p:pic>
        <p:nvPicPr>
          <p:cNvPr id="334" name="Заголовок 1" descr=""/>
          <p:cNvPicPr/>
          <p:nvPr/>
        </p:nvPicPr>
        <p:blipFill>
          <a:blip r:embed="rId3"/>
          <a:stretch/>
        </p:blipFill>
        <p:spPr>
          <a:xfrm>
            <a:off x="-6480" y="5748480"/>
            <a:ext cx="9491760" cy="112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6:31Z</dcterms:created>
  <dc:creator>Королькова Л.А.</dc:creator>
  <dc:description/>
  <dc:language>en-US</dc:language>
  <cp:lastModifiedBy>Елена</cp:lastModifiedBy>
  <dcterms:modified xsi:type="dcterms:W3CDTF">2016-11-30T16:22:33Z</dcterms:modified>
  <cp:revision>60</cp:revision>
  <dc:subject/>
  <dc:title>МОУ «Михайловская средняя общеобразовательная школа имени Героя Советского Союза В.Ф. Нестерова» Черемисиновского района Курской области</dc:title>
</cp:coreProperties>
</file>