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06EE-9ED8-4410-BBAF-D9F00EF22C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еречислите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живые существа и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7518-9418-4A50-8EFD-8CD14567A0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8FE-346E-4B78-A4D9-BC590EC4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7B0-B02A-4F4F-8AA0-1CB2A16E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C99-81D6-4C47-B39C-FE8A8D92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DC7-9AA0-47E0-934C-01A046DE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88CC-C86F-4791-8EF6-DE302908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EAE-894A-41A1-AD3B-C8BE1EAC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01FE-0640-4FB6-A2C0-70CDA6F1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968D-419C-4CE0-92DC-8D0CE16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07A5-C3C0-41AF-BDC0-F299855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5104-C9BF-4722-B6D8-2BA1E1B2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8A1D-30C0-4511-9B5A-69C8D9D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AB7-F866-4383-A386-60275D6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CC12-08BE-4666-A115-511623E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1EBD-F299-4D15-94DC-4B497396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A849-6B7B-4469-8832-F41769CA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541E-0008-4B81-9939-2D47A17C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4EFF-9A18-496B-BDFA-89C459FC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7BB3-F792-4AF6-8C14-A43BDFD7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3F26-DF3B-4747-8F51-CEFB24F7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11DD-42EC-4170-81B8-5706C27B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9033-4743-4947-8C1F-AE0FB34C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A3F4-7D58-4145-9F53-558701C5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512-8A21-4564-BDE6-9EDC3F1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2B24-011C-447D-B225-307E2379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DBED-AC6A-46E1-9F88-79ABCB7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50E5-28B6-4007-B673-80AC138B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A7D71-384F-4F1F-887A-7A197315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E52A-AC32-4BBC-88F8-019412F0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046A-1351-4FD2-9140-8DD1D106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D7822-EDE6-48EE-8C09-2A8BBFD2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CB6-08AB-4BB3-9774-CBA89164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4AF-E6CF-4F83-AFFC-D211A535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C2B-A9BC-4DA4-B57D-3618404E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479-F0AC-40A1-9B96-526C5371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A20-2A17-43A8-B927-D663DABD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A8B-6409-457A-93D9-AD1DE94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39A1-845C-41EC-8173-CDD7DFCC3C2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0B90-4B8E-453B-A696-FA3583F36B30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62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6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6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5F46-B89A-44BE-A2B2-8D73A828D2C3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1322280" y="1590840"/>
            <a:ext cx="7425000" cy="3981240"/>
          </a:xfrm>
          <a:prstGeom prst="rect">
            <a:avLst/>
          </a:prstGeom>
          <a:ln w="0">
            <a:noFill/>
          </a:ln>
        </p:spPr>
      </p:pic>
      <p:pic>
        <p:nvPicPr>
          <p:cNvPr id="246" name="Подзаголовок 4" descr=""/>
          <p:cNvPicPr/>
          <p:nvPr/>
        </p:nvPicPr>
        <p:blipFill>
          <a:blip r:embed="rId2"/>
          <a:stretch/>
        </p:blipFill>
        <p:spPr>
          <a:xfrm>
            <a:off x="4170240" y="92160"/>
            <a:ext cx="3797280" cy="2127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3714840" y="5715000"/>
            <a:ext cx="2071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0" y="60008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428760" y="152280"/>
            <a:ext cx="8358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Тринадцатое марта.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Одушевленные и неодушевленные имена существитель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5726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Формула определения одушевленности/неодушевленнос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1571760"/>
          <a:ext cx="9144000" cy="4000320"/>
        </p:xfrm>
        <a:graphic>
          <a:graphicData uri="http://schemas.openxmlformats.org/drawingml/2006/table">
            <a:tbl>
              <a:tblPr/>
              <a:tblGrid>
                <a:gridCol w="2500200"/>
                <a:gridCol w="3214800"/>
                <a:gridCol w="3429000"/>
              </a:tblGrid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душевл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ef66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одушевл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44600">
                <a:tc>
                  <a:txBody>
                    <a:bodyPr lIns="0" rIns="0" tIns="0" bIns="0" anchor="ctr">
                      <a:noAutofit/>
                    </a:bodyPr>
                    <a:p>
                      <a:pPr marL="457200" indent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В.п. = Р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(во МН.ЧИСЛ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ef66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В.п. =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(во МН.ЧИСЛ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25600">
                <a:tc>
                  <a:txBody>
                    <a:bodyPr lIns="0" rIns="0" tIns="0" bIns="0" anchor="ctr">
                      <a:noAutofit/>
                    </a:bodyPr>
                    <a:p>
                      <a:pPr marL="457200" indent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.п. уче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Р.п. уче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В.п. уче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ef66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И.п. сто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Р.п. сто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В.п. сто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6870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f66"/>
                </a:solidFill>
                <a:latin typeface="Constantia"/>
              </a:rPr>
              <a:t>Заполняем таблицу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7120" y="1214280"/>
          <a:ext cx="8358120" cy="4714920"/>
        </p:xfrm>
        <a:graphic>
          <a:graphicData uri="http://schemas.openxmlformats.org/drawingml/2006/table">
            <a:tbl>
              <a:tblPr/>
              <a:tblGrid>
                <a:gridCol w="1671840"/>
                <a:gridCol w="1671480"/>
                <a:gridCol w="1671840"/>
                <a:gridCol w="1671480"/>
                <a:gridCol w="1671480"/>
              </a:tblGrid>
              <a:tr h="1800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И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Р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В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Одуш. или неодуш. сущ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6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07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2" descr="C:\Documents and Settings\Admin\Рабочий стол\26.jpg"/>
          <p:cNvPicPr/>
          <p:nvPr/>
        </p:nvPicPr>
        <p:blipFill>
          <a:blip r:embed="rId1"/>
          <a:stretch/>
        </p:blipFill>
        <p:spPr>
          <a:xfrm>
            <a:off x="0" y="0"/>
            <a:ext cx="461484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" descr="C:\Documents and Settings\Admin\Рабочий стол\25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0" y="1214280"/>
          <a:ext cx="9144000" cy="4714920"/>
        </p:xfrm>
        <a:graphic>
          <a:graphicData uri="http://schemas.openxmlformats.org/drawingml/2006/table">
            <a:tbl>
              <a:tblPr/>
              <a:tblGrid>
                <a:gridCol w="1643040"/>
                <a:gridCol w="1857240"/>
                <a:gridCol w="2000520"/>
                <a:gridCol w="1928880"/>
                <a:gridCol w="1714320"/>
              </a:tblGrid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И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Р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В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Одуш. или неодуш. сущ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69" name="Заголовок 1"/>
          <p:cNvSpPr/>
          <p:nvPr/>
        </p:nvSpPr>
        <p:spPr>
          <a:xfrm>
            <a:off x="928800" y="214200"/>
            <a:ext cx="6870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f66"/>
                </a:solidFill>
                <a:latin typeface="Constantia"/>
              </a:rPr>
              <a:t>Заполняем таблиц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42920" y="3143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у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42920" y="38577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142920" y="45720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0" y="53578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рт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1857240" y="3143160"/>
            <a:ext cx="13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ук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3857760" y="3143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у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5786280" y="314316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у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7786800" y="3143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ду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>
            <a:off x="1785960" y="3857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3714840" y="385776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5643720" y="3857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1928880" y="4572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7500960" y="385776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оду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6"/>
          <p:cNvSpPr/>
          <p:nvPr/>
        </p:nvSpPr>
        <p:spPr>
          <a:xfrm>
            <a:off x="3786120" y="45720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5715000" y="4572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8"/>
          <p:cNvSpPr/>
          <p:nvPr/>
        </p:nvSpPr>
        <p:spPr>
          <a:xfrm>
            <a:off x="7500960" y="457200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оду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1571760" y="535788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ртве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3500280" y="5357880"/>
            <a:ext cx="21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ртве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1"/>
          <p:cNvSpPr/>
          <p:nvPr/>
        </p:nvSpPr>
        <p:spPr>
          <a:xfrm>
            <a:off x="5500800" y="535788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ртве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2"/>
          <p:cNvSpPr/>
          <p:nvPr/>
        </p:nvSpPr>
        <p:spPr>
          <a:xfrm>
            <a:off x="7786800" y="53578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ду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57280" y="714240"/>
            <a:ext cx="6400800" cy="703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Constantia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999720" y="1856880"/>
            <a:ext cx="7572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Есть слова в русском языке, которые не относятся к «живой» природе, но обладают одушевленностью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r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68709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Работаем с тексто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214200" y="877320"/>
            <a:ext cx="814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светлые, особенные ночи в феврале! В лесу легко замечаешь след санной дороги. Далеко уходит узкая тропинка. С неба струится белесоватый свет луны. Искрится белая пороша, и на ее синеющей снежной белизне отражается мерцание звезд. В такие ночи обычно охотники устраивают засады на волков, лисиц и за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я снежная равнина и лесные поляны светятся, как один огромный, беззвучный зеркальный зал. Очаровательны эти ноч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1357200" y="53622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ыписать существительные, определить одушевленность / неодушевленность, род, число, падеж.    Например,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чи – неодуш., ж.р., мн.ч.,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8840" y="1928520"/>
            <a:ext cx="6400800" cy="1284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642680" y="3428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r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066680" y="225360"/>
            <a:ext cx="6881760" cy="890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928800" y="1356840"/>
            <a:ext cx="7696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1. Выберите приставку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nstantia"/>
              </a:rPr>
              <a:t>Несколько дней стреляли бе..прерывн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Бес-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Без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2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Выберите приставку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nstantia"/>
              </a:rPr>
              <a:t>Наутро решили ра..бить крепо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Рас-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Раз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28760" y="775800"/>
            <a:ext cx="778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84a"/>
                </a:solidFill>
                <a:latin typeface="Constantia"/>
                <a:ea typeface="Calibri"/>
              </a:rPr>
              <a:t>3. </a:t>
            </a:r>
            <a:r>
              <a:rPr b="1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Если за приставками без-, воз-, раз-, низ-, через-, из- следуют буквы р, н, м, л, то в приставк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А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 Пишется буква з   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Б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 Пишется буква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4.</a:t>
            </a:r>
            <a:r>
              <a:rPr b="0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 </a:t>
            </a:r>
            <a:r>
              <a:rPr b="1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Выберите пропущенную бук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Капюш..н, ш..мпол, ш..в, ш..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А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 О     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 Б. 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одержимое 2"/>
          <p:cNvSpPr/>
          <p:nvPr/>
        </p:nvSpPr>
        <p:spPr>
          <a:xfrm>
            <a:off x="428760" y="428760"/>
            <a:ext cx="81961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Определите последовательность пропущенных глас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nstantia"/>
              </a:rPr>
              <a:t>Возр..ст, пор..сль, отр..сль, р…с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 А – а – о – о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 А – о – а –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6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Определите последовательность пропущенных глас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nstantia"/>
              </a:rPr>
              <a:t>Изл..гать, сл..гаемое, изл..жение, пол..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 А – а – о – о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Б. 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А – о – о –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28760" y="999720"/>
            <a:ext cx="79531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7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Какая буква пишется в окончаниях существительных после Ц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И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8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Какая буква пишется в словах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nstantia"/>
              </a:rPr>
              <a:t>Позиц..я, акац..я, ситуац..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И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-12600" y="73080"/>
            <a:ext cx="501804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Содержимое 4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Содержимое 3" descr="C:\Documents and Settings\Admin\Рабочий стол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0" cy="6762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47132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душевлённые имена существительны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одушевлённые имена существ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предметов живой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Названия предметов неживой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1872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Названия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1872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бог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1872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Названия планет по имени бог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мифических су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фигур в игр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067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игрушек, механизмов, изображений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мертвец, покой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тру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2:01:06Z</dcterms:created>
  <dc:creator>Admin</dc:creator>
  <dc:description/>
  <dc:language>en-US</dc:language>
  <cp:lastModifiedBy>Регина</cp:lastModifiedBy>
  <dcterms:modified xsi:type="dcterms:W3CDTF">2016-11-30T18:00:40Z</dcterms:modified>
  <cp:revision>32</cp:revision>
  <dc:subject/>
  <dc:title>Одушевленные и неодушевленные имена существительные</dc:title>
</cp:coreProperties>
</file>