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68546-3CEE-49A7-95DC-A857BF5868D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Перечислите</a:t>
            </a:r>
            <a:br>
              <a:rPr sz="1200"/>
            </a:b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живые существа и ве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8ED62-39F5-451B-A001-01A24940839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DF39-0523-4E1D-AF41-913414529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2205-146C-413C-9DC0-A942FF754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8492-BE44-461A-85B3-D2C3DAAD8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8C13-E383-4C61-8AFF-906576392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F7E24-365E-45AB-B956-5683A403A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9EE54-A6E6-45D7-A260-862A2C727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BDB0B-7EC4-4FDB-93E1-B29A0B14F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73456-6B4A-4C19-AF78-2D163CE9F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0E956-3CB6-4FD8-9A2F-73FCE9508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13E55-B3DA-4CB8-A8F8-C9BAD8DCC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FB8FD-B70A-4375-AEFE-6E22B9E5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7C39-E3ED-470B-AFE9-F43066D3D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E9645-B2FF-4D05-AF17-93925DE6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41838-1C51-4729-848A-330F6CE6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B3221-371D-4AFF-AAC6-9E794C857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B18EF-FAA5-4E91-87EB-3562533C9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D56D9-AE34-4ACE-BF6B-5B037EA01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BC917-3B5F-43C9-8C31-3E10853C6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29E4D-EA39-450A-A94B-C2A13B515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B1915-4A3A-464C-8AB1-E0D52E83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E3B62-FD43-460B-A69B-15FDAA2D0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856B3-344A-4626-972B-CC5871352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F243-8C17-45BE-A078-337A26AED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089DF-5136-4BF3-B451-5C7AEFC94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E0687-9CFC-489F-B487-89CDF1AD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37D90-6141-4A81-BCC4-5734D9BE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51B7A-6827-4F73-BD4C-47863EEA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E49F7-1C6E-495A-8352-B961A40D5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5726A-05DB-423D-A7B5-1064524DD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06607-C14F-4D8B-B1E6-7E8B346D7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B840-A206-43E0-B882-DAC5BDC32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B7B0-D4DE-45AA-A73F-17BC8B37B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FE52-7E89-4E2F-8FB2-47F3E8DF8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6625-961E-4B42-A740-49EA7E2A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CCF6-6B7C-45B0-A4C9-14DF1F65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A203-E086-4447-B98A-15150527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84541-069D-49AF-A408-8DF8ABBFD848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8251B-CC9B-423F-8D4B-12F3150FA94E}" type="slidenum">
              <a:rPr b="0" lang="ru-RU" sz="14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>
                    <a:gd name="textAreaLeft" fmla="*/ 0 w 428040"/>
                    <a:gd name="textAreaRight" fmla="*/ 428400 w 42804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>
                    <a:gd name="textAreaLeft" fmla="*/ 0 w 803880"/>
                    <a:gd name="textAreaRight" fmla="*/ 804240 w 80388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>
                    <a:gd name="textAreaLeft" fmla="*/ 0 w 1207080"/>
                    <a:gd name="textAreaRight" fmla="*/ 1207440 w 12070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>
                    <a:gd name="textAreaLeft" fmla="*/ 0 w 288000"/>
                    <a:gd name="textAreaRight" fmla="*/ 288360 w 28800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>
                    <a:gd name="textAreaLeft" fmla="*/ 0 w 288000"/>
                    <a:gd name="textAreaRight" fmla="*/ 288360 w 28800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3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4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4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5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5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162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16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4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165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>
                    <a:gd name="textAreaLeft" fmla="*/ 0 w 428040"/>
                    <a:gd name="textAreaRight" fmla="*/ 428400 w 42804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>
                    <a:gd name="textAreaLeft" fmla="*/ 0 w 803880"/>
                    <a:gd name="textAreaRight" fmla="*/ 804240 w 80388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>
                    <a:gd name="textAreaLeft" fmla="*/ 0 w 1207080"/>
                    <a:gd name="textAreaRight" fmla="*/ 1207440 w 12070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>
                    <a:gd name="textAreaLeft" fmla="*/ 0 w 288000"/>
                    <a:gd name="textAreaRight" fmla="*/ 288360 w 28800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>
                    <a:gd name="textAreaLeft" fmla="*/ 0 w 288000"/>
                    <a:gd name="textAreaRight" fmla="*/ 288360 w 28800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5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86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90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99A25-6BEC-40EB-9CD9-22B741739078}" type="slidenum">
              <a:rPr b="0" lang="ru-RU" sz="14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3" descr=""/>
          <p:cNvPicPr/>
          <p:nvPr/>
        </p:nvPicPr>
        <p:blipFill>
          <a:blip r:embed="rId1"/>
          <a:stretch/>
        </p:blipFill>
        <p:spPr>
          <a:xfrm>
            <a:off x="1322280" y="1590840"/>
            <a:ext cx="7425000" cy="3981240"/>
          </a:xfrm>
          <a:prstGeom prst="rect">
            <a:avLst/>
          </a:prstGeom>
          <a:ln w="0">
            <a:noFill/>
          </a:ln>
        </p:spPr>
      </p:pic>
      <p:pic>
        <p:nvPicPr>
          <p:cNvPr id="246" name="Подзаголовок 4" descr=""/>
          <p:cNvPicPr/>
          <p:nvPr/>
        </p:nvPicPr>
        <p:blipFill>
          <a:blip r:embed="rId2"/>
          <a:stretch/>
        </p:blipFill>
        <p:spPr>
          <a:xfrm>
            <a:off x="4170240" y="92160"/>
            <a:ext cx="3797280" cy="2127240"/>
          </a:xfrm>
          <a:prstGeom prst="rect">
            <a:avLst/>
          </a:prstGeom>
          <a:ln w="0">
            <a:noFill/>
          </a:ln>
        </p:spPr>
      </p:pic>
      <p:sp>
        <p:nvSpPr>
          <p:cNvPr id="247" name="TextBox 5"/>
          <p:cNvSpPr/>
          <p:nvPr/>
        </p:nvSpPr>
        <p:spPr>
          <a:xfrm>
            <a:off x="3714840" y="5715000"/>
            <a:ext cx="2071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"/>
          <p:cNvSpPr/>
          <p:nvPr/>
        </p:nvSpPr>
        <p:spPr>
          <a:xfrm>
            <a:off x="0" y="600084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030a0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428760" y="152280"/>
            <a:ext cx="83581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imes New Roman"/>
              </a:rPr>
              <a:t>Тринадцатое марта.</a:t>
            </a:r>
            <a:br>
              <a:rPr sz="4400"/>
            </a:br>
            <a:r>
              <a:rPr b="0" i="1" lang="ru-RU" sz="4400" spc="-1" strike="noStrike">
                <a:solidFill>
                  <a:srgbClr val="ffffff"/>
                </a:solidFill>
                <a:latin typeface="Times New Roman"/>
              </a:rPr>
              <a:t>Классная рабо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imes New Roman"/>
              </a:rPr>
              <a:t>Одушевленные и неодушевленные имена существительны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13840" y="285840"/>
            <a:ext cx="8572680" cy="107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nstantia"/>
              </a:rPr>
              <a:t>Формула определения одушевленности/неодушевленности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0" y="1571760"/>
          <a:ext cx="9144000" cy="4000320"/>
        </p:xfrm>
        <a:graphic>
          <a:graphicData uri="http://schemas.openxmlformats.org/drawingml/2006/table">
            <a:tbl>
              <a:tblPr/>
              <a:tblGrid>
                <a:gridCol w="2500200"/>
                <a:gridCol w="3214800"/>
                <a:gridCol w="3429000"/>
              </a:tblGrid>
              <a:tr h="1230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ef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ef66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душевленны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ffef66"/>
                      </a:solidFill>
                    </a:lnL>
                    <a:lnR w="28080">
                      <a:solidFill>
                        <a:srgbClr val="ffef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ef66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Неодушевленны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ffef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ef66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44600">
                <a:tc>
                  <a:txBody>
                    <a:bodyPr lIns="0" rIns="0" tIns="0" bIns="0" anchor="ctr">
                      <a:noAutofit/>
                    </a:bodyPr>
                    <a:p>
                      <a:pPr marL="457200" indent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Форму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ef66"/>
                      </a:solidFill>
                    </a:lnR>
                    <a:lnT w="28080">
                      <a:solidFill>
                        <a:srgbClr val="ffef66"/>
                      </a:solidFill>
                    </a:lnT>
                    <a:lnB w="28080">
                      <a:solidFill>
                        <a:srgbClr val="ffef66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b050"/>
                          </a:solidFill>
                          <a:latin typeface="Constantia"/>
                        </a:rPr>
                        <a:t>В.п. = Р.п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b050"/>
                          </a:solidFill>
                          <a:latin typeface="Constantia"/>
                        </a:rPr>
                        <a:t>(во МН.ЧИСЛЕ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080">
                      <a:solidFill>
                        <a:srgbClr val="ffef66"/>
                      </a:solidFill>
                    </a:lnL>
                    <a:lnR w="28080">
                      <a:solidFill>
                        <a:srgbClr val="ffef66"/>
                      </a:solidFill>
                    </a:lnR>
                    <a:lnT w="28080">
                      <a:solidFill>
                        <a:srgbClr val="ffef66"/>
                      </a:solidFill>
                    </a:lnT>
                    <a:lnB w="28080">
                      <a:solidFill>
                        <a:srgbClr val="ffef66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В.п. = И.п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(во МН.ЧИСЛЕ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080">
                      <a:solidFill>
                        <a:srgbClr val="ffef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ef66"/>
                      </a:solidFill>
                    </a:lnT>
                    <a:lnB w="28080">
                      <a:solidFill>
                        <a:srgbClr val="ffef66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1425600">
                <a:tc>
                  <a:txBody>
                    <a:bodyPr lIns="0" rIns="0" tIns="0" bIns="0" anchor="ctr">
                      <a:noAutofit/>
                    </a:bodyPr>
                    <a:p>
                      <a:pPr marL="457200" indent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риме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ef66"/>
                      </a:solidFill>
                    </a:lnR>
                    <a:lnT w="28080">
                      <a:solidFill>
                        <a:srgbClr val="ffef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b050"/>
                          </a:solidFill>
                          <a:latin typeface="Constantia"/>
                        </a:rPr>
                        <a:t>И.п. учени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b050"/>
                          </a:solidFill>
                          <a:latin typeface="Constantia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b050"/>
                          </a:solidFill>
                          <a:latin typeface="Constantia"/>
                        </a:rPr>
                        <a:t>Р.п. ученик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b050"/>
                          </a:solidFill>
                          <a:latin typeface="Constantia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b050"/>
                          </a:solidFill>
                          <a:latin typeface="Constantia"/>
                        </a:rPr>
                        <a:t>В.п. ученик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080">
                      <a:solidFill>
                        <a:srgbClr val="ffef66"/>
                      </a:solidFill>
                    </a:lnL>
                    <a:lnR w="28080">
                      <a:solidFill>
                        <a:srgbClr val="ffef66"/>
                      </a:solidFill>
                    </a:lnR>
                    <a:lnT w="28080">
                      <a:solidFill>
                        <a:srgbClr val="ffef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И.п. стол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Р.п. стол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В.п. стол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080">
                      <a:solidFill>
                        <a:srgbClr val="ffef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ef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p:transition spd="med">
    <p:strips dir="rd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99720" y="285840"/>
            <a:ext cx="6870600" cy="70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ef66"/>
                </a:solidFill>
                <a:latin typeface="Constantia"/>
              </a:rPr>
              <a:t>Заполняем таблицу: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357120" y="1214280"/>
          <a:ext cx="8358120" cy="4714920"/>
        </p:xfrm>
        <a:graphic>
          <a:graphicData uri="http://schemas.openxmlformats.org/drawingml/2006/table">
            <a:tbl>
              <a:tblPr/>
              <a:tblGrid>
                <a:gridCol w="1671840"/>
                <a:gridCol w="1671480"/>
                <a:gridCol w="1671840"/>
                <a:gridCol w="1671480"/>
                <a:gridCol w="1671480"/>
              </a:tblGrid>
              <a:tr h="180036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Constantia"/>
                        </a:rPr>
                        <a:t>Сло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Constantia"/>
                        </a:rPr>
                        <a:t>И.п., мн.ч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Constantia"/>
                        </a:rPr>
                        <a:t>Р.п., мн.ч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Constantia"/>
                        </a:rPr>
                        <a:t>В.п., мн.ч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Constantia"/>
                        </a:rPr>
                        <a:t>Одуш. или неодуш. сущ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ff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7344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ff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7362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ff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7365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ff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7074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ff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</a:tr>
            </a:tbl>
          </a:graphicData>
        </a:graphic>
      </p:graphicFrame>
    </p:spTree>
  </p:cSld>
  <p:transition spd="med">
    <p:plus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Рисунок 2" descr="C:\Documents and Settings\Admin\Рабочий стол\26.jpg"/>
          <p:cNvPicPr/>
          <p:nvPr/>
        </p:nvPicPr>
        <p:blipFill>
          <a:blip r:embed="rId1"/>
          <a:stretch/>
        </p:blipFill>
        <p:spPr>
          <a:xfrm>
            <a:off x="0" y="0"/>
            <a:ext cx="4614840" cy="6858000"/>
          </a:xfrm>
          <a:prstGeom prst="rect">
            <a:avLst/>
          </a:prstGeom>
          <a:ln w="0">
            <a:noFill/>
          </a:ln>
        </p:spPr>
      </p:pic>
      <p:pic>
        <p:nvPicPr>
          <p:cNvPr id="267" name="Рисунок 1" descr="C:\Documents and Settings\Admin\Рабочий стол\25.jpg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8" name=""/>
          <p:cNvGraphicFramePr/>
          <p:nvPr/>
        </p:nvGraphicFramePr>
        <p:xfrm>
          <a:off x="0" y="1214280"/>
          <a:ext cx="9144000" cy="4714920"/>
        </p:xfrm>
        <a:graphic>
          <a:graphicData uri="http://schemas.openxmlformats.org/drawingml/2006/table">
            <a:tbl>
              <a:tblPr/>
              <a:tblGrid>
                <a:gridCol w="1643040"/>
                <a:gridCol w="1857240"/>
                <a:gridCol w="2000520"/>
                <a:gridCol w="1928880"/>
                <a:gridCol w="1714320"/>
              </a:tblGrid>
              <a:tr h="180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Constantia"/>
                        </a:rPr>
                        <a:t>Сло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Constantia"/>
                        </a:rPr>
                        <a:t>И.п., мн.ч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Constantia"/>
                        </a:rPr>
                        <a:t>Р.п., мн.ч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Constantia"/>
                        </a:rPr>
                        <a:t>В.п., мн.ч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Constantia"/>
                        </a:rPr>
                        <a:t>Одуш. или неодуш. сущ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7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73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70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</a:tr>
            </a:tbl>
          </a:graphicData>
        </a:graphic>
      </p:graphicFrame>
      <p:sp>
        <p:nvSpPr>
          <p:cNvPr id="269" name="Заголовок 1"/>
          <p:cNvSpPr/>
          <p:nvPr/>
        </p:nvSpPr>
        <p:spPr>
          <a:xfrm>
            <a:off x="928800" y="214200"/>
            <a:ext cx="68706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ef66"/>
                </a:solidFill>
                <a:latin typeface="Constantia"/>
              </a:rPr>
              <a:t>Заполняем таблиц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3"/>
          <p:cNvSpPr/>
          <p:nvPr/>
        </p:nvSpPr>
        <p:spPr>
          <a:xfrm>
            <a:off x="142920" y="314316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Кук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4"/>
          <p:cNvSpPr/>
          <p:nvPr/>
        </p:nvSpPr>
        <p:spPr>
          <a:xfrm>
            <a:off x="142920" y="385776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На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5"/>
          <p:cNvSpPr/>
          <p:nvPr/>
        </p:nvSpPr>
        <p:spPr>
          <a:xfrm>
            <a:off x="142920" y="457200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Тру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6"/>
          <p:cNvSpPr/>
          <p:nvPr/>
        </p:nvSpPr>
        <p:spPr>
          <a:xfrm>
            <a:off x="0" y="5357880"/>
            <a:ext cx="18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Мертв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7"/>
          <p:cNvSpPr/>
          <p:nvPr/>
        </p:nvSpPr>
        <p:spPr>
          <a:xfrm>
            <a:off x="1857240" y="3143160"/>
            <a:ext cx="135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кук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8"/>
          <p:cNvSpPr/>
          <p:nvPr/>
        </p:nvSpPr>
        <p:spPr>
          <a:xfrm>
            <a:off x="3857760" y="314316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кук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9"/>
          <p:cNvSpPr/>
          <p:nvPr/>
        </p:nvSpPr>
        <p:spPr>
          <a:xfrm>
            <a:off x="5786280" y="3143160"/>
            <a:ext cx="135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кук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0"/>
          <p:cNvSpPr/>
          <p:nvPr/>
        </p:nvSpPr>
        <p:spPr>
          <a:xfrm>
            <a:off x="7786800" y="314316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одуш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1"/>
          <p:cNvSpPr/>
          <p:nvPr/>
        </p:nvSpPr>
        <p:spPr>
          <a:xfrm>
            <a:off x="1785960" y="385776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нар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2"/>
          <p:cNvSpPr/>
          <p:nvPr/>
        </p:nvSpPr>
        <p:spPr>
          <a:xfrm>
            <a:off x="3714840" y="3857760"/>
            <a:ext cx="164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нар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3"/>
          <p:cNvSpPr/>
          <p:nvPr/>
        </p:nvSpPr>
        <p:spPr>
          <a:xfrm>
            <a:off x="5643720" y="385776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нар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4"/>
          <p:cNvSpPr/>
          <p:nvPr/>
        </p:nvSpPr>
        <p:spPr>
          <a:xfrm>
            <a:off x="1928880" y="457200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труп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5"/>
          <p:cNvSpPr/>
          <p:nvPr/>
        </p:nvSpPr>
        <p:spPr>
          <a:xfrm>
            <a:off x="7500960" y="3857760"/>
            <a:ext cx="164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неодуш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6"/>
          <p:cNvSpPr/>
          <p:nvPr/>
        </p:nvSpPr>
        <p:spPr>
          <a:xfrm>
            <a:off x="3786120" y="4572000"/>
            <a:ext cx="142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труп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7"/>
          <p:cNvSpPr/>
          <p:nvPr/>
        </p:nvSpPr>
        <p:spPr>
          <a:xfrm>
            <a:off x="5715000" y="457200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труп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18"/>
          <p:cNvSpPr/>
          <p:nvPr/>
        </p:nvSpPr>
        <p:spPr>
          <a:xfrm>
            <a:off x="7500960" y="4572000"/>
            <a:ext cx="164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неодуш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9"/>
          <p:cNvSpPr/>
          <p:nvPr/>
        </p:nvSpPr>
        <p:spPr>
          <a:xfrm>
            <a:off x="1571760" y="5357880"/>
            <a:ext cx="200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мертве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20"/>
          <p:cNvSpPr/>
          <p:nvPr/>
        </p:nvSpPr>
        <p:spPr>
          <a:xfrm>
            <a:off x="3500280" y="5357880"/>
            <a:ext cx="214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мертвец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21"/>
          <p:cNvSpPr/>
          <p:nvPr/>
        </p:nvSpPr>
        <p:spPr>
          <a:xfrm>
            <a:off x="5500800" y="5357880"/>
            <a:ext cx="214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мертвец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22"/>
          <p:cNvSpPr/>
          <p:nvPr/>
        </p:nvSpPr>
        <p:spPr>
          <a:xfrm>
            <a:off x="7786800" y="535788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одуш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9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9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9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9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9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9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9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9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9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9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9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9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9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9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9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9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357280" y="714240"/>
            <a:ext cx="6400800" cy="7034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b050"/>
                </a:solidFill>
                <a:uFillTx/>
                <a:latin typeface="Constantia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999720" y="1856880"/>
            <a:ext cx="75726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Есть слова в русском языке, которые не относятся к «живой» природе, но обладают одушевленностью.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strips dir="rd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687096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nstantia"/>
              </a:rPr>
              <a:t>Работаем с текстом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Rectangle 1"/>
          <p:cNvSpPr/>
          <p:nvPr/>
        </p:nvSpPr>
        <p:spPr>
          <a:xfrm>
            <a:off x="214200" y="877320"/>
            <a:ext cx="8143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кие светлые, особенные ночи в феврале! В лесу легко замечаешь след санной дороги. Далеко уходит узкая тропинка. С неба струится белесоватый свет луны. Искрится белая пороша, и на ее синеющей снежной белизне отражается мерцание звезд. В такие ночи обычно охотники устраивают засады на волков, лисиц и зайц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ся снежная равнина и лесные поляны светятся, как один огромный, беззвучный зеркальный зал. Очаровательны эти ночи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2"/>
          <p:cNvSpPr/>
          <p:nvPr/>
        </p:nvSpPr>
        <p:spPr>
          <a:xfrm>
            <a:off x="1357200" y="5362200"/>
            <a:ext cx="742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Выписать существительные, определить одушевленность / неодушевленность, род, число, падеж.    Например,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очи – неодуш., ж.р., мн.ч., И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d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0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1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28840" y="1928520"/>
            <a:ext cx="6400800" cy="12841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onstantia"/>
              </a:rPr>
              <a:t>Спасибо за урок!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1642680" y="342864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До свидания!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strips dir="rd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Заголовок 1" descr=""/>
          <p:cNvPicPr/>
          <p:nvPr/>
        </p:nvPicPr>
        <p:blipFill>
          <a:blip r:embed="rId1"/>
          <a:stretch/>
        </p:blipFill>
        <p:spPr>
          <a:xfrm>
            <a:off x="1066680" y="225360"/>
            <a:ext cx="6881760" cy="89064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928800" y="1356840"/>
            <a:ext cx="769608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nstantia"/>
              </a:rPr>
              <a:t>1. Выберите приставку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Constantia"/>
              </a:rPr>
              <a:t>Несколько дней стреляли бе..прерывно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nstantia"/>
              </a:rPr>
              <a:t>А.</a:t>
            </a:r>
            <a:r>
              <a:rPr b="0" lang="ru-RU" sz="3200" spc="-1" strike="noStrike">
                <a:solidFill>
                  <a:srgbClr val="ff0000"/>
                </a:solidFill>
                <a:latin typeface="Constantia"/>
              </a:rPr>
              <a:t> Бес-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Constantia"/>
              </a:rPr>
              <a:t>Б.</a:t>
            </a:r>
            <a:r>
              <a:rPr b="0" lang="ru-RU" sz="3200" spc="-1" strike="noStrike">
                <a:solidFill>
                  <a:srgbClr val="ff0000"/>
                </a:solidFill>
                <a:latin typeface="Constantia"/>
              </a:rPr>
              <a:t> Без-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onstanti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nstantia"/>
              </a:rPr>
              <a:t>2.</a:t>
            </a:r>
            <a:r>
              <a:rPr b="0" lang="ru-RU" sz="3200" spc="-1" strike="noStrike">
                <a:solidFill>
                  <a:srgbClr val="7030a0"/>
                </a:solidFill>
                <a:latin typeface="Constantia"/>
              </a:rPr>
              <a:t> </a:t>
            </a:r>
            <a:r>
              <a:rPr b="1" lang="ru-RU" sz="3200" spc="-1" strike="noStrike">
                <a:solidFill>
                  <a:srgbClr val="7030a0"/>
                </a:solidFill>
                <a:latin typeface="Constantia"/>
              </a:rPr>
              <a:t>Выберите приставку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Constantia"/>
              </a:rPr>
              <a:t>Наутро решили ра..бить крепость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nstantia"/>
              </a:rPr>
              <a:t>А.</a:t>
            </a:r>
            <a:r>
              <a:rPr b="0" lang="ru-RU" sz="3200" spc="-1" strike="noStrike">
                <a:solidFill>
                  <a:srgbClr val="ff0000"/>
                </a:solidFill>
                <a:latin typeface="Constantia"/>
              </a:rPr>
              <a:t> Рас-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Constantia"/>
              </a:rPr>
              <a:t>Б.</a:t>
            </a:r>
            <a:r>
              <a:rPr b="0" lang="ru-RU" sz="3200" spc="-1" strike="noStrike">
                <a:solidFill>
                  <a:srgbClr val="ff0000"/>
                </a:solidFill>
                <a:latin typeface="Constantia"/>
              </a:rPr>
              <a:t> Раз-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strips dir="l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9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9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9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9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9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9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9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"/>
          <p:cNvSpPr/>
          <p:nvPr/>
        </p:nvSpPr>
        <p:spPr>
          <a:xfrm>
            <a:off x="428760" y="775800"/>
            <a:ext cx="7786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e84a"/>
                </a:solidFill>
                <a:latin typeface="Constantia"/>
                <a:ea typeface="Calibri"/>
              </a:rPr>
              <a:t>3. </a:t>
            </a:r>
            <a:r>
              <a:rPr b="1" lang="ru-RU" sz="3200" spc="-1" strike="noStrike">
                <a:solidFill>
                  <a:srgbClr val="ffe84a"/>
                </a:solidFill>
                <a:latin typeface="Constantia"/>
                <a:ea typeface="Calibri"/>
              </a:rPr>
              <a:t>Если за приставками без-, воз-, раз-, низ-, через-, из- следуют буквы р, н, м, л, то в приставка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nstantia"/>
                <a:ea typeface="Calibri"/>
              </a:rPr>
              <a:t>А.</a:t>
            </a:r>
            <a:r>
              <a:rPr b="0" lang="ru-RU" sz="3200" spc="-1" strike="noStrike">
                <a:solidFill>
                  <a:srgbClr val="7030a0"/>
                </a:solidFill>
                <a:latin typeface="Constantia"/>
                <a:ea typeface="Calibri"/>
              </a:rPr>
              <a:t> Пишется буква з    </a:t>
            </a:r>
            <a:r>
              <a:rPr b="1" lang="ru-RU" sz="3200" spc="-1" strike="noStrike">
                <a:solidFill>
                  <a:srgbClr val="7030a0"/>
                </a:solidFill>
                <a:latin typeface="Constantia"/>
                <a:ea typeface="Calibri"/>
              </a:rPr>
              <a:t>Б.</a:t>
            </a:r>
            <a:r>
              <a:rPr b="0" lang="ru-RU" sz="3200" spc="-1" strike="noStrike">
                <a:solidFill>
                  <a:srgbClr val="7030a0"/>
                </a:solidFill>
                <a:latin typeface="Constantia"/>
                <a:ea typeface="Calibri"/>
              </a:rPr>
              <a:t> Пишется буква 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e84a"/>
                </a:solidFill>
                <a:latin typeface="Constantia"/>
                <a:ea typeface="Calibri"/>
              </a:rPr>
              <a:t>4.</a:t>
            </a:r>
            <a:r>
              <a:rPr b="0" lang="ru-RU" sz="3200" spc="-1" strike="noStrike">
                <a:solidFill>
                  <a:srgbClr val="ffe84a"/>
                </a:solidFill>
                <a:latin typeface="Constantia"/>
                <a:ea typeface="Calibri"/>
              </a:rPr>
              <a:t> </a:t>
            </a:r>
            <a:r>
              <a:rPr b="1" lang="ru-RU" sz="3200" spc="-1" strike="noStrike">
                <a:solidFill>
                  <a:srgbClr val="ffe84a"/>
                </a:solidFill>
                <a:latin typeface="Constantia"/>
                <a:ea typeface="Calibri"/>
              </a:rPr>
              <a:t>Выберите пропущенную букв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e84a"/>
                </a:solidFill>
                <a:latin typeface="Constantia"/>
                <a:ea typeface="Calibri"/>
              </a:rPr>
              <a:t>Капюш..н, ш..мпол, ш..в, ш..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nstantia"/>
                <a:ea typeface="Calibri"/>
              </a:rPr>
              <a:t>А.</a:t>
            </a:r>
            <a:r>
              <a:rPr b="0" lang="ru-RU" sz="3200" spc="-1" strike="noStrike">
                <a:solidFill>
                  <a:srgbClr val="7030a0"/>
                </a:solidFill>
                <a:latin typeface="Constantia"/>
                <a:ea typeface="Calibri"/>
              </a:rPr>
              <a:t> О                               </a:t>
            </a:r>
            <a:r>
              <a:rPr b="1" lang="ru-RU" sz="3200" spc="-1" strike="noStrike">
                <a:solidFill>
                  <a:srgbClr val="7030a0"/>
                </a:solidFill>
                <a:latin typeface="Constantia"/>
                <a:ea typeface="Calibri"/>
              </a:rPr>
              <a:t> Б. </a:t>
            </a:r>
            <a:r>
              <a:rPr b="0" lang="ru-RU" sz="3200" spc="-1" strike="noStrike">
                <a:solidFill>
                  <a:srgbClr val="7030a0"/>
                </a:solidFill>
                <a:latin typeface="Constantia"/>
                <a:ea typeface="Calibri"/>
              </a:rPr>
              <a:t>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ver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Содержимое 2"/>
          <p:cNvSpPr/>
          <p:nvPr/>
        </p:nvSpPr>
        <p:spPr>
          <a:xfrm>
            <a:off x="428760" y="428760"/>
            <a:ext cx="819612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nstantia"/>
              </a:rPr>
              <a:t>5.</a:t>
            </a:r>
            <a:r>
              <a:rPr b="0" lang="ru-RU" sz="32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onstantia"/>
              </a:rPr>
              <a:t>Определите последовательность пропущенных гласны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Constantia"/>
              </a:rPr>
              <a:t>Возр..ст, пор..сль, отр..сль, р…ст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onstantia"/>
              </a:rPr>
              <a:t>А.</a:t>
            </a:r>
            <a:r>
              <a:rPr b="0" lang="ru-RU" sz="3200" spc="-1" strike="noStrike">
                <a:solidFill>
                  <a:srgbClr val="00b050"/>
                </a:solidFill>
                <a:latin typeface="Constantia"/>
              </a:rPr>
              <a:t> А – а – о – о                         </a:t>
            </a:r>
            <a:r>
              <a:rPr b="1" lang="ru-RU" sz="3200" spc="-1" strike="noStrike">
                <a:solidFill>
                  <a:srgbClr val="00b050"/>
                </a:solidFill>
                <a:latin typeface="Constantia"/>
              </a:rPr>
              <a:t>Б.</a:t>
            </a:r>
            <a:r>
              <a:rPr b="0" lang="ru-RU" sz="3200" spc="-1" strike="noStrike">
                <a:solidFill>
                  <a:srgbClr val="00b050"/>
                </a:solidFill>
                <a:latin typeface="Constantia"/>
              </a:rPr>
              <a:t> А – о – а – 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nstanti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nstantia"/>
              </a:rPr>
              <a:t>6.</a:t>
            </a:r>
            <a:r>
              <a:rPr b="0" lang="ru-RU" sz="32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onstantia"/>
              </a:rPr>
              <a:t>Определите последовательность пропущенных гласны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Constantia"/>
              </a:rPr>
              <a:t>Изл..гать, сл..гаемое, изл..жение, пол..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onstantia"/>
              </a:rPr>
              <a:t>А.</a:t>
            </a:r>
            <a:r>
              <a:rPr b="0" lang="ru-RU" sz="3200" spc="-1" strike="noStrike">
                <a:solidFill>
                  <a:srgbClr val="00b050"/>
                </a:solidFill>
                <a:latin typeface="Constantia"/>
              </a:rPr>
              <a:t> А – а – о – о                          </a:t>
            </a:r>
            <a:r>
              <a:rPr b="1" lang="ru-RU" sz="3200" spc="-1" strike="noStrike">
                <a:solidFill>
                  <a:srgbClr val="00b050"/>
                </a:solidFill>
                <a:latin typeface="Constantia"/>
              </a:rPr>
              <a:t>Б. </a:t>
            </a:r>
            <a:r>
              <a:rPr b="0" lang="ru-RU" sz="3200" spc="-1" strike="noStrike">
                <a:solidFill>
                  <a:srgbClr val="00b050"/>
                </a:solidFill>
                <a:latin typeface="Constantia"/>
              </a:rPr>
              <a:t>А – о – о –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428760" y="999720"/>
            <a:ext cx="7953120" cy="49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nstantia"/>
              </a:rPr>
              <a:t>7.</a:t>
            </a:r>
            <a:r>
              <a:rPr b="0" lang="ru-RU" sz="3200" spc="-1" strike="noStrike">
                <a:solidFill>
                  <a:srgbClr val="7030a0"/>
                </a:solidFill>
                <a:latin typeface="Constantia"/>
              </a:rPr>
              <a:t> </a:t>
            </a:r>
            <a:r>
              <a:rPr b="1" lang="ru-RU" sz="3200" spc="-1" strike="noStrike">
                <a:solidFill>
                  <a:srgbClr val="7030a0"/>
                </a:solidFill>
                <a:latin typeface="Constantia"/>
              </a:rPr>
              <a:t>Какая буква пишется в окончаниях существительных после Ц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nstantia"/>
              </a:rPr>
              <a:t>А.</a:t>
            </a:r>
            <a:r>
              <a:rPr b="0" lang="ru-RU" sz="3200" spc="-1" strike="noStrike">
                <a:solidFill>
                  <a:srgbClr val="ffff00"/>
                </a:solidFill>
                <a:latin typeface="Constantia"/>
              </a:rPr>
              <a:t> И                            </a:t>
            </a:r>
            <a:r>
              <a:rPr b="1" lang="ru-RU" sz="3200" spc="-1" strike="noStrike">
                <a:solidFill>
                  <a:srgbClr val="ffff00"/>
                </a:solidFill>
                <a:latin typeface="Constantia"/>
              </a:rPr>
              <a:t>Б.</a:t>
            </a:r>
            <a:r>
              <a:rPr b="0" lang="ru-RU" sz="3200" spc="-1" strike="noStrike">
                <a:solidFill>
                  <a:srgbClr val="ffff00"/>
                </a:solidFill>
                <a:latin typeface="Constantia"/>
              </a:rPr>
              <a:t> Ы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onstanti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nstantia"/>
              </a:rPr>
              <a:t>8.</a:t>
            </a:r>
            <a:r>
              <a:rPr b="0" lang="ru-RU" sz="3200" spc="-1" strike="noStrike">
                <a:solidFill>
                  <a:srgbClr val="7030a0"/>
                </a:solidFill>
                <a:latin typeface="Constantia"/>
              </a:rPr>
              <a:t> </a:t>
            </a:r>
            <a:r>
              <a:rPr b="1" lang="ru-RU" sz="3200" spc="-1" strike="noStrike">
                <a:solidFill>
                  <a:srgbClr val="7030a0"/>
                </a:solidFill>
                <a:latin typeface="Constantia"/>
              </a:rPr>
              <a:t>Какая буква пишется в словах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Constantia"/>
              </a:rPr>
              <a:t>Позиц..я, акац..я, ситуац..я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nstantia"/>
              </a:rPr>
              <a:t>А.</a:t>
            </a:r>
            <a:r>
              <a:rPr b="0" lang="ru-RU" sz="3200" spc="-1" strike="noStrike">
                <a:solidFill>
                  <a:srgbClr val="ffff00"/>
                </a:solidFill>
                <a:latin typeface="Constantia"/>
              </a:rPr>
              <a:t> И                            </a:t>
            </a:r>
            <a:r>
              <a:rPr b="1" lang="ru-RU" sz="3200" spc="-1" strike="noStrike">
                <a:solidFill>
                  <a:srgbClr val="ffff00"/>
                </a:solidFill>
                <a:latin typeface="Constantia"/>
              </a:rPr>
              <a:t>Б.</a:t>
            </a:r>
            <a:r>
              <a:rPr b="0" lang="ru-RU" sz="3200" spc="-1" strike="noStrike">
                <a:solidFill>
                  <a:srgbClr val="ffff00"/>
                </a:solidFill>
                <a:latin typeface="Constantia"/>
              </a:rPr>
              <a:t> Ы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pull dir="l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5" name="Заголовок 1" descr=""/>
          <p:cNvPicPr/>
          <p:nvPr/>
        </p:nvPicPr>
        <p:blipFill>
          <a:blip r:embed="rId2"/>
          <a:stretch/>
        </p:blipFill>
        <p:spPr>
          <a:xfrm>
            <a:off x="-12600" y="73080"/>
            <a:ext cx="5018040" cy="18781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7" name="Содержимое 4" descr="C:\Documents and Settings\Admin\Рабочий стол\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9" name="Содержимое 3" descr="C:\Documents and Settings\Admin\Рабочий стол\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" name=""/>
          <p:cNvGraphicFramePr/>
          <p:nvPr/>
        </p:nvGraphicFramePr>
        <p:xfrm>
          <a:off x="0" y="0"/>
          <a:ext cx="9144000" cy="67626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1471320">
                <a:tc>
                  <a:txBody>
                    <a:bodyPr lIns="68760" rIns="6876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душевлённые имена существительные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ef6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ef66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Неодушевлённые имена существитель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ffef6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ef66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853560">
                <a:tc>
                  <a:txBody>
                    <a:bodyPr lIns="0" rIns="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b050"/>
                          </a:solidFill>
                          <a:latin typeface="Constantia"/>
                        </a:rPr>
                        <a:t>Названия предметов живой прир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ef66"/>
                      </a:solidFill>
                    </a:lnR>
                    <a:lnT w="28080">
                      <a:solidFill>
                        <a:srgbClr val="ffef66"/>
                      </a:solidFill>
                    </a:lnT>
                    <a:lnB w="28080">
                      <a:solidFill>
                        <a:srgbClr val="ffef66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Названия предметов неживой прир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080">
                      <a:solidFill>
                        <a:srgbClr val="ffef6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ef66"/>
                      </a:solidFill>
                    </a:lnT>
                    <a:lnB w="28080">
                      <a:solidFill>
                        <a:srgbClr val="ffef66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ef66"/>
                      </a:solidFill>
                    </a:lnR>
                    <a:lnT w="28080">
                      <a:solidFill>
                        <a:srgbClr val="ffef66"/>
                      </a:solidFill>
                    </a:lnT>
                    <a:lnB w="18720">
                      <a:solidFill>
                        <a:srgbClr val="ffef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Названия расте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080">
                      <a:solidFill>
                        <a:srgbClr val="ffef6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ef66"/>
                      </a:solidFill>
                    </a:lnT>
                    <a:lnB w="18720">
                      <a:solidFill>
                        <a:srgbClr val="ffef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3560">
                <a:tc>
                  <a:txBody>
                    <a:bodyPr lIns="0" rIns="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b050"/>
                          </a:solidFill>
                          <a:latin typeface="Constantia"/>
                        </a:rPr>
                        <a:t>Названия бог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ef66"/>
                      </a:solidFill>
                    </a:lnR>
                    <a:lnT w="18720">
                      <a:solidFill>
                        <a:srgbClr val="ffef66"/>
                      </a:solidFill>
                    </a:lnT>
                    <a:lnB w="28080">
                      <a:solidFill>
                        <a:srgbClr val="ffef66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Названия планет по имени бог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080">
                      <a:solidFill>
                        <a:srgbClr val="ffef6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ef66"/>
                      </a:solidFill>
                    </a:lnT>
                    <a:lnB w="28080">
                      <a:solidFill>
                        <a:srgbClr val="ffef66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853560">
                <a:tc>
                  <a:txBody>
                    <a:bodyPr lIns="0" rIns="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b050"/>
                          </a:solidFill>
                          <a:latin typeface="Constantia"/>
                        </a:rPr>
                        <a:t>Названия мифических сущест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ef66"/>
                      </a:solidFill>
                    </a:lnR>
                    <a:lnT w="28080">
                      <a:solidFill>
                        <a:srgbClr val="ffef66"/>
                      </a:solidFill>
                    </a:lnT>
                    <a:lnB w="28080">
                      <a:solidFill>
                        <a:srgbClr val="ffef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080">
                      <a:solidFill>
                        <a:srgbClr val="ffef6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ef66"/>
                      </a:solidFill>
                    </a:lnT>
                    <a:lnB w="28080">
                      <a:solidFill>
                        <a:srgbClr val="ffef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3560">
                <a:tc>
                  <a:txBody>
                    <a:bodyPr lIns="0" rIns="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b050"/>
                          </a:solidFill>
                          <a:latin typeface="Constantia"/>
                        </a:rPr>
                        <a:t>Названия фигур в игра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ef66"/>
                      </a:solidFill>
                    </a:lnR>
                    <a:lnT w="28080">
                      <a:solidFill>
                        <a:srgbClr val="ffef66"/>
                      </a:solidFill>
                    </a:lnT>
                    <a:lnB w="28080">
                      <a:solidFill>
                        <a:srgbClr val="ffef66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080">
                      <a:solidFill>
                        <a:srgbClr val="ffef6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ef66"/>
                      </a:solidFill>
                    </a:lnT>
                    <a:lnB w="28080">
                      <a:solidFill>
                        <a:srgbClr val="ffef66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706760">
                <a:tc>
                  <a:txBody>
                    <a:bodyPr lIns="0" rIns="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b050"/>
                          </a:solidFill>
                          <a:latin typeface="Constantia"/>
                        </a:rPr>
                        <a:t>Названия игрушек, механизмов, изображений челове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ef66"/>
                      </a:solidFill>
                    </a:lnR>
                    <a:lnT w="28080">
                      <a:solidFill>
                        <a:srgbClr val="ffef66"/>
                      </a:solidFill>
                    </a:lnT>
                    <a:lnB w="28080">
                      <a:solidFill>
                        <a:srgbClr val="ffef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080">
                      <a:solidFill>
                        <a:srgbClr val="ffef6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ef66"/>
                      </a:solidFill>
                    </a:lnT>
                    <a:lnB w="28080">
                      <a:solidFill>
                        <a:srgbClr val="ffef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b050"/>
                          </a:solidFill>
                          <a:latin typeface="Constantia"/>
                        </a:rPr>
                        <a:t>мертвец, покойн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ef66"/>
                      </a:solidFill>
                    </a:lnR>
                    <a:lnT w="28080">
                      <a:solidFill>
                        <a:srgbClr val="ffef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тру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080">
                      <a:solidFill>
                        <a:srgbClr val="ffef6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ef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p:transition spd="med">
    <p:strips dir="r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8T12:01:06Z</dcterms:created>
  <dc:creator>Admin</dc:creator>
  <dc:description/>
  <dc:language>en-US</dc:language>
  <cp:lastModifiedBy>Регина</cp:lastModifiedBy>
  <dcterms:modified xsi:type="dcterms:W3CDTF">2016-11-30T18:00:40Z</dcterms:modified>
  <cp:revision>32</cp:revision>
  <dc:subject/>
  <dc:title>Одушевленные и неодушевленные имена существительные</dc:title>
</cp:coreProperties>
</file>