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13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1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6.jpeg" ContentType="image/jpeg"/>
  <Override PartName="/ppt/media/image2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DE0F-AEFE-4E5B-9C57-A4D434FFD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974E-B88C-4B63-A01C-1918B2B6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3ABE-B6E4-4A06-A8E2-8061CA351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1C0A-BE80-4CD7-961A-01A4CB46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C1FB-C34F-4D9F-A8D8-F63C95228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CFA9-E8C7-4581-93C2-C0808083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0054-55C0-4978-B5CE-E718003B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D9D8-0AA3-43BB-9DFE-5EB5983F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FBC4-539A-4103-8428-AC7C9FB6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50C7-8DDA-4CFA-9E6E-85D63796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F8C5-CE74-4DBB-B88B-3747FCA9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D24D-4CC7-4E6A-B2D9-01EE1397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BFF9-2FF4-4264-BEC1-21C1D1E0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BC20-D384-46C3-96FE-9E4F24D3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30B9-CBE3-480F-B603-659220E1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DCD1-964C-4578-9C25-B6ECBE6C0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8DC1-B4CB-46D8-A6F3-DE51304FC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7575C-3CD8-44AC-A548-3CFBE18B8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16001-99E1-47E7-8CAA-0F8AE770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18EC8-2226-428D-91D2-FC5324E8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15F7A-9270-4E2F-BCD8-901A2D54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8C72B-C27A-4AE6-84C4-92F313E6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D487-8900-4617-9085-AB6FE04C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3F1BE-F750-4815-A581-B5BB8080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FC28A-6332-4243-A24F-F3DC3522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A20BD-7E38-4BDB-A23A-4DF133A2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8266D-45FD-486B-BE61-7B5E3110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A2E95-A456-479B-8E22-F7CD0B48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7B546-2CC3-49A8-9B7E-3EC81316F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DC79E-A8BA-488F-A1D9-2038DBEFF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20D83-E7E3-4F7D-AB26-DC6A8B2B0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7B35B-E049-4D1E-AA52-726EC490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808D0-C30A-42D8-9A06-48D3B581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465C-3CB2-41F7-8191-82613737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03338-D3CC-4DF7-815E-D35C91FF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E3F65-DC4F-48FC-8CBF-8A4EBBCE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EEAC8-5CA2-4D05-AC04-7DB94DA8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2EE03-4323-4083-8AA6-B9119C5A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3D370-291E-48A6-A21E-E91E4D8F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16DDE-937F-4FFE-99F3-CFAD74A2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41015-F157-479A-B825-F3B7AD31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40BE5-EE1F-4398-821E-FA97B37D6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6F734-AEC5-4242-A457-E387CC048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CD293-CAB2-4FA4-A5FA-9AB80DC9F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C2D5-1150-4E70-A295-AFC86BE0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4BA75-3AB0-49F1-ACF0-CD163DEB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2241B-627C-448C-8885-2E5E1C20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7AB66-DA0B-44ED-B43F-C7F61DFF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04F5E-1517-4AF0-9B0E-51FABC60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D0248-5A8C-40EA-BF44-F6A0F21E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6E19F-2A4F-49F1-AD15-98AE165C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018BC-019B-49F3-9832-340127BE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6A6A8-0856-4D76-AB47-FBABABAD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EAE8B-E3D1-4C13-97CB-205C7766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2CCBE-2076-4A49-AAFA-9033D31BE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FD9D-B343-403C-9F49-F5539314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37C92-D9B6-467C-9561-127468C2A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C6544-7BED-4837-98D7-0F35C0BF2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5AA6B-E112-4B48-BEC4-D3F1B0CF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E821E-6AC7-41E3-AB36-0093F11E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96409-5FAE-4504-98CA-9653C703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32A81-50C4-4251-876F-9ECD3624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054BF-AD2D-43DF-9E63-D9DD1971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120CC-293B-4A93-89D5-693F3DC0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0E933-2639-459F-8858-4EB2F97F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4E0DF-BC30-44F8-836B-3FCF3C38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6955-8718-465E-BCBE-0B9D3B0A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9C39A-4079-43D6-8057-90DAB52E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227C6-66B3-4959-B97A-54BBAC4AB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B6943-134A-4E43-9247-9FFC524F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BE06B1-93A6-42CF-9FD4-3BADB7D4E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40AF41-6CC4-4D94-B08D-FE3E7399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781255-D013-4BAD-85A9-6B3787C5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5F1D08-4620-4F94-9FD7-D5168B05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56870A-6AD2-4B32-B2C2-178C4A9F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8FCAA9-FE9A-4EEC-8945-D63D0965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AF796D-F81C-4C8D-B7C0-7C3B168F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C9F8-FB1D-4A05-9C71-20FA1B92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52230E-5E14-44B7-855F-4A007042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A3CE59-4E86-476A-A85A-6D215F00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F01534-C27B-4041-91B8-1CB3CCDA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6069A5-03E4-4E42-A53F-81D1D4801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1FC339-C013-41AD-B003-699CC6DEE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EE7B-DFFC-48E8-9801-415FBBE3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C5E8-43DD-4E6A-AD15-5C962C174D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2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404B-3805-4144-A422-29A0FB180EA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6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7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1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4437-7B3B-419D-999B-FEB5F1F77FF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207E-B0B9-45F7-ADB0-A4063B8DB5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319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14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0310-890B-4951-B064-477A99CE22F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6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6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7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16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33BF-4615-48D1-8CC9-2F8F60EBE08B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BDA2-3C05-4DDA-B531-0145943DB5B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4" descr="сканирование0001"/>
          <p:cNvPicPr/>
          <p:nvPr/>
        </p:nvPicPr>
        <p:blipFill>
          <a:blip r:embed="rId1"/>
          <a:stretch/>
        </p:blipFill>
        <p:spPr>
          <a:xfrm>
            <a:off x="3348000" y="836640"/>
            <a:ext cx="1690560" cy="259236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5" descr="сканирование0002"/>
          <p:cNvPicPr/>
          <p:nvPr/>
        </p:nvPicPr>
        <p:blipFill>
          <a:blip r:embed="rId2"/>
          <a:stretch/>
        </p:blipFill>
        <p:spPr>
          <a:xfrm>
            <a:off x="0" y="816120"/>
            <a:ext cx="3024360" cy="2246040"/>
          </a:xfrm>
          <a:prstGeom prst="rect">
            <a:avLst/>
          </a:prstGeom>
          <a:ln w="0">
            <a:noFill/>
          </a:ln>
        </p:spPr>
      </p:pic>
      <p:sp>
        <p:nvSpPr>
          <p:cNvPr id="598" name="WordArt 6"/>
          <p:cNvSpPr txBox="1"/>
          <p:nvPr/>
        </p:nvSpPr>
        <p:spPr>
          <a:xfrm>
            <a:off x="468360" y="260280"/>
            <a:ext cx="770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жеймс Нейсми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99" name="WordArt 7"/>
          <p:cNvSpPr txBox="1"/>
          <p:nvPr/>
        </p:nvSpPr>
        <p:spPr>
          <a:xfrm>
            <a:off x="5292720" y="1011240"/>
            <a:ext cx="33847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33"/>
                </a:solidFill>
                <a:latin typeface="Arial"/>
              </a:rPr>
              <a:t>1891 год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33"/>
              </a:solidFill>
              <a:latin typeface="Arial"/>
              <a:ea typeface="Arial"/>
            </a:endParaRPr>
          </a:p>
        </p:txBody>
      </p:sp>
      <p:sp>
        <p:nvSpPr>
          <p:cNvPr id="600" name="WordArt 8"/>
          <p:cNvSpPr txBox="1"/>
          <p:nvPr/>
        </p:nvSpPr>
        <p:spPr>
          <a:xfrm>
            <a:off x="5292720" y="2940120"/>
            <a:ext cx="3240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(1861 - 1939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01" name="Прямоугольник 1"/>
          <p:cNvSpPr/>
          <p:nvPr/>
        </p:nvSpPr>
        <p:spPr>
          <a:xfrm>
            <a:off x="447840" y="3789360"/>
            <a:ext cx="5708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93 г. Впервые появились железные кольца с сетк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94 г. Окружность мяча была увеличена до 76,2 - 81,3 с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95 г. Были введены штрафные брос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96 г. Было узаконено ведение мяча во всех вариан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5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7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/>
                                        <p:tgtEl>
                                          <p:spTgt spid="5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4" descr="сканирование0025"/>
          <p:cNvPicPr/>
          <p:nvPr/>
        </p:nvPicPr>
        <p:blipFill>
          <a:blip r:embed="rId2"/>
          <a:stretch/>
        </p:blipFill>
        <p:spPr>
          <a:xfrm>
            <a:off x="395280" y="1916280"/>
            <a:ext cx="5329080" cy="4752720"/>
          </a:xfrm>
          <a:prstGeom prst="rect">
            <a:avLst/>
          </a:prstGeom>
          <a:ln w="0">
            <a:noFill/>
          </a:ln>
        </p:spPr>
      </p:pic>
      <p:sp>
        <p:nvSpPr>
          <p:cNvPr id="635" name="WordArt 6"/>
          <p:cNvSpPr txBox="1"/>
          <p:nvPr/>
        </p:nvSpPr>
        <p:spPr>
          <a:xfrm>
            <a:off x="3419640" y="333360"/>
            <a:ext cx="540036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росок в прыжк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2" descr="сканирование0007"/>
          <p:cNvPicPr/>
          <p:nvPr/>
        </p:nvPicPr>
        <p:blipFill>
          <a:blip r:embed="rId1"/>
          <a:stretch/>
        </p:blipFill>
        <p:spPr>
          <a:xfrm>
            <a:off x="539640" y="1197000"/>
            <a:ext cx="8136000" cy="4967280"/>
          </a:xfrm>
          <a:prstGeom prst="rect">
            <a:avLst/>
          </a:prstGeom>
          <a:ln w="0">
            <a:noFill/>
          </a:ln>
        </p:spPr>
      </p:pic>
      <p:sp>
        <p:nvSpPr>
          <p:cNvPr id="637" name="WordArt 3"/>
          <p:cNvSpPr txBox="1"/>
          <p:nvPr/>
        </p:nvSpPr>
        <p:spPr>
          <a:xfrm>
            <a:off x="1476360" y="333360"/>
            <a:ext cx="640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Ведение мяч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754360" y="333000"/>
            <a:ext cx="2951280" cy="228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Bookman Old Style"/>
              </a:rPr>
              <a:t>Первый этап развития баскетбола</a:t>
            </a:r>
            <a:br>
              <a:rPr sz="2400"/>
            </a:br>
            <a:r>
              <a:rPr b="1" i="1" lang="ru-RU" sz="2400" spc="-1" strike="noStrike">
                <a:solidFill>
                  <a:srgbClr val="cc00cc"/>
                </a:solidFill>
                <a:latin typeface="Bookman Old Style"/>
              </a:rPr>
              <a:t>(1891 – 1918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03" name="Picture 4" descr="сканирование0004"/>
          <p:cNvPicPr/>
          <p:nvPr/>
        </p:nvPicPr>
        <p:blipFill>
          <a:blip r:embed="rId1"/>
          <a:stretch/>
        </p:blipFill>
        <p:spPr>
          <a:xfrm>
            <a:off x="179280" y="171360"/>
            <a:ext cx="2664000" cy="6264360"/>
          </a:xfrm>
          <a:prstGeom prst="rect">
            <a:avLst/>
          </a:prstGeom>
          <a:ln w="0">
            <a:noFill/>
          </a:ln>
        </p:spPr>
      </p:pic>
      <p:pic>
        <p:nvPicPr>
          <p:cNvPr id="604" name="Прямоугольник 1" descr=""/>
          <p:cNvPicPr/>
          <p:nvPr/>
        </p:nvPicPr>
        <p:blipFill>
          <a:blip r:embed="rId2"/>
          <a:stretch/>
        </p:blipFill>
        <p:spPr>
          <a:xfrm>
            <a:off x="4584600" y="652320"/>
            <a:ext cx="4572000" cy="13780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4" descr="сканирование0005"/>
          <p:cNvPicPr/>
          <p:nvPr/>
        </p:nvPicPr>
        <p:blipFill>
          <a:blip r:embed="rId3"/>
          <a:stretch/>
        </p:blipFill>
        <p:spPr>
          <a:xfrm>
            <a:off x="4140360" y="2349360"/>
            <a:ext cx="3600360" cy="2714760"/>
          </a:xfrm>
          <a:prstGeom prst="rect">
            <a:avLst/>
          </a:prstGeom>
          <a:ln w="0">
            <a:noFill/>
          </a:ln>
        </p:spPr>
      </p:pic>
      <p:pic>
        <p:nvPicPr>
          <p:cNvPr id="606" name="Прямоугольник 2" descr=""/>
          <p:cNvPicPr/>
          <p:nvPr/>
        </p:nvPicPr>
        <p:blipFill>
          <a:blip r:embed="rId4"/>
          <a:stretch/>
        </p:blipFill>
        <p:spPr>
          <a:xfrm>
            <a:off x="2938320" y="5340240"/>
            <a:ext cx="4621320" cy="7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етвертый этап развития баскетбола (1948 – 1965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8" name="Picture 4" descr="сканирование0005"/>
          <p:cNvPicPr/>
          <p:nvPr/>
        </p:nvPicPr>
        <p:blipFill>
          <a:blip r:embed="rId1"/>
          <a:stretch/>
        </p:blipFill>
        <p:spPr>
          <a:xfrm>
            <a:off x="6588000" y="3357720"/>
            <a:ext cx="2376720" cy="234144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5" descr="сканирование0003"/>
          <p:cNvPicPr/>
          <p:nvPr/>
        </p:nvPicPr>
        <p:blipFill>
          <a:blip r:embed="rId2"/>
          <a:stretch/>
        </p:blipFill>
        <p:spPr>
          <a:xfrm>
            <a:off x="2987640" y="2492280"/>
            <a:ext cx="3046320" cy="230508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6" descr="сканирование0004"/>
          <p:cNvPicPr/>
          <p:nvPr/>
        </p:nvPicPr>
        <p:blipFill>
          <a:blip r:embed="rId3"/>
          <a:stretch/>
        </p:blipFill>
        <p:spPr>
          <a:xfrm>
            <a:off x="250920" y="1916280"/>
            <a:ext cx="186984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diag1"/>
          <p:cNvPicPr/>
          <p:nvPr/>
        </p:nvPicPr>
        <p:blipFill>
          <a:blip r:embed="rId1"/>
          <a:stretch/>
        </p:blipFill>
        <p:spPr>
          <a:xfrm>
            <a:off x="395280" y="476280"/>
            <a:ext cx="81374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diag5"/>
          <p:cNvPicPr/>
          <p:nvPr/>
        </p:nvPicPr>
        <p:blipFill>
          <a:blip r:embed="rId1"/>
          <a:stretch/>
        </p:blipFill>
        <p:spPr>
          <a:xfrm>
            <a:off x="250920" y="401760"/>
            <a:ext cx="3497040" cy="252252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" descr="diag8s"/>
          <p:cNvPicPr/>
          <p:nvPr/>
        </p:nvPicPr>
        <p:blipFill>
          <a:blip r:embed="rId2"/>
          <a:stretch/>
        </p:blipFill>
        <p:spPr>
          <a:xfrm>
            <a:off x="5398920" y="549360"/>
            <a:ext cx="2711520" cy="22986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4" descr="сканирование0006"/>
          <p:cNvPicPr/>
          <p:nvPr/>
        </p:nvPicPr>
        <p:blipFill>
          <a:blip r:embed="rId3"/>
          <a:stretch/>
        </p:blipFill>
        <p:spPr>
          <a:xfrm>
            <a:off x="324000" y="3068640"/>
            <a:ext cx="507492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4" descr="сканирование0008"/>
          <p:cNvPicPr/>
          <p:nvPr/>
        </p:nvPicPr>
        <p:blipFill>
          <a:blip r:embed="rId1"/>
          <a:stretch/>
        </p:blipFill>
        <p:spPr>
          <a:xfrm>
            <a:off x="1476360" y="1268280"/>
            <a:ext cx="7489800" cy="5400720"/>
          </a:xfrm>
          <a:prstGeom prst="rect">
            <a:avLst/>
          </a:prstGeom>
          <a:ln w="0">
            <a:noFill/>
          </a:ln>
        </p:spPr>
      </p:pic>
      <p:sp>
        <p:nvSpPr>
          <p:cNvPr id="616" name="WordArt 7"/>
          <p:cNvSpPr txBox="1"/>
          <p:nvPr/>
        </p:nvSpPr>
        <p:spPr>
          <a:xfrm>
            <a:off x="250920" y="260280"/>
            <a:ext cx="8569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6480">
                  <a:solidFill>
                    <a:srgbClr val="ccffcc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ерсональный фол назначается:</a:t>
            </a:r>
            <a:endParaRPr b="1" i="1" lang="en-US" sz="4000" spc="1" strike="noStrike">
              <a:ln w="6480">
                <a:solidFill>
                  <a:srgbClr val="ccffcc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79280" y="1413000"/>
            <a:ext cx="2232000" cy="35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ты неправильно используешь ру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4" descr="сканирование0009"/>
          <p:cNvPicPr/>
          <p:nvPr/>
        </p:nvPicPr>
        <p:blipFill>
          <a:blip r:embed="rId1"/>
          <a:stretch/>
        </p:blipFill>
        <p:spPr>
          <a:xfrm>
            <a:off x="2519280" y="1025640"/>
            <a:ext cx="6624720" cy="5832360"/>
          </a:xfrm>
          <a:prstGeom prst="rect">
            <a:avLst/>
          </a:prstGeom>
          <a:ln w="0">
            <a:noFill/>
          </a:ln>
        </p:spPr>
      </p:pic>
      <p:sp>
        <p:nvSpPr>
          <p:cNvPr id="619" name="WordArt 7"/>
          <p:cNvSpPr txBox="1"/>
          <p:nvPr/>
        </p:nvSpPr>
        <p:spPr>
          <a:xfrm>
            <a:off x="250920" y="260280"/>
            <a:ext cx="8569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6480">
                  <a:solidFill>
                    <a:srgbClr val="ccffcc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ерсональный фол назначается:</a:t>
            </a:r>
            <a:endParaRPr b="1" i="1" lang="en-US" sz="4000" spc="1" strike="noStrike">
              <a:ln w="6480">
                <a:solidFill>
                  <a:srgbClr val="ccffcc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4" descr="сканирование0015"/>
          <p:cNvPicPr/>
          <p:nvPr/>
        </p:nvPicPr>
        <p:blipFill>
          <a:blip r:embed="rId2"/>
          <a:stretch/>
        </p:blipFill>
        <p:spPr>
          <a:xfrm>
            <a:off x="4572000" y="1125360"/>
            <a:ext cx="1728720" cy="39294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5" descr="сканирование0016"/>
          <p:cNvPicPr/>
          <p:nvPr/>
        </p:nvPicPr>
        <p:blipFill>
          <a:blip r:embed="rId3"/>
          <a:stretch/>
        </p:blipFill>
        <p:spPr>
          <a:xfrm>
            <a:off x="6588000" y="333360"/>
            <a:ext cx="1584360" cy="410364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6" descr="сканирование0013"/>
          <p:cNvPicPr/>
          <p:nvPr/>
        </p:nvPicPr>
        <p:blipFill>
          <a:blip r:embed="rId4"/>
          <a:stretch/>
        </p:blipFill>
        <p:spPr>
          <a:xfrm>
            <a:off x="468360" y="2924280"/>
            <a:ext cx="1871640" cy="326556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7" descr="сканирование0014"/>
          <p:cNvPicPr/>
          <p:nvPr/>
        </p:nvPicPr>
        <p:blipFill>
          <a:blip r:embed="rId5"/>
          <a:stretch/>
        </p:blipFill>
        <p:spPr>
          <a:xfrm>
            <a:off x="2556000" y="2276640"/>
            <a:ext cx="1728720" cy="3384360"/>
          </a:xfrm>
          <a:prstGeom prst="rect">
            <a:avLst/>
          </a:prstGeom>
          <a:ln w="0">
            <a:noFill/>
          </a:ln>
        </p:spPr>
      </p:pic>
      <p:sp>
        <p:nvSpPr>
          <p:cNvPr id="624" name="Rectangle 8"/>
          <p:cNvSpPr/>
          <p:nvPr/>
        </p:nvSpPr>
        <p:spPr>
          <a:xfrm>
            <a:off x="7596360" y="1916280"/>
            <a:ext cx="985680" cy="26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9" descr="сканирование0017"/>
          <p:cNvPicPr/>
          <p:nvPr/>
        </p:nvPicPr>
        <p:blipFill>
          <a:blip r:embed="rId6"/>
          <a:stretch/>
        </p:blipFill>
        <p:spPr>
          <a:xfrm>
            <a:off x="324000" y="189000"/>
            <a:ext cx="3743280" cy="1944720"/>
          </a:xfrm>
          <a:prstGeom prst="rect">
            <a:avLst/>
          </a:prstGeom>
          <a:ln w="0">
            <a:noFill/>
          </a:ln>
        </p:spPr>
      </p:pic>
      <p:sp>
        <p:nvSpPr>
          <p:cNvPr id="626" name="WordArt 11"/>
          <p:cNvSpPr txBox="1"/>
          <p:nvPr/>
        </p:nvSpPr>
        <p:spPr>
          <a:xfrm>
            <a:off x="3851280" y="3933720"/>
            <a:ext cx="504180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Бросок в кольц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с мес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4" descr="сканирование0020"/>
          <p:cNvPicPr/>
          <p:nvPr/>
        </p:nvPicPr>
        <p:blipFill>
          <a:blip r:embed="rId2"/>
          <a:stretch/>
        </p:blipFill>
        <p:spPr>
          <a:xfrm>
            <a:off x="468360" y="2421000"/>
            <a:ext cx="2519280" cy="51264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5" descr="сканирование0019"/>
          <p:cNvPicPr/>
          <p:nvPr/>
        </p:nvPicPr>
        <p:blipFill>
          <a:blip r:embed="rId3"/>
          <a:stretch/>
        </p:blipFill>
        <p:spPr>
          <a:xfrm>
            <a:off x="395280" y="404640"/>
            <a:ext cx="2664000" cy="201636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6" descr="сканирование0023"/>
          <p:cNvPicPr/>
          <p:nvPr/>
        </p:nvPicPr>
        <p:blipFill>
          <a:blip r:embed="rId4"/>
          <a:stretch/>
        </p:blipFill>
        <p:spPr>
          <a:xfrm>
            <a:off x="324000" y="3860640"/>
            <a:ext cx="4895640" cy="26640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7" descr="сканирование0021"/>
          <p:cNvPicPr/>
          <p:nvPr/>
        </p:nvPicPr>
        <p:blipFill>
          <a:blip r:embed="rId5"/>
          <a:stretch/>
        </p:blipFill>
        <p:spPr>
          <a:xfrm>
            <a:off x="3132000" y="1125360"/>
            <a:ext cx="2737080" cy="25196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8" descr="сканирование0022"/>
          <p:cNvPicPr/>
          <p:nvPr/>
        </p:nvPicPr>
        <p:blipFill>
          <a:blip r:embed="rId6"/>
          <a:stretch/>
        </p:blipFill>
        <p:spPr>
          <a:xfrm>
            <a:off x="5940360" y="1700280"/>
            <a:ext cx="2808360" cy="2520720"/>
          </a:xfrm>
          <a:prstGeom prst="rect">
            <a:avLst/>
          </a:prstGeom>
          <a:ln w="0">
            <a:noFill/>
          </a:ln>
        </p:spPr>
      </p:pic>
      <p:sp>
        <p:nvSpPr>
          <p:cNvPr id="632" name="WordArt 9"/>
          <p:cNvSpPr txBox="1"/>
          <p:nvPr/>
        </p:nvSpPr>
        <p:spPr>
          <a:xfrm>
            <a:off x="3348000" y="0"/>
            <a:ext cx="547200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Бросок в движен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633" name="WordArt 10"/>
          <p:cNvSpPr txBox="1"/>
          <p:nvPr/>
        </p:nvSpPr>
        <p:spPr>
          <a:xfrm>
            <a:off x="5435640" y="4581360"/>
            <a:ext cx="32400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посл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дриблин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5T10:02:55Z</dcterms:created>
  <dc:creator>No name</dc:creator>
  <dc:description/>
  <dc:language>en-US</dc:language>
  <cp:lastModifiedBy>1</cp:lastModifiedBy>
  <dcterms:modified xsi:type="dcterms:W3CDTF">2016-11-30T17:31:22Z</dcterms:modified>
  <cp:revision>34</cp:revision>
  <dc:subject/>
  <dc:title>Слайд 1</dc:title>
</cp:coreProperties>
</file>