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61C1-7532-493C-A8EF-4845724DA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BDD3-876C-4333-8B89-CD83DF9A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9339-298A-4EC2-9136-8748FE431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5F0D-DD1A-4228-ADB6-E58118EE6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E67B-1E06-49FB-B6BB-ADCDAC58A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4FBE-A46C-43BA-895B-9DD29211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CEEB-D890-48A5-9C4A-2CFC4970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2AB0-D66E-4806-8262-C967E96F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CE0A-092F-4F3C-971D-66F38EC8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6535-063A-41EB-9764-380C5BA3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ACFEA-DC1E-4716-843B-49A08EF6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19CE-375F-4559-AE1B-2C5CDAF3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D59A-0E42-4A06-80E0-63A8D249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F839-D30C-4216-93ED-A001DA58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6798B-68D1-4EDB-9593-9B732834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FDF2-1B4E-4DEB-A19A-222B0731F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1094-B288-434E-9485-BE0E885B9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A171-B6CF-492B-8F6D-16B99BD5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0DE7-C953-4983-8B21-416B451C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E01E-2AF9-4FF8-A7A3-F4165E34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188C-29D6-443D-9520-E42C3FE1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9ADD-1D2D-44BE-BE57-DA95F916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D70C-70FB-4506-B60C-0502E881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12B4-AD72-413F-97ED-CD4A3A5C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7BDE-9669-4C18-9C48-B009DE8FE6B7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C508-D9BC-4561-9EB2-5BE6624CF0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FB72-9B5E-41E3-87F1-AED6E4A5AE34}" type="datetime">
              <a:rPr b="0" lang="ru-RU" sz="1000" spc="-1" strike="noStrike">
                <a:solidFill>
                  <a:srgbClr val="336666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3570-F231-45F5-A491-41A8F50048F9}" type="slidenum">
              <a:rPr b="0" lang="ru-RU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18920" y="1890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Групповые формы работ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Содержимое 2" descr=""/>
          <p:cNvPicPr/>
          <p:nvPr/>
        </p:nvPicPr>
        <p:blipFill>
          <a:blip r:embed="rId1"/>
          <a:stretch/>
        </p:blipFill>
        <p:spPr>
          <a:xfrm>
            <a:off x="1542960" y="2103480"/>
            <a:ext cx="7113600" cy="415116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3"/>
          <p:cNvSpPr/>
          <p:nvPr/>
        </p:nvSpPr>
        <p:spPr>
          <a:xfrm>
            <a:off x="4449600" y="3244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93" name="Picture 5" descr="C:\Users\Admin\Desktop\3030606.png"/>
          <p:cNvPicPr/>
          <p:nvPr/>
        </p:nvPicPr>
        <p:blipFill>
          <a:blip r:embed="rId2"/>
          <a:stretch/>
        </p:blipFill>
        <p:spPr>
          <a:xfrm>
            <a:off x="468360" y="2133720"/>
            <a:ext cx="4400640" cy="3979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7010640" cy="4114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Admin\Desktop\slide_17.jpg"/>
          <p:cNvPicPr/>
          <p:nvPr/>
        </p:nvPicPr>
        <p:blipFill>
          <a:blip r:embed="rId2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4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shutterstock_55532584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WordArt 7"/>
          <p:cNvSpPr txBox="1"/>
          <p:nvPr/>
        </p:nvSpPr>
        <p:spPr>
          <a:xfrm>
            <a:off x="2214720" y="27000"/>
            <a:ext cx="6929280" cy="13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a50021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хнология </a:t>
            </a:r>
            <a:endParaRPr b="0" lang="en-US" sz="1800" spc="1" strike="noStrike">
              <a:ln w="0">
                <a:noFill/>
              </a:ln>
              <a:solidFill>
                <a:srgbClr val="a50021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a50021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ыслительных шляп </a:t>
            </a:r>
            <a:endParaRPr b="0" lang="en-US" sz="1800" spc="1" strike="noStrike">
              <a:ln w="0">
                <a:noFill/>
              </a:ln>
              <a:solidFill>
                <a:srgbClr val="a50021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0" name="WordArt 9"/>
          <p:cNvSpPr txBox="1"/>
          <p:nvPr/>
        </p:nvSpPr>
        <p:spPr>
          <a:xfrm rot="15782400">
            <a:off x="1217160" y="4190760"/>
            <a:ext cx="895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блема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50560" y="1125000"/>
            <a:ext cx="342900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285800" y="1357200"/>
            <a:ext cx="4286520" cy="4803840"/>
          </a:xfrm>
          <a:prstGeom prst="rect">
            <a:avLst/>
          </a:prstGeom>
          <a:solidFill>
            <a:srgbClr val="e0e0eb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презентуют свои идеи остальным членам груп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Исследования, предложения, новые идеи, возможности, альтернати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Что можно предпринять в данном случа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shutterstock_90460822"/>
          <p:cNvPicPr/>
          <p:nvPr/>
        </p:nvPicPr>
        <p:blipFill>
          <a:blip r:embed="rId1"/>
          <a:stretch/>
        </p:blipFill>
        <p:spPr>
          <a:xfrm>
            <a:off x="179280" y="1125360"/>
            <a:ext cx="3529080" cy="5472360"/>
          </a:xfrm>
          <a:prstGeom prst="rect">
            <a:avLst/>
          </a:prstGeom>
          <a:ln w="0">
            <a:noFill/>
          </a:ln>
        </p:spPr>
      </p:pic>
      <p:sp>
        <p:nvSpPr>
          <p:cNvPr id="104" name="WordArt 6"/>
          <p:cNvSpPr txBox="1"/>
          <p:nvPr/>
        </p:nvSpPr>
        <p:spPr>
          <a:xfrm>
            <a:off x="357120" y="285840"/>
            <a:ext cx="8497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1" strike="noStrike">
                <a:ln w="0">
                  <a:noFill/>
                </a:ln>
                <a:solidFill>
                  <a:srgbClr val="000099"/>
                </a:solidFill>
                <a:latin typeface="Arial"/>
              </a:rPr>
              <a:t>Новаторы - «шапка -  невидимка»</a:t>
            </a:r>
            <a:endParaRPr b="0" lang="en-US" sz="500" spc="1" strike="noStrike">
              <a:ln w="0">
                <a:noFill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575784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ессимисты – 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      «зелёная шляп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714560" y="272520"/>
            <a:ext cx="397188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28760" y="1642680"/>
            <a:ext cx="4357440" cy="492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деляют все отрицательные, непродуманные, неучтенные моменты презентуемой иде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Осторожность, истина, здравый смысл и соответствие факт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работает ли это? Насколько это безопасно? Осуществима ли эта идея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shutterstock_64159573"/>
          <p:cNvPicPr/>
          <p:nvPr/>
        </p:nvPicPr>
        <p:blipFill>
          <a:blip r:embed="rId1"/>
          <a:stretch/>
        </p:blipFill>
        <p:spPr>
          <a:xfrm>
            <a:off x="4714920" y="378000"/>
            <a:ext cx="3857760" cy="6480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52352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10516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70B7-921F-4EBC-811B-E80F5F89578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13" name="Picture 7" descr="shutterstock_47081191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WordArt 11"/>
          <p:cNvSpPr txBox="1"/>
          <p:nvPr/>
        </p:nvSpPr>
        <p:spPr>
          <a:xfrm>
            <a:off x="5435640" y="1628640"/>
            <a:ext cx="280836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тимисты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571680" y="1978920"/>
            <a:ext cx="3071520" cy="448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Times New Roman"/>
              </a:rPr>
              <a:t>«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Желтая шляпа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Times New Roman"/>
              </a:rPr>
              <a:t>выделяют все положительные моменты презентуемой идеи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Times New Roman"/>
              </a:rPr>
              <a:t>Преимущества, выгода.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Times New Roman"/>
              </a:rPr>
              <a:t>Зачем это делать?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Times New Roman"/>
              </a:rPr>
              <a:t>Каковы будут результаты?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Times New Roman"/>
              </a:rPr>
              <a:t>Стоит ли это делать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5480" y="190440"/>
            <a:ext cx="82486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Эксперты - «синяя шляп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499760" y="1356840"/>
            <a:ext cx="4429080" cy="5286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ценивают работу каждой творческой группы с точки зрения поставленной перед каждой группой целью деятельности, обосновывают свое мн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- Размышление, контроль над мыслительным процессом, подведение итогов на данном этапе, определение следующего шаг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- Насколько раскрыта предложенная идея, обосновано суждени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- Существуют ли альтернативные иде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C:\Users\Галина\Desktop\картинки с шаттерстока\shutterstock_31264333.jpg"/>
          <p:cNvPicPr/>
          <p:nvPr/>
        </p:nvPicPr>
        <p:blipFill>
          <a:blip r:embed="rId1"/>
          <a:stretch/>
        </p:blipFill>
        <p:spPr>
          <a:xfrm>
            <a:off x="6173640" y="1714680"/>
            <a:ext cx="2594160" cy="471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E:\картинки с шаттерстока\shutterstock_29235634.jpg"/>
          <p:cNvPicPr/>
          <p:nvPr/>
        </p:nvPicPr>
        <p:blipFill>
          <a:blip r:embed="rId1"/>
          <a:stretch/>
        </p:blipFill>
        <p:spPr>
          <a:xfrm>
            <a:off x="3643200" y="0"/>
            <a:ext cx="2571840" cy="450072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4438800"/>
            <a:ext cx="9156960" cy="1584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16:51:48Z</dcterms:created>
  <dc:creator>Владелец</dc:creator>
  <dc:description/>
  <dc:language>en-US</dc:language>
  <cp:lastModifiedBy>Admin</cp:lastModifiedBy>
  <dcterms:modified xsi:type="dcterms:W3CDTF">2016-11-23T19:51:58Z</dcterms:modified>
  <cp:revision>145</cp:revision>
  <dc:subject/>
  <dc:title>Цифровые образовательные ресурсы, разработанные в рамках федеральных программ и проектов</dc:title>
</cp:coreProperties>
</file>