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9E9-E183-4BE5-9A3B-EE15375B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92B-7AA7-4DAA-A99F-F2AB5C5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76A-4DF6-4E4C-9220-3A508046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506-0800-4E24-B627-0A8015B0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1FC-411E-44B3-AB5D-BCE9B666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E60-DC23-439D-885E-6B409BB0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818-ED7D-4209-8642-86E6266C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389-9940-4866-96A2-BD082963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EDB-4745-4AA7-883D-9806D37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31E-A0D8-4DC1-BCE1-CDEEDC6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CE8A-6A3E-4D27-A6F1-16907621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66F-1689-4621-91CF-3BB5A0A6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A1E6-8E06-4995-8981-414DADF7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DF0-745C-4628-9388-A9BCA77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0708-743D-45E4-B6A2-F4D89D8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30E-F0D3-4E8F-BE0E-230522D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6319-8469-4ED9-82BA-7CEB54AF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EE6-26DF-458A-9487-F9F84EB2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796-EE03-48AA-8765-9658CDD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705-CCB3-46EA-941A-340068E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895-8663-42AA-96E7-3970ADC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3B4-FD29-4497-931F-13BB86B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7EA-6C92-4586-828D-31A26BB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7AD-A57C-4ABA-B88F-DA5CC44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DE1C-E805-44A3-A662-162D3AC713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19EB-6340-4263-A4D5-BDB21C3F2A2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boru.ru/design/ill_kindergarte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est-gif.narod.ru/11111/1007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вый раз в детский са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Картинка 5 из 39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052640"/>
            <a:ext cx="4048200" cy="3457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28840" y="500040"/>
            <a:ext cx="746424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дготовить ребенк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Для этого хорошо бы иногда гулять на территории детского сад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ознакомьтесь заранее с воспитателем группы. Расскажите об индивидуальных особенностях вашего ребенка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остарайтесь заранее подготовить ребенка к режиму дня детского сада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Учите его общению с другими детьми и взрослыми: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посещайте с ним детские парки, площадки, приучайте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к игре в песочнице, ходите в гости к друзьям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•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Но самое мощное и доступное средство – это волшебство сказки. Сочините для своего малыша историю о том, как малыш пошел в садик, и поиграйте в эту историю. Маленькие дети больше откликаются на персонажей зверей и легче себя с ними идентифицируют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77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Не делайте ошиб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сожалению, иногда родители совершают серьезные ошибк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е затрудняют адаптацию ребенка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его нельзя дел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и в коем случае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Нельзя наказыват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ли сердиться на малыша за то, что он плачет при расставании или дома при упоминании необходимости идти в сад! Помните, он имеет право на такую реакцию. Строгое напоминание о том, что «он обещал не плакать», – тоже абсолютно не эффективно. Дети этого возраста еще не умеют «держать слово». Лучше еще раз напомните, что вы обязательно придет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Нельзя пугать детским сад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«Вот будешь себя плохо вести, опять в детский сад пойдешь!»). Место, которым пугают, никогда не станет ни любимым, ни безопасны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Нельзя плохо отзываться о воспитателях и саде при ребенк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Это может навести малыша на мысль, что сад – это нехорошее место и его окружают плохие люди. Тогда тревога не пройдет вообщ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Нельзя обманывать ребенка</a:t>
            </a:r>
            <a:r>
              <a:rPr b="0" lang="ru-RU" sz="1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воря, что вы придете очень скоро, если малышу, например, предстоит оставаться в садике полдня или даже полный ден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727092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озрастные периоды психического развития ребен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5733720"/>
            <a:ext cx="115236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56800" y="571320"/>
            <a:ext cx="7962840" cy="55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1 год 6 месяцев ребено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ржит в кулачке ложку, ест (частично) жидкую и полужидкую пищу, пьет из чашки (почти не проливая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ицательно относится к нарушению опрятност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ает о физиологических потребностях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койно относится к умыван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834920" y="549360"/>
            <a:ext cx="6546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1 год 9 месяцев ребенок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остоятельно снимает (стягивает) шапку и обувь, частично одевается (натягивает шапку, надевает туфли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ращает внимание на грязное лицо и рук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контролирует физиологические потребност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роявляет стремление к самостоятельным действия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знает места хранения одежды, игрушек и других вещ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920" y="475920"/>
            <a:ext cx="71229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2 года ребено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т аккуратно, не облизываясь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умывании трет ладони и части лица, вытирается при помощи взрослого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остоятельно одевается (натягивает носки, шапку, обувь при незначительной помощи взрослого), частично раздеваетс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ет места хранения одежды, обуви, игрушек и посуды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ьзуется носовым платком (при напоминании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ирует физиологические потребности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    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13880" y="0"/>
            <a:ext cx="774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5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2 года 6 месяцев ребенок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евается и раздевается с незначительной помощью взрослого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егивает и застегивает одну-две пугов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3 года ребенок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ладывает свою одежду перед сно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стегивает несколько пуговиц, завязывает (связывает) шнурк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яет поручения из двух-трех действий (отнеси, поставь, принеси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еет мыть руки с мылом, умываться, вытираться полотенце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ьзуется носовым платко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гулирует свои физиологические потребност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куратно ест, правильно держит ложку, пользуется салфеткой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ворит слова благодарности, здоровается, прощаетс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280" y="6237360"/>
            <a:ext cx="36036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58764058_Risunok1"/>
          <p:cNvPicPr/>
          <p:nvPr/>
        </p:nvPicPr>
        <p:blipFill>
          <a:blip r:embed="rId1"/>
          <a:stretch/>
        </p:blipFill>
        <p:spPr>
          <a:xfrm>
            <a:off x="1187280" y="476280"/>
            <a:ext cx="2019600" cy="390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6312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КУМЕНТЫ, НЕОБХОДИМЫЕ ПРИ ПОСТУПЛЕНИИ РЕБЕНКА В ДЕТСКИЙ СА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МЕДИЦИНСКАЯ КАРТА РЕБЕНКА (Ф- 026у ) + ПРИВИВОЧНАЯ КАРТА (Ф- 063у 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КОПИЯ  МЕДИЦИНСКОГО СТРАХОВОГО ПОЛИ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КОПИЯ СВИДЕТЕЛЬСТВА О РОЖДЕНИИ РЕБЕН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ЗАЯВЛЕНИЕ ОТ РОДИТЕЛЕЙ (законных представителей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ДОГОВОР МЕЖДУ РОДИТЕЛЯМИ (законными представителями) И ДЕТСКИМ САДО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формационная справ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ский сад  № 2498 открылся 01.06.200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етском саду функционирует 12 групп, из них 2 группы раннего развития, 10 групп дошкольного возраста, которые посещают 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жим работы дошкольного учреждения: 7.00- 19.00. Пятидневная рабочая нед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ая цель: всестороннее развитие личности ребе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ритетное направл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ad4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2920" y="213840"/>
            <a:ext cx="885816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pic>
        <p:nvPicPr>
          <p:cNvPr id="160" name="Picture 4" descr="Картинка 10 из 39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620640"/>
            <a:ext cx="5040360" cy="476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4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умайте сами, решайте сами…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6092640"/>
            <a:ext cx="1077840" cy="1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Недостатки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емь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программы воспитания, наличие отрывочных представлений у родителей о воспитании, использование родителями случайной педагогической литературы. Стихийный характер воспитания и обучения ребенка. Недостаток общения с детьми в игре. Неумение дать ребенку объективную характеристику, проанализировать свои методы воспита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тский са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ловая форма общения воспитателя с детьми, сниженная его интимность, эмоциональная недостаточность.. Обращенность воспитателя ко всем детям, недостаточность индивидуального общения с каждым ребенком. Сравнительная жесткость режима дня. Общение с детьми одного возрас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Comic Sans MS"/>
              </a:rPr>
              <a:t>Преиму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еленаправленный характер воспитания и обучения детей. Условия жизни и быта научно разработаны для воспитания и обучения детей. Применение методов воспитания, обучения, адекватных возрастным особенностям и возможностям дошкольников, понимание их духовных потребност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85880" y="714240"/>
            <a:ext cx="7596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. Сем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авнительно "мягкие" отношения между родителями и ребенком, эмоциональная насыщенность отношений. Индивидуальная обращенность педагогических воздействий к ребенку. Подвижный режим дня. Возможность общаться с детьми-родственниками разных возраст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41:12Z</dcterms:created>
  <dc:creator>DeusDm</dc:creator>
  <dc:description/>
  <dc:language>en-US</dc:language>
  <cp:lastModifiedBy>ДС2498</cp:lastModifiedBy>
  <dcterms:modified xsi:type="dcterms:W3CDTF">2016-11-29T12:01:17Z</dcterms:modified>
  <cp:revision>214</cp:revision>
  <dc:subject/>
  <dc:title>Слайд 1</dc:title>
</cp:coreProperties>
</file>