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3.png" ContentType="image/png"/>
  <Override PartName="/ppt/media/image6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D66-3236-462B-9B64-DF4D4778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DDB-18A0-4912-8894-A59690B8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AD3-9863-4011-BBCA-CFF78407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647-2740-4B97-A995-9FA0AD16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D48A-240A-4FC2-80C0-0D452B9B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4F50-AB29-4461-BCCE-036F9AA7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A48B-FB96-437C-8DBD-82F1E96B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98D4-B710-4B14-917A-F3CD96F2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927C-1987-44D8-851B-988EB053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8B7A-1565-4146-A5FD-E05DB05F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1B17-1C5A-408C-A28D-95978052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C22-C260-45C5-B30F-FA745C41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614D-A873-46D4-9E33-C5A32DE7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A316-6BF8-4568-B13C-29A2C5B1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3BC6-6FA6-4D6A-A38C-FC574C97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D762-F21C-496D-9A10-2609D8F4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8840-7630-4903-831B-CBB0BE82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B888-33AB-4B63-A64C-F6933EB8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0A59C-B5FB-4F4E-B32B-9B634BCA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DB7E1-DB6A-4317-B259-19DA103F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E4385-9C88-40B2-BD05-4B61B478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1D43-D3F9-4A44-97CB-9B9DDFD1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0C7C-F797-4B51-B47C-C1D3BB68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1E398-3749-4CF8-83BB-AE185503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51F58-8E3F-416B-B303-5D5D14BA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8C35-9E88-42D2-851D-4A7D055B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0C737-6F63-4179-823D-87C79751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A7546-94B9-4781-9DE9-25347365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64F27-EF45-4C5A-9D77-1A5F3750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76A07-A2BA-41BA-BD6D-70C46E5A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650C2-9195-47EF-A2C7-C249713C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D2E7E-7E67-465C-ADBD-6AF09FC8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254E9-9BBB-49C8-A2C8-4BF30C6D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0589-F138-4F43-91F8-C59889F9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3D107-69CB-442C-AE5F-0D68432C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F8728-1E5D-47FE-A1BF-D1C1899B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B2886-42FB-4639-B947-8A273E93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1FDD8-59DF-42D5-8FEF-D4E478A4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B2D09-5799-46A8-B586-AD2F7F5C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0E0EA-B0E6-4D15-A774-7316B1D3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D0317-42AD-45E8-B687-FE496CBE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F761E-87FA-4D35-BCC2-0E6FBC3B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D2515-1E9C-4E22-8C4D-F011428E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ABF-16B4-43BF-A2B9-DEF571B1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08E-C01D-410D-BC51-75256014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73D-B2E7-4DAC-ACC0-C53EAD75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DB8-9F98-4490-91BF-77FBFFFE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270-80AE-4CAD-AE02-5839240A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1BAD-71AF-412D-84DD-66485D476228}" type="slidenum">
              <a:rPr b="0" lang="ru-RU" sz="1200" spc="-1" strike="noStrike">
                <a:solidFill>
                  <a:srgbClr val="4a382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bee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0e3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0e3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0e3c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AD77-2690-48A3-9B23-69062AE86DAD}" type="slidenum">
              <a:rPr b="0" lang="ru-RU" sz="1200" spc="-1" strike="noStrike">
                <a:solidFill>
                  <a:srgbClr val="f0e3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bee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0e3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0e3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0e3c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4342-5959-45AA-9986-CEB76DC85D9A}" type="slidenum">
              <a:rPr b="0" lang="ru-RU" sz="1200" spc="-1" strike="noStrike">
                <a:solidFill>
                  <a:srgbClr val="f0e3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3095-CDF7-4BD8-BCA9-BED8FFCD1EC4}" type="slidenum">
              <a:rPr b="0" lang="ru-RU" sz="1200" spc="-1" strike="noStrike">
                <a:solidFill>
                  <a:srgbClr val="4a382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09440" y="-530280"/>
            <a:ext cx="8785440" cy="660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-262080" y="401760"/>
            <a:ext cx="96141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493560" y="334800"/>
            <a:ext cx="8302680" cy="1524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Users\USER\Desktop\Новая папка\DSC03806.JPG"/>
          <p:cNvPicPr/>
          <p:nvPr/>
        </p:nvPicPr>
        <p:blipFill>
          <a:blip r:embed="rId2"/>
          <a:stretch/>
        </p:blipFill>
        <p:spPr>
          <a:xfrm>
            <a:off x="2503440" y="1819440"/>
            <a:ext cx="3397320" cy="45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-682560" y="907920"/>
            <a:ext cx="5937120" cy="1944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6"/>
          <p:cNvSpPr/>
          <p:nvPr/>
        </p:nvSpPr>
        <p:spPr>
          <a:xfrm>
            <a:off x="5016600" y="321300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вает он хала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имает шокола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C:\Users\USER\Desktop\Новая папка\DSC03776.JPG"/>
          <p:cNvPicPr/>
          <p:nvPr/>
        </p:nvPicPr>
        <p:blipFill>
          <a:blip r:embed="rId2"/>
          <a:stretch/>
        </p:blipFill>
        <p:spPr>
          <a:xfrm>
            <a:off x="826920" y="2637000"/>
            <a:ext cx="4351680" cy="326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5175360" y="1627200"/>
            <a:ext cx="3792600" cy="17557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6"/>
          <p:cNvSpPr/>
          <p:nvPr/>
        </p:nvSpPr>
        <p:spPr>
          <a:xfrm>
            <a:off x="5219640" y="390204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кузов у нее помят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фары больше не горя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C:\Users\USER\Desktop\Новая папка\DSC03790.JPG"/>
          <p:cNvPicPr/>
          <p:nvPr/>
        </p:nvPicPr>
        <p:blipFill>
          <a:blip r:embed="rId2"/>
          <a:stretch/>
        </p:blipFill>
        <p:spPr>
          <a:xfrm>
            <a:off x="192240" y="2060640"/>
            <a:ext cx="4356000" cy="326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12760" y="1341360"/>
            <a:ext cx="3809880" cy="194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Users\USER\Desktop\Новая папка\DSC03795.JPG"/>
          <p:cNvPicPr/>
          <p:nvPr/>
        </p:nvPicPr>
        <p:blipFill>
          <a:blip r:embed="rId2"/>
          <a:stretch/>
        </p:blipFill>
        <p:spPr>
          <a:xfrm>
            <a:off x="4643280" y="2060640"/>
            <a:ext cx="4467240" cy="33494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"/>
          <p:cNvSpPr/>
          <p:nvPr/>
        </p:nvSpPr>
        <p:spPr>
          <a:xfrm>
            <a:off x="395280" y="355752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вай мне, мама, руку,</a:t>
            </a:r>
            <a:br>
              <a:rPr sz="2700"/>
            </a:b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йдем в театр кукол!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4711680" y="334800"/>
            <a:ext cx="4432320" cy="1573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USER\Desktop\Новая папка\DSC03764.JPG"/>
          <p:cNvPicPr/>
          <p:nvPr/>
        </p:nvPicPr>
        <p:blipFill>
          <a:blip r:embed="rId2"/>
          <a:stretch/>
        </p:blipFill>
        <p:spPr>
          <a:xfrm>
            <a:off x="2257560" y="18446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3"/>
          <p:cNvSpPr/>
          <p:nvPr/>
        </p:nvSpPr>
        <p:spPr>
          <a:xfrm>
            <a:off x="336600" y="5589720"/>
            <a:ext cx="387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дивляемся всему: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? Зачем? И почему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5035680" y="2852640"/>
            <a:ext cx="3943080" cy="1835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C:\Users\USER\Desktop\Новая папка\DSC03752.JPG"/>
          <p:cNvPicPr/>
          <p:nvPr/>
        </p:nvPicPr>
        <p:blipFill>
          <a:blip r:embed="rId2"/>
          <a:stretch/>
        </p:blipFill>
        <p:spPr>
          <a:xfrm>
            <a:off x="1116000" y="1773360"/>
            <a:ext cx="3506760" cy="467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3346560" y="2133720"/>
            <a:ext cx="6699240" cy="2803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C:\Users\USER\Desktop\Новая папка\DSC03758.JPG"/>
          <p:cNvPicPr/>
          <p:nvPr/>
        </p:nvPicPr>
        <p:blipFill>
          <a:blip r:embed="rId2"/>
          <a:stretch/>
        </p:blipFill>
        <p:spPr>
          <a:xfrm>
            <a:off x="395280" y="907920"/>
            <a:ext cx="3943440" cy="525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157640" y="2554200"/>
            <a:ext cx="5005440" cy="245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USER\Desktop\Новая папка\DSC03801.JPG"/>
          <p:cNvPicPr/>
          <p:nvPr/>
        </p:nvPicPr>
        <p:blipFill>
          <a:blip r:embed="rId2"/>
          <a:stretch/>
        </p:blipFill>
        <p:spPr>
          <a:xfrm>
            <a:off x="179280" y="1319040"/>
            <a:ext cx="401184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08:11:32Z</dcterms:created>
  <dc:creator>hp</dc:creator>
  <dc:description/>
  <dc:language>en-US</dc:language>
  <cp:lastModifiedBy>ПК</cp:lastModifiedBy>
  <dcterms:modified xsi:type="dcterms:W3CDTF">2016-11-30T17:42:45Z</dcterms:modified>
  <cp:revision>42</cp:revision>
  <dc:subject/>
  <dc:title>Слайд 1</dc:title>
</cp:coreProperties>
</file>