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D12-F981-4EFD-8E6E-F206541F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0C2-B77D-4F11-B357-79B6376A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25C-6C9E-43D1-B5D6-22383522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1AA-E56B-4891-8D83-7CE781E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F3C6-8BA7-41F0-A488-07430D08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FB4-0D04-4242-9715-91D119C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09FD-C5E8-4997-B379-D46B20F7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F591-96F3-4A62-A34C-772733E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439-4DA0-43FB-96D9-0E09466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8E9-B610-4E66-BCC5-094680C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99DA-3E07-491D-8A9B-DF8E976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01C-3338-4619-95D2-9E50C67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CAC5-3A67-4584-BC07-238E7EB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1104-6362-47D5-8CE2-C8D85D1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E306-FCD4-477C-823A-5DA306C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A48-7FFB-495D-9E91-F8A6F5F2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5BA-17A9-4D3F-BEBD-F354B82A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76B9-DFAD-4C10-A4F9-32C6800D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26B9-0768-4F4A-A01F-CCDA3B01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8AA3-3AFA-458A-9FF4-DB86DFE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EAD9-F746-42DF-8EDB-2FA6871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1B95-BBC1-48DA-A7BE-784838C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02F-7A7B-495F-96F3-7494469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CACA-80F1-44AF-9FC7-EB0D9E1D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BFC3-C927-4CE2-8029-8A88EE4F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7375-D39C-42B2-B5D4-E55BF67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8890-1B57-4FAE-8C5B-195A1760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32E8-42AE-4B64-8EF5-8052805E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F942-A31C-49B8-BB93-C5DE7256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1572-80E0-408C-9830-9CD3EC9C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D11-3561-45E8-9531-218A885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05C-8E9F-41E2-81BE-4B3230F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EAD-5DFB-44C1-9256-2B329B73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F62-F13E-45D5-9311-E3D5A84B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5F1-C200-4B88-A3A7-A26A20B0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1C8-66AF-418D-A7FD-2ACAFE3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47b9"/>
            </a:gs>
            <a:gs pos="100000">
              <a:srgbClr val="452055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982C72-2786-4D2E-AC80-CE97B7D49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47b9"/>
            </a:gs>
            <a:gs pos="100000">
              <a:srgbClr val="452055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9E9C55-6060-4811-BADC-41E050442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47b9"/>
            </a:gs>
            <a:gs pos="100000">
              <a:srgbClr val="452055"/>
            </a:gs>
          </a:gsLst>
          <a:path path="rect">
            <a:fillToRect l="0" t="0" r="10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7F9119-E8B8-4036-868F-B5C7FC10C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ekman.heninen.net/alfred/mogikan/lermontov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lub.itdrom.com/files/gallery/gal_photo/photo_etc/497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eb-web.ru/feb/lermenc/Pictures/Lre240-1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хаил Юрьевич Лермонтов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(1814-1841)</a:t>
            </a:r>
            <a:endParaRPr b="0" lang="pl-PL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6624360" cy="5382720"/>
          </a:xfrm>
          <a:prstGeom prst="rect">
            <a:avLst/>
          </a:prstGeom>
          <a:ln w="19050">
            <a:solidFill>
              <a:srgbClr val="666699"/>
            </a:solidFill>
            <a:miter/>
          </a:ln>
        </p:spPr>
      </p:pic>
      <p:pic>
        <p:nvPicPr>
          <p:cNvPr id="127" name="Picture 19" descr="42"/>
          <p:cNvPicPr/>
          <p:nvPr/>
        </p:nvPicPr>
        <p:blipFill>
          <a:blip r:embed="rId2"/>
          <a:stretch/>
        </p:blipFill>
        <p:spPr>
          <a:xfrm>
            <a:off x="108000" y="3429000"/>
            <a:ext cx="2376000" cy="1128240"/>
          </a:xfrm>
          <a:prstGeom prst="rect">
            <a:avLst/>
          </a:prstGeom>
          <a:ln w="9525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24360" cy="5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оды жизни в Москве</a:t>
            </a:r>
            <a:br>
              <a:rPr sz="2000"/>
            </a:b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00720" y="2492280"/>
            <a:ext cx="4530240" cy="151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ды жизни в Москве имели большое значение для развития таланта Лермонтова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535280" cy="302868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  <p:pic>
        <p:nvPicPr>
          <p:cNvPr id="157" name="Picture 12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4033440" cy="2568240"/>
          </a:xfrm>
          <a:prstGeom prst="rect">
            <a:avLst/>
          </a:prstGeom>
          <a:ln w="19050">
            <a:solidFill>
              <a:srgbClr val="666699"/>
            </a:solidFill>
            <a:miter/>
          </a:ln>
        </p:spPr>
      </p:pic>
      <p:sp>
        <p:nvSpPr>
          <p:cNvPr id="158" name="Text Box 13"/>
          <p:cNvSpPr/>
          <p:nvPr/>
        </p:nvSpPr>
        <p:spPr>
          <a:xfrm>
            <a:off x="5076720" y="907920"/>
            <a:ext cx="3887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осква, Москва… Люблю тебя как сын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ак русский, - сильно, пламенно и нежно!                  М. Ю. 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69080" cy="1352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Жизнь в Петербурге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Увы, как скучен этот город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С своим туманом и водой…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М. Ю. Лермонтов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32360" y="2421000"/>
            <a:ext cx="4066920" cy="388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начале     Петербург увлек юношу блеском светской   жизни, балами, маскарадами, но   вскоре   он  понял свет, где  под  маской приличия скрывались равнодушие, лицемерие, стремление к власти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piter_4"/>
          <p:cNvPicPr/>
          <p:nvPr/>
        </p:nvPicPr>
        <p:blipFill>
          <a:blip r:embed="rId1"/>
          <a:stretch/>
        </p:blipFill>
        <p:spPr>
          <a:xfrm>
            <a:off x="250920" y="2565360"/>
            <a:ext cx="4752720" cy="338436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36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Пистолетный выстрел, убивший Пушкина, разбудил Лермонтова»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В. Г. Белинский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5113080" cy="136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583c36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звестность пришла к Лермонтову в дни трагической гибели Пушкина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384360" cy="410508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284360" cy="3126960"/>
          </a:xfrm>
          <a:prstGeom prst="rect">
            <a:avLst/>
          </a:prstGeom>
          <a:ln w="19050">
            <a:solidFill>
              <a:srgbClr val="944678"/>
            </a:solidFill>
            <a:miter/>
          </a:ln>
        </p:spPr>
      </p:pic>
      <p:sp>
        <p:nvSpPr>
          <p:cNvPr id="166" name="Text Box 13"/>
          <p:cNvSpPr/>
          <p:nvPr/>
        </p:nvSpPr>
        <p:spPr>
          <a:xfrm>
            <a:off x="250920" y="5373720"/>
            <a:ext cx="4320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just">
              <a:lnSpc>
                <a:spcPct val="100000"/>
              </a:lnSpc>
              <a:spcBef>
                <a:spcPts val="360"/>
              </a:spcBef>
              <a:buSzPct val="100112"/>
              <a:buBlip>
                <a:blip r:embed="rId3"/>
              </a:buBlip>
            </a:pPr>
            <a:r>
              <a:rPr b="1" lang="ru-RU" sz="1800" spc="-1" strike="noStrike">
                <a:solidFill>
                  <a:srgbClr val="583c36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трясенный гибелью     Пушкина, Лермонтов написан стихотворение «Смерть поэ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64036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«Погиб поэт! – невольник чести -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ал, оклеветанный молвой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 свинцом в груди и жаждой мести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оникнув гордой головой»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М. Ю. Лермонтов</a:t>
            </a:r>
            <a:br>
              <a:rPr sz="4000"/>
            </a:b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3640" y="2852640"/>
            <a:ext cx="3816000" cy="36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том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ихотворении Лермонтов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ткрыто обвинил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шее обществ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в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мерти Пушкина, назвал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дворных «палачами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Свободы, Гения и Славы»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777920" cy="3600000"/>
          </a:xfrm>
          <a:prstGeom prst="rect">
            <a:avLst/>
          </a:prstGeom>
          <a:ln w="19050">
            <a:solidFill>
              <a:srgbClr val="666699"/>
            </a:solidFill>
            <a:miter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78560" cy="50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пуск Лермонтова в Петербурге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413000"/>
            <a:ext cx="4176360" cy="18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2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 1840  году  благодаря хлопотам бабушки Лермонтов снова приезжает в Петербург.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762080" cy="3219120"/>
          </a:xfrm>
          <a:prstGeom prst="rect">
            <a:avLst/>
          </a:prstGeom>
          <a:ln w="12700">
            <a:solidFill>
              <a:srgbClr val="666699"/>
            </a:solidFill>
            <a:miter/>
          </a:ln>
        </p:spPr>
      </p:pic>
      <p:pic>
        <p:nvPicPr>
          <p:cNvPr id="173" name="Picture 10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4686120" cy="3076200"/>
          </a:xfrm>
          <a:prstGeom prst="rect">
            <a:avLst/>
          </a:prstGeom>
          <a:ln w="12700">
            <a:solidFill>
              <a:srgbClr val="000000"/>
            </a:solidFill>
            <a:miter/>
          </a:ln>
        </p:spPr>
      </p:pic>
      <p:sp>
        <p:nvSpPr>
          <p:cNvPr id="174" name="Rectangle 12"/>
          <p:cNvSpPr/>
          <p:nvPr/>
        </p:nvSpPr>
        <p:spPr>
          <a:xfrm>
            <a:off x="0" y="4581360"/>
            <a:ext cx="3850920" cy="202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пер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н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звестный поэт,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втор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аких произведений,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как «Смерть поэта», «Бородино», «Родина», романа «Герой нашего време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040" cy="28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Дуэль и гибель поэта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27640" y="1197000"/>
            <a:ext cx="446544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 пути на Кавказ Лермонтов остановился в Пятигорске.</a:t>
            </a: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ам произошла его ссора с офицером Мартыновым.</a:t>
            </a: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 июля 1841 года Лермонтов был убит на дуэли Мартыновым у подножия горы Машук.</a:t>
            </a: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В жизни иногда бывают удивительные совпадения. За несколько минут до дуэли надвигалась на Машук со стороны Бештау огромная тёмная туча, «…и, как нарочно, -  рассказывает Меринский, - сильная гроза разразилась ударом грома в то самое мгновение, как выстрел из пистолет поверг Лермонтова на землю…» Казалось, что само небо отозвалось на гибель поэта стоном скорби и горючими слезами: после раската грома полил сильный дождь. </a:t>
            </a: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pl-PL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iujhnb"/>
          <p:cNvPicPr/>
          <p:nvPr/>
        </p:nvPicPr>
        <p:blipFill>
          <a:blip r:embed="rId1"/>
          <a:stretch/>
        </p:blipFill>
        <p:spPr>
          <a:xfrm>
            <a:off x="395280" y="981000"/>
            <a:ext cx="4106520" cy="558936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96000" y="274680"/>
            <a:ext cx="3168360" cy="632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третий день после дуэли хоронили Лермонтова. Гроб несли на плечах товарищи, представители всех полков, в которых служил Лермонтов. При полной тишине, общем молчании, со слезами на глазах опустили тело поэта в могилу на городском кладбищ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Картинка 28 из 19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5349600" cy="4560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5"/>
          <p:cNvPicPr/>
          <p:nvPr/>
        </p:nvPicPr>
        <p:blipFill>
          <a:blip r:embed="rId3"/>
          <a:stretch/>
        </p:blipFill>
        <p:spPr>
          <a:xfrm>
            <a:off x="395280" y="580536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7" descr="15"/>
          <p:cNvPicPr/>
          <p:nvPr/>
        </p:nvPicPr>
        <p:blipFill>
          <a:blip r:embed="rId4"/>
          <a:stretch/>
        </p:blipFill>
        <p:spPr>
          <a:xfrm>
            <a:off x="1332000" y="580536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8" descr="15"/>
          <p:cNvPicPr/>
          <p:nvPr/>
        </p:nvPicPr>
        <p:blipFill>
          <a:blip r:embed="rId5"/>
          <a:stretch/>
        </p:blipFill>
        <p:spPr>
          <a:xfrm>
            <a:off x="2411280" y="580536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9" descr="15"/>
          <p:cNvPicPr/>
          <p:nvPr/>
        </p:nvPicPr>
        <p:blipFill>
          <a:blip r:embed="rId6"/>
          <a:stretch/>
        </p:blipFill>
        <p:spPr>
          <a:xfrm>
            <a:off x="4788000" y="580536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10" descr="15"/>
          <p:cNvPicPr/>
          <p:nvPr/>
        </p:nvPicPr>
        <p:blipFill>
          <a:blip r:embed="rId7"/>
          <a:stretch/>
        </p:blipFill>
        <p:spPr>
          <a:xfrm>
            <a:off x="3564000" y="580536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11" descr="15"/>
          <p:cNvPicPr/>
          <p:nvPr/>
        </p:nvPicPr>
        <p:blipFill>
          <a:blip r:embed="rId8"/>
          <a:stretch/>
        </p:blipFill>
        <p:spPr>
          <a:xfrm>
            <a:off x="539640" y="69228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12" descr="15"/>
          <p:cNvPicPr/>
          <p:nvPr/>
        </p:nvPicPr>
        <p:blipFill>
          <a:blip r:embed="rId9"/>
          <a:stretch/>
        </p:blipFill>
        <p:spPr>
          <a:xfrm>
            <a:off x="1547640" y="69228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13" descr="15"/>
          <p:cNvPicPr/>
          <p:nvPr/>
        </p:nvPicPr>
        <p:blipFill>
          <a:blip r:embed="rId10"/>
          <a:stretch/>
        </p:blipFill>
        <p:spPr>
          <a:xfrm>
            <a:off x="4788000" y="69228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8" name="Picture 14" descr="15"/>
          <p:cNvPicPr/>
          <p:nvPr/>
        </p:nvPicPr>
        <p:blipFill>
          <a:blip r:embed="rId11"/>
          <a:stretch/>
        </p:blipFill>
        <p:spPr>
          <a:xfrm>
            <a:off x="2627280" y="692280"/>
            <a:ext cx="399600" cy="46620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15" descr="15"/>
          <p:cNvPicPr/>
          <p:nvPr/>
        </p:nvPicPr>
        <p:blipFill>
          <a:blip r:embed="rId12"/>
          <a:stretch/>
        </p:blipFill>
        <p:spPr>
          <a:xfrm>
            <a:off x="3708360" y="692280"/>
            <a:ext cx="399600" cy="466200"/>
          </a:xfrm>
          <a:prstGeom prst="rect">
            <a:avLst/>
          </a:prstGeom>
          <a:ln w="9525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788000" y="189000"/>
            <a:ext cx="4176360" cy="640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1 апреля 1842 года тело Лермонтова было привезено из Пятигорска в Тарханы и 23 апреля похоронено в склепе фамильной часовни. Близ церкви, в центре села.  Там уже были погребены мать поэта – М. М. Лермонтова и его дед по матери. Впереди их памятников на могиле поэта был постален большой памятник из чёрного мрамора.  На боковых сторонах его написан год рождения и смерти, а на обращённой к входу – только: «Михайло Юрьевич Лермонтов».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Картинка 1 из 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750920" cy="633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040" cy="1009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ождение поэта</a:t>
            </a: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67280" y="2565360"/>
            <a:ext cx="4825800" cy="180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ихаил  Юрьевич  Лермонтов родился дождливой ночью со 2  на  3  октября  1814  года в Москве, недалеко от Красных ворот. 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866760" cy="518292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65840" cy="119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Бабушка М. Ю. Лермонтова -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лизавета Алексеевна Арсеньева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0" y="2133720"/>
            <a:ext cx="5184360" cy="352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скоре после рождения мальчика семья Лермонтовых переехала в село Тарханы -  имение бабушки Елизаветы Алексеевны Арсеньевой.  </a:t>
            </a: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819240" cy="496836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12000" cy="72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ма М. Ю. Лермонтова –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рия Михайловна Арсень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2852640"/>
            <a:ext cx="4392360" cy="316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Verdana"/>
              </a:rPr>
              <a:t>    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ать Лермонтова умерла, когда ему не было и 3 лет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сле ее смерти все заботы по воспитанию мальчика взяла на себя бабушка.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93920" cy="5111280"/>
          </a:xfrm>
          <a:prstGeom prst="rect">
            <a:avLst/>
          </a:prstGeom>
          <a:ln w="19050">
            <a:solidFill>
              <a:srgbClr val="333399"/>
            </a:solidFill>
            <a:miter/>
          </a:ln>
        </p:spPr>
      </p:pic>
      <p:sp>
        <p:nvSpPr>
          <p:cNvPr id="137" name="Text Box 10"/>
          <p:cNvSpPr/>
          <p:nvPr/>
        </p:nvSpPr>
        <p:spPr>
          <a:xfrm>
            <a:off x="5292720" y="1341360"/>
            <a:ext cx="36000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Я сын страданья. Мой отец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 знал покоя под конец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слезах угасла мать моя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т них остался только я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М. 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6720" cy="72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тец М. Ю. Лермонтова –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Юрий Петрович Лермонтов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2708280"/>
            <a:ext cx="4897080" cy="309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ц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иши, Юрия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етровича Лермонтова, бабушка не любила и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ретила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му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идеться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с сыном, в противном случае всё  её движимое и недвижимое имущество должно было перейти в род Столыпиных. 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553920" cy="4824000"/>
          </a:xfrm>
          <a:prstGeom prst="rect">
            <a:avLst/>
          </a:prstGeom>
          <a:ln w="19050">
            <a:solidFill>
              <a:srgbClr val="333399"/>
            </a:solidFill>
            <a:miter/>
          </a:ln>
        </p:spPr>
      </p:pic>
      <p:sp>
        <p:nvSpPr>
          <p:cNvPr id="141" name="Text Box 10"/>
          <p:cNvSpPr/>
          <p:nvPr/>
        </p:nvSpPr>
        <p:spPr>
          <a:xfrm>
            <a:off x="4859280" y="1341360"/>
            <a:ext cx="3816000" cy="102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жасная судьба отца и сы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 разлуке жить и розно умереть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. 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36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тство Лермонтова прошл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 селе Тарханы Пензенской губернии</a:t>
            </a:r>
            <a:endParaRPr b="0" lang="pl-P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pppppp"/>
          <p:cNvPicPr/>
          <p:nvPr/>
        </p:nvPicPr>
        <p:blipFill>
          <a:blip r:embed="rId1"/>
          <a:stretch/>
        </p:blipFill>
        <p:spPr>
          <a:xfrm>
            <a:off x="395280" y="1413000"/>
            <a:ext cx="8353080" cy="4803480"/>
          </a:xfrm>
          <a:prstGeom prst="rect">
            <a:avLst/>
          </a:prstGeom>
          <a:ln w="19050">
            <a:solidFill>
              <a:srgbClr val="666699"/>
            </a:solidFill>
            <a:miter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881964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детстве мальчик переболел корью. Эта болезнь долго сказывалась на его общем физическом состоянии: «… оставила его в совершенном расслаблении: он не мог ходить». В ногах Михаила Юрьевича появилась кривизна, которая осталась на всю жизнь. Бабушка, чтобы поправить здоровье мальчика, три раза возила его ребёнком на Кавказ, на серные ванны: 1818 г., 1820 г., 1825 г.  </a:t>
            </a:r>
            <a:endParaRPr b="0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Картинка 19 из 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133720"/>
            <a:ext cx="6092640" cy="453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040" cy="103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учение в Благородном пансионе</a:t>
            </a: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35640" y="1484280"/>
            <a:ext cx="3457080" cy="396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гда Лермонтову было 13 лет, бабушка решила переехать в Москву, чтобы продолжить образование внука.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1828 по 1832 год он учится в университетском Благородном пансионе, куда принимались только дети из богатых семей.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328720" cy="4157280"/>
          </a:xfrm>
          <a:prstGeom prst="rect">
            <a:avLst/>
          </a:prstGeom>
          <a:ln w="19050">
            <a:solidFill>
              <a:srgbClr val="000000"/>
            </a:solidFill>
            <a:miter/>
          </a:ln>
        </p:spPr>
      </p:pic>
      <p:pic>
        <p:nvPicPr>
          <p:cNvPr id="149" name="Picture 5" descr="a24"/>
          <p:cNvPicPr/>
          <p:nvPr/>
        </p:nvPicPr>
        <p:blipFill>
          <a:blip r:embed="rId2"/>
          <a:stretch/>
        </p:blipFill>
        <p:spPr>
          <a:xfrm>
            <a:off x="6948360" y="4653000"/>
            <a:ext cx="987120" cy="1655280"/>
          </a:xfrm>
          <a:prstGeom prst="rect">
            <a:avLst/>
          </a:prstGeom>
          <a:ln w="9525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43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чеба в Университете</a:t>
            </a:r>
            <a:endParaRPr b="0" lang="pl-P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5157720"/>
            <a:ext cx="8496000" cy="15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 Roman"/>
              </a:rPr>
              <a:t>В 1832  году Лермонтов поступил  на словесное отделение Московского университета. 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 Roman"/>
              </a:rPr>
              <a:t>Но   через   год   из-за участия в выступлении студентов против консервативно настроенных преподавателей ему пришлось оставить университет.</a:t>
            </a: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pl-P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03640" cy="3952440"/>
          </a:xfrm>
          <a:prstGeom prst="rect">
            <a:avLst/>
          </a:prstGeom>
          <a:ln w="19050">
            <a:solidFill>
              <a:srgbClr val="666699"/>
            </a:solidFill>
            <a:miter/>
          </a:ln>
        </p:spPr>
      </p:pic>
      <p:sp>
        <p:nvSpPr>
          <p:cNvPr id="153" name="Text Box 9"/>
          <p:cNvSpPr/>
          <p:nvPr/>
        </p:nvSpPr>
        <p:spPr>
          <a:xfrm>
            <a:off x="468360" y="5516640"/>
            <a:ext cx="8280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alance</Template>
  <TotalTime>1951</TotalTime>
  <Application>LibreOffice/7.4.7.2$Linux_X86_64 LibreOffice_project/40$Build-2</Application>
  <AppVersion>15.0000</AppVersion>
  <Words>680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0:46:44Z</dcterms:created>
  <dc:creator>Kirill</dc:creator>
  <dc:description/>
  <dc:language>en-US</dc:language>
  <cp:lastModifiedBy>Kirill</cp:lastModifiedBy>
  <dcterms:modified xsi:type="dcterms:W3CDTF">2015-04-01T20:14:27Z</dcterms:modified>
  <cp:revision>68</cp:revision>
  <dc:subject/>
  <dc:title>Михаил Юрьевич Лермонтов (1814-184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  <property fmtid="{D5CDD505-2E9C-101B-9397-08002B2CF9AE}" pid="4" name="_TemplateID">
    <vt:lpwstr>TC010690541049</vt:lpwstr>
  </property>
</Properties>
</file>