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13.jpeg" ContentType="image/jpeg"/>
  <Override PartName="/ppt/media/image4.wmf" ContentType="image/x-wmf"/>
  <Override PartName="/ppt/media/image3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224-0760-4D13-8B2D-C94C2842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81A-11BD-40EF-B734-50DFB8FA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033-3A86-46C3-8B1A-41AAEED9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DD8-34BE-42FC-A113-10E8674B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B43-4672-413D-9C30-96846900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FD0-5BA1-48DE-A70F-8EE258A6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A2B-CE06-4B97-9D99-3014CA2A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F17-A3C9-48F8-AFFC-6BC44242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AD9-C6ED-463B-AD08-939A7C57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60A-9A7B-42F5-AC9E-2A15BCE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CA1-C1D0-410A-BAE8-6CCEB7F0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D64-474F-4FED-8D40-782C6487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717E-0BA7-42A2-AB85-81B4A15D0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838080" y="1447920"/>
            <a:ext cx="7620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авила безопасност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55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642840" y="469116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з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160" y="1066680"/>
            <a:ext cx="93139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Если вдруг произошла бед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Если появился сильный ды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Не теряйся и не бойся никогда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Набери по телефон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«01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5"/>
          <p:cNvSpPr txBox="1"/>
          <p:nvPr/>
        </p:nvSpPr>
        <p:spPr>
          <a:xfrm>
            <a:off x="1143000" y="1523880"/>
            <a:ext cx="73915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гра: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кончи предложени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533520" y="106668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з, два, три, четыре, у кого пожар 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ым столбом поднялся вдруг, кто не выключи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расный отблеск побежал. Кто со спичкам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85800" y="16765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квартире).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914400" y="3276720"/>
            <a:ext cx="1371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утюг).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685800" y="5562720"/>
            <a:ext cx="163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играл).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422440" y="14144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380880"/>
            <a:ext cx="8991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де с огнём беспечны люд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ам взовьётся в небо ш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ам всегда грозить нам будет зл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то в огонь бросал при этом незнакомы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мни каждый гражданин, этот номер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0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ым увидел – не зевай и пожарных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304920" y="2209680"/>
            <a:ext cx="1876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пожар). 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52280" y="3581280"/>
            <a:ext cx="2571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предметы).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304920" y="6019920"/>
            <a:ext cx="277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вызывай).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720" y="6216480"/>
            <a:ext cx="38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расная ша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79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265560" cy="56386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5" descr=""/>
          <p:cNvPicPr/>
          <p:nvPr/>
        </p:nvPicPr>
        <p:blipFill>
          <a:blip r:embed="rId2"/>
          <a:stretch/>
        </p:blipFill>
        <p:spPr>
          <a:xfrm>
            <a:off x="4267080" y="609480"/>
            <a:ext cx="4500720" cy="5791320"/>
          </a:xfrm>
          <a:prstGeom prst="rect">
            <a:avLst/>
          </a:prstGeom>
          <a:ln w="0">
            <a:noFill/>
          </a:ln>
        </p:spPr>
      </p:pic>
      <p:pic>
        <p:nvPicPr>
          <p:cNvPr id="77" name="песня шапки.mp3" descr=""/>
          <p:cNvPicPr/>
          <p:nvPr/>
        </p:nvPicPr>
        <p:blipFill>
          <a:blip r:embed="rId3"/>
          <a:stretch/>
        </p:blipFill>
        <p:spPr>
          <a:xfrm>
            <a:off x="3886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4169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 flipV="1" rot="10800000">
            <a:off x="1371240" y="2057040"/>
            <a:ext cx="670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г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Съедобное – несъедобно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668240" cy="2438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3840" y="3048120"/>
            <a:ext cx="18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езов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20" y="0"/>
            <a:ext cx="39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ъедобные гр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739400" y="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ъедобные гр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08908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478920" y="5791320"/>
            <a:ext cx="14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хом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3"/>
          <a:stretch/>
        </p:blipFill>
        <p:spPr>
          <a:xfrm>
            <a:off x="2590920" y="685800"/>
            <a:ext cx="1850760" cy="2438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3"/>
          <p:cNvSpPr/>
          <p:nvPr/>
        </p:nvSpPr>
        <p:spPr>
          <a:xfrm>
            <a:off x="259092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синов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1371600" y="3657600"/>
            <a:ext cx="227664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5"/>
          <p:cNvSpPr/>
          <p:nvPr/>
        </p:nvSpPr>
        <p:spPr>
          <a:xfrm>
            <a:off x="1905120" y="615636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7" descr=""/>
          <p:cNvPicPr/>
          <p:nvPr/>
        </p:nvPicPr>
        <p:blipFill>
          <a:blip r:embed="rId5"/>
          <a:stretch/>
        </p:blipFill>
        <p:spPr>
          <a:xfrm>
            <a:off x="6172200" y="6858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"/>
          <p:cNvSpPr/>
          <p:nvPr/>
        </p:nvSpPr>
        <p:spPr>
          <a:xfrm>
            <a:off x="6172200" y="304812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molniya_580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5"/>
          <p:cNvSpPr txBox="1"/>
          <p:nvPr/>
        </p:nvSpPr>
        <p:spPr>
          <a:xfrm>
            <a:off x="1295280" y="2362320"/>
            <a:ext cx="6400800" cy="18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7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гадк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5"/>
          <p:cNvSpPr txBox="1"/>
          <p:nvPr/>
        </p:nvSpPr>
        <p:spPr>
          <a:xfrm>
            <a:off x="457200" y="304920"/>
            <a:ext cx="83059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Запомните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од высокими и одиноко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тоящими предметами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тоять во время грозы нельзя!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6"/>
          <p:cNvSpPr txBox="1"/>
          <p:nvPr/>
        </p:nvSpPr>
        <p:spPr>
          <a:xfrm>
            <a:off x="685800" y="914400"/>
            <a:ext cx="8077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Физминутка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«Я однажды потерялся».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 flipV="1" rot="10800000">
            <a:off x="914400" y="98964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гровое упраж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«Окажи первую помощь при ссадин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38862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72000" cy="30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5029200" cy="2853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71400" y="3929040"/>
            <a:ext cx="21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са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 flipV="1">
            <a:off x="1905120" y="358128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2819520" y="4876920"/>
            <a:ext cx="990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27672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6554520" y="342900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3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962520" cy="2968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449360" y="304812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0" descr=""/>
          <p:cNvPicPr/>
          <p:nvPr/>
        </p:nvPicPr>
        <p:blipFill>
          <a:blip r:embed="rId3"/>
          <a:stretch/>
        </p:blipFill>
        <p:spPr>
          <a:xfrm>
            <a:off x="2666880" y="365760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"/>
          <p:cNvSpPr/>
          <p:nvPr/>
        </p:nvSpPr>
        <p:spPr>
          <a:xfrm>
            <a:off x="3735000" y="594360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Й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762120" y="5562720"/>
            <a:ext cx="28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дор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973680" cy="5257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2"/>
          <a:stretch/>
        </p:blipFill>
        <p:spPr>
          <a:xfrm>
            <a:off x="4584600" y="304920"/>
            <a:ext cx="4340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2514600" y="1600200"/>
            <a:ext cx="38098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03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530360" y="1828800"/>
            <a:ext cx="62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известные пред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514600" y="1600200"/>
            <a:ext cx="38098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02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motor.mp3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проезжая част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машина"/>
          <p:cNvPicPr/>
          <p:nvPr/>
        </p:nvPicPr>
        <p:blipFill>
          <a:blip r:embed="rId3"/>
          <a:stretch/>
        </p:blipFill>
        <p:spPr>
          <a:xfrm>
            <a:off x="4114800" y="0"/>
            <a:ext cx="3505320" cy="32497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2" descr=""/>
          <p:cNvPicPr/>
          <p:nvPr/>
        </p:nvPicPr>
        <p:blipFill>
          <a:blip r:embed="rId4"/>
          <a:stretch/>
        </p:blipFill>
        <p:spPr>
          <a:xfrm>
            <a:off x="0" y="3832200"/>
            <a:ext cx="403848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6" descr=""/>
          <p:cNvPicPr/>
          <p:nvPr/>
        </p:nvPicPr>
        <p:blipFill>
          <a:blip r:embed="rId5"/>
          <a:stretch/>
        </p:blipFill>
        <p:spPr>
          <a:xfrm>
            <a:off x="5181480" y="3889440"/>
            <a:ext cx="39625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8278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905120" y="4572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телевизо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j0232976"/>
          <p:cNvPicPr/>
          <p:nvPr/>
        </p:nvPicPr>
        <p:blipFill>
          <a:blip r:embed="rId1"/>
          <a:stretch/>
        </p:blipFill>
        <p:spPr>
          <a:xfrm>
            <a:off x="2362320" y="2133720"/>
            <a:ext cx="4114800" cy="32256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6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154760" cy="4876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972160" y="30492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ветофо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357480" y="685800"/>
            <a:ext cx="82825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помни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При пожаре нужно звонить 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Номер полиции                      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ли кто-то заболел нуж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вонить по номеру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457200" y="1219320"/>
            <a:ext cx="830592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пасибо за внимание!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438640" y="5029200"/>
            <a:ext cx="420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пылесо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568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98760" y="4800600"/>
            <a:ext cx="627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холодиль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430080" y="5105520"/>
            <a:ext cx="22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утю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234266"/>
          <p:cNvPicPr/>
          <p:nvPr/>
        </p:nvPicPr>
        <p:blipFill>
          <a:blip r:embed="rId1"/>
          <a:stretch/>
        </p:blipFill>
        <p:spPr>
          <a:xfrm>
            <a:off x="2286000" y="609480"/>
            <a:ext cx="4876920" cy="4753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95280" y="53341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тиральная маш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686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909080" y="-1522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Электроприб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j0232976"/>
          <p:cNvPicPr/>
          <p:nvPr/>
        </p:nvPicPr>
        <p:blipFill>
          <a:blip r:embed="rId1"/>
          <a:stretch/>
        </p:blipFill>
        <p:spPr>
          <a:xfrm>
            <a:off x="228600" y="1905120"/>
            <a:ext cx="2286000" cy="1792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99548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0234266"/>
          <p:cNvPicPr/>
          <p:nvPr/>
        </p:nvPicPr>
        <p:blipFill>
          <a:blip r:embed="rId4"/>
          <a:stretch/>
        </p:blipFill>
        <p:spPr>
          <a:xfrm>
            <a:off x="5791320" y="4419720"/>
            <a:ext cx="2209680" cy="21542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58" name="Рисунок 7" descr=""/>
          <p:cNvPicPr/>
          <p:nvPr/>
        </p:nvPicPr>
        <p:blipFill>
          <a:blip r:embed="rId5"/>
          <a:stretch/>
        </p:blipFill>
        <p:spPr>
          <a:xfrm>
            <a:off x="7010280" y="1600200"/>
            <a:ext cx="1900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44800" y="990720"/>
            <a:ext cx="74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  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ужно выключить электроприбо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п1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00200" y="2666880"/>
            <a:ext cx="5638680" cy="337356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IA_98</dc:creator>
  <dc:description/>
  <dc:language>en-US</dc:language>
  <cp:lastModifiedBy>ден</cp:lastModifiedBy>
  <dcterms:modified xsi:type="dcterms:W3CDTF">2016-11-27T18:17:2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