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250-90A2-4BB9-81EA-48EEC1AD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1AD-FC65-45C3-A716-E8C2C4F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E9A-17C0-4E17-898E-BEFD0FE9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EFF-D8DF-42AC-8F61-6DAB569A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B82E-EAC5-49DD-A498-CA3EAA31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06AF-66DC-42E6-B77B-177E4D7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3D4A-B9A6-43CC-BD8A-C82980C7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EC73-E5BF-40AF-9381-A0431D43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93BE-C380-47AE-8341-00677D62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8BC5-C272-4FE5-8195-3B931CDA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A672-3019-4F0C-8A2D-1753666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B50-5D70-4C50-858A-07A63CA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9A3-3BA7-4725-A3C2-DD13B33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27D7-579C-469F-B618-84AAAF5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CED-BD02-4BAA-863E-0D04186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F36-BA4E-404C-896B-7FBB65CC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0A01-4C8C-41A2-98B0-73C14F2C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8DE-790F-467F-B23A-60E0D27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A8E-4754-467E-BF66-6D3C213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ED3-5606-47E8-A63D-47A4AF34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DC1-0EF2-4085-A5F1-813C88E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70A-E152-43ED-8D92-E696B3F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869-5439-43CF-B9E6-74D633FC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CC7-1A59-44B5-9DD5-15148B18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BCD-58F6-4B42-9A73-D30F5F9524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689-E3EB-40C0-8452-21FA570022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именение здоровьесберегающих технологий на уроках и во внеурочной деятельности в начальной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71784794_ZOG001.gif"/>
          <p:cNvPicPr/>
          <p:nvPr/>
        </p:nvPicPr>
        <p:blipFill>
          <a:blip r:embed="rId1"/>
          <a:stretch/>
        </p:blipFill>
        <p:spPr>
          <a:xfrm>
            <a:off x="6880320" y="914400"/>
            <a:ext cx="2263680" cy="2338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доровье человека завис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50%-от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5%-от состояния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15%-от наслед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10%- от возможностей медиц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льчиковые игры могут помоч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 руку к пис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ь внимание, терп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мулировать фантаз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изировать работу моз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ся управлять своим т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39.jpg"/>
          <p:cNvPicPr/>
          <p:nvPr/>
        </p:nvPicPr>
        <p:blipFill>
          <a:blip r:embed="rId1"/>
          <a:stretch/>
        </p:blipFill>
        <p:spPr>
          <a:xfrm>
            <a:off x="5881680" y="5257800"/>
            <a:ext cx="2543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po4emu-siniaki-pod-glazami03498.jpg"/>
          <p:cNvPicPr/>
          <p:nvPr/>
        </p:nvPicPr>
        <p:blipFill>
          <a:blip r:embed="rId1"/>
          <a:stretch/>
        </p:blipFill>
        <p:spPr>
          <a:xfrm>
            <a:off x="6324480" y="4191120"/>
            <a:ext cx="2457720" cy="247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рительная гимнастика помога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ять физическую и психоэмоциональную напряжё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нировать вестибулярный ап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ь зрительную координ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еплять глазные мыш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ь зоркость и вним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ить 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очечный массаж помогает: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дить профилактику простуд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болеваний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 детей расслабляться, освобождаться от стрессов, перенапряжен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ить навыкам проведения точечного массаж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rinit_massag.jpg"/>
          <p:cNvPicPr/>
          <p:nvPr/>
        </p:nvPicPr>
        <p:blipFill>
          <a:blip r:embed="rId1"/>
          <a:stretch/>
        </p:blipFill>
        <p:spPr>
          <a:xfrm>
            <a:off x="6934320" y="1752480"/>
            <a:ext cx="19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4" descr="f9197c3b8b23t.jpg"/>
          <p:cNvPicPr/>
          <p:nvPr/>
        </p:nvPicPr>
        <p:blipFill>
          <a:blip r:embed="rId1"/>
          <a:stretch/>
        </p:blipFill>
        <p:spPr>
          <a:xfrm>
            <a:off x="0" y="152280"/>
            <a:ext cx="1371600" cy="1925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урные минутки помог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ять усталость, напр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абить утомление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одить профилактику нарушения ос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держать работоспособность, активное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0_74b7f_ba084f96_xl_20111215_1792762220.jpg"/>
          <p:cNvPicPr/>
          <p:nvPr/>
        </p:nvPicPr>
        <p:blipFill>
          <a:blip r:embed="rId2"/>
          <a:stretch/>
        </p:blipFill>
        <p:spPr>
          <a:xfrm>
            <a:off x="7162920" y="4952880"/>
            <a:ext cx="1630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лаксация на урока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523880"/>
            <a:ext cx="51116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001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гает снять стр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лабить мыш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ять устал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тано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Desktop\релакс.jpg"/>
          <p:cNvPicPr/>
          <p:nvPr/>
        </p:nvPicPr>
        <p:blipFill>
          <a:blip r:embed="rId1"/>
          <a:stretch/>
        </p:blipFill>
        <p:spPr>
          <a:xfrm>
            <a:off x="434340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4" descr="0_61_bubble_girl_2.jpg"/>
          <p:cNvPicPr/>
          <p:nvPr/>
        </p:nvPicPr>
        <p:blipFill>
          <a:blip r:embed="rId1"/>
          <a:stretch/>
        </p:blipFill>
        <p:spPr>
          <a:xfrm>
            <a:off x="3581280" y="15228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репляет дыхательную мускул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ьшает заболевания дыхатель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ает общую сопротивляемость организма, его тонус, оздоравливает нервно-психическое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5" descr="48b1996f3571-300x265.jpg"/>
          <p:cNvPicPr/>
          <p:nvPr/>
        </p:nvPicPr>
        <p:blipFill>
          <a:blip r:embed="rId2"/>
          <a:stretch/>
        </p:blipFill>
        <p:spPr>
          <a:xfrm>
            <a:off x="5587920" y="3657600"/>
            <a:ext cx="32893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кологическое простр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тривание помещ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живого уго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ленение каби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ещение каби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3" descr="4.jpg"/>
          <p:cNvPicPr/>
          <p:nvPr/>
        </p:nvPicPr>
        <p:blipFill>
          <a:blip r:embed="rId1"/>
          <a:stretch/>
        </p:blipFill>
        <p:spPr>
          <a:xfrm>
            <a:off x="6705720" y="1676520"/>
            <a:ext cx="1885680" cy="2260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69314_XXkgF2FSMI.jpg"/>
          <p:cNvPicPr/>
          <p:nvPr/>
        </p:nvPicPr>
        <p:blipFill>
          <a:blip r:embed="rId2"/>
          <a:stretch/>
        </p:blipFill>
        <p:spPr>
          <a:xfrm>
            <a:off x="5105520" y="3962520"/>
            <a:ext cx="18288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91120" y="456840"/>
            <a:ext cx="4952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яет различные двигательн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сегда может поддерживать темп движения, дозировать мышечные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нает и выполняет правила гигиены, ухода за телом, охраны своей жизни и приемы закал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Удерживает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Может проводить утреннюю гимнастику, организовывать двигательный режим во время приготовления уроков, прогу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user\Рабочий стол\pervoklassnik.jpg"/>
          <p:cNvPicPr/>
          <p:nvPr/>
        </p:nvPicPr>
        <p:blipFill>
          <a:blip r:embed="rId1"/>
          <a:stretch/>
        </p:blipFill>
        <p:spPr>
          <a:xfrm>
            <a:off x="0" y="137160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52280"/>
            <a:ext cx="44956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о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ует осознанное отношение к физической куль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гает осознать необходимость двигательной активности, систематических физических упражнений; предупреждает уменьшение двигательной активности, проявление гиподина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:\Documents and Settings\user\Рабочий стол\1381925262_uchitel.jpg"/>
          <p:cNvPicPr/>
          <p:nvPr/>
        </p:nvPicPr>
        <p:blipFill>
          <a:blip r:embed="rId1"/>
          <a:stretch/>
        </p:blipFill>
        <p:spPr>
          <a:xfrm>
            <a:off x="0" y="1143000"/>
            <a:ext cx="473076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й урок долже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мулировать у детей желание жить быть здоровы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ь их ощущать радость от каждого прожитого д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ывать им, что жизнь - это прекрас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зывать у них позитивную самооцен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личительные особенности здоровьесберегающих образовательны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назидательности и авторитар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ы индивидуализации обуч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мотивации на здоровый образ жизни учителя и учени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ес к учебе, желание идти в школ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физкультминут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ичие гигиенического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нципы здоровье сбере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т возрастно-половых особ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доровьесберегающих действ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ьесберегающие действия: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мальная плотност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редование видов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110710_6264338a.jpg"/>
          <p:cNvPicPr/>
          <p:nvPr/>
        </p:nvPicPr>
        <p:blipFill>
          <a:blip r:embed="rId1"/>
          <a:stretch/>
        </p:blipFill>
        <p:spPr>
          <a:xfrm>
            <a:off x="5334120" y="3429000"/>
            <a:ext cx="3276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здоровительные моменты на урок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zog.jpg"/>
          <p:cNvPicPr/>
          <p:nvPr/>
        </p:nvPicPr>
        <p:blipFill>
          <a:blip r:embed="rId1"/>
          <a:stretch/>
        </p:blipFill>
        <p:spPr>
          <a:xfrm>
            <a:off x="0" y="0"/>
            <a:ext cx="2138400" cy="2173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sport-deti.jpg"/>
          <p:cNvPicPr/>
          <p:nvPr/>
        </p:nvPicPr>
        <p:blipFill>
          <a:blip r:embed="rId2"/>
          <a:stretch/>
        </p:blipFill>
        <p:spPr>
          <a:xfrm>
            <a:off x="5100480" y="4162320"/>
            <a:ext cx="40435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культурные мин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ечный масс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ак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6-06-02T10:58:07Z</dcterms:modified>
  <cp:revision>5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