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28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34.jpeg" ContentType="image/jpeg"/>
  <Override PartName="/ppt/media/image33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16.jpeg" ContentType="image/jpeg"/>
  <Override PartName="/ppt/media/image4.wmf" ContentType="image/x-wmf"/>
  <Override PartName="/ppt/media/image27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8EA-5CA9-45C8-978A-A7818CCD7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50BE-5DFB-4B54-BCE1-950205537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9DF1-F1D6-4A6C-B84B-BE31DBE80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23F-51DB-43E4-9323-18EE1A705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7B5-52E0-4843-9133-EA7B03A5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998-A07B-4CC7-8C15-6525E5D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C5F-3A08-4C5C-BAE9-8A3852A7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534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2844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80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534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2844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A27-036A-462A-BD7D-AAC3287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834A-08E5-483C-BA17-2F18A528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347B-67E2-4459-BCD4-1396A0DE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0AB7-4E38-4076-86E7-73452BEF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B60-D3C9-4D81-BDC3-A561310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1F98-EAAC-4AA9-8343-78AF2BE7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78000" y="6647040"/>
            <a:ext cx="6137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F51E-276A-4257-BC1B-BB49FAF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B0C-BD9E-4E7D-88B6-EC02E06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9D6-0C1F-4C4F-A698-02B5BF95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C57-0B25-49F0-8575-E1F420D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6BA1-0723-4071-9CC6-9F6DBB3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425-5A40-4EA1-988B-03F68F0C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F766-B048-4B88-8CA5-8479E06F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534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2844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80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534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2844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50F7-F348-4D6A-854E-81F28B3B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C0DF-6344-4351-9815-82F95963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CEBE-1366-44BD-95F7-587B705A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14FF-2117-4C1A-B0A9-6BD305D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4473E-EF80-4E61-9DA4-A274F4CD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DA151-6A82-48E0-9D09-68AFFD8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3ED-8391-4027-A5C4-E6CCDA8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78000" y="6647040"/>
            <a:ext cx="6137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5C59-0E3B-40B8-A0AC-0BA05884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3390-796D-4E70-8102-EF650CE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A89C-3282-4FCE-9688-130CA65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7461-035C-427B-A28F-2943D34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1C00-5527-47A3-9272-0687D7C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635D-2C4F-4558-A326-34442583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534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2844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780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534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52844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A908-BB32-459B-BB8E-1B56D150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6E7A-47E8-4AA2-9594-3C3BBDF5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85AE-6D82-4D28-9E2E-D8E30C1E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813D-59BA-4B9B-95CA-2585D2DE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5E5-6792-4FC4-B131-E48FE09F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E06EE-A6C3-4BDB-9F6C-69107835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59E8-3B7C-4978-A2FD-3363D54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78000" y="6647040"/>
            <a:ext cx="6137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9632-B931-4502-9B45-56B07D9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808F-464F-4F85-AD6F-FC53BA50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A7AA-ACB4-4368-8C47-83DF643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AE06-AD01-436A-9F82-71241A8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DC14-B6BA-417A-B873-A1DBA40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84A9B-F058-4035-AE0E-330F5D8F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534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2844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780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4534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452844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1B0B-605F-465C-BCCD-9CB25C41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C51A-13A9-4E8D-961A-CE0499FF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97B-5E7B-4689-AE1A-115ECF6F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921A-BBAB-4068-A628-C926BA6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29D0-A991-4C37-84F1-85206888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C6B9-DA7B-44A9-A45D-FD6D3C2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9FD0F-B049-4E80-ABDC-CFCA517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78000" y="6647040"/>
            <a:ext cx="6137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CAD61-5848-418A-84C8-CA849A89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FA8F9-90BA-4091-9AD3-6BA24C9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BF29-8657-4B62-9756-DFE9563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8AEF4-DD9D-4FFB-BAC5-88853DE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9BB6-B87D-4F47-90D8-DC8885A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9C46-4881-4842-A4A6-C4A47753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8000" y="6647040"/>
            <a:ext cx="6137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163-FC93-4787-A01D-EA1E678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45340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28440" y="70632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780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45340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528440" y="3623760"/>
            <a:ext cx="19760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4D93-20D7-4803-9960-B649D977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CBF-4DF8-4EA7-AE58-029266C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2960" y="362376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64E-0B00-4639-8192-E196A54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2960" y="706320"/>
            <a:ext cx="299484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000" y="3623760"/>
            <a:ext cx="6137280" cy="26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B622-7ACE-4F7F-B18F-7AE7030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228600" y="438120"/>
            <a:ext cx="6399360" cy="8263080"/>
          </a:xfrm>
          <a:custGeom>
            <a:avLst/>
            <a:gdLst>
              <a:gd name="textAreaLeft" fmla="*/ 38880 w 6399360"/>
              <a:gd name="textAreaRight" fmla="*/ 6360480 w 6399360"/>
              <a:gd name="textAreaTop" fmla="*/ 38880 h 8263080"/>
              <a:gd name="textAreaBottom" fmla="*/ 8224200 h 8263080"/>
            </a:gdLst>
            <a:ahLst/>
            <a:rect l="textAreaLeft" t="textAreaTop" r="textAreaRight" b="textAreaBottom"/>
            <a:pathLst>
              <a:path w="21600" h="27890">
                <a:moveTo>
                  <a:pt x="449" y="0"/>
                </a:moveTo>
                <a:arcTo wR="449" hR="449" stAng="16200000" swAng="-5400000"/>
                <a:lnTo>
                  <a:pt x="0" y="27441"/>
                </a:lnTo>
                <a:arcTo wR="449" hR="449" stAng="10800000" swAng="-5400000"/>
                <a:lnTo>
                  <a:pt x="21151" y="27890"/>
                </a:lnTo>
                <a:arcTo wR="449" hR="449" stAng="5400000" swAng="-5400000"/>
                <a:lnTo>
                  <a:pt x="21600" y="449"/>
                </a:lnTo>
                <a:arcTo wR="449" hR="4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311040" y="573120"/>
            <a:ext cx="6235920" cy="7327800"/>
            <a:chOff x="311040" y="573120"/>
            <a:chExt cx="6235920" cy="73278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11040" y="573120"/>
              <a:ext cx="6235920" cy="73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352440" y="617400"/>
              <a:ext cx="6153120" cy="72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832120" y="8148600"/>
            <a:ext cx="1714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546080" y="814860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7FBD-7E64-4899-B82C-83A9474520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228600" y="438120"/>
            <a:ext cx="6399360" cy="8263080"/>
          </a:xfrm>
          <a:custGeom>
            <a:avLst/>
            <a:gdLst>
              <a:gd name="textAreaLeft" fmla="*/ 38880 w 6399360"/>
              <a:gd name="textAreaRight" fmla="*/ 6360480 w 6399360"/>
              <a:gd name="textAreaTop" fmla="*/ 38880 h 8263080"/>
              <a:gd name="textAreaBottom" fmla="*/ 8224200 h 8263080"/>
            </a:gdLst>
            <a:ahLst/>
            <a:rect l="textAreaLeft" t="textAreaTop" r="textAreaRight" b="textAreaBottom"/>
            <a:pathLst>
              <a:path w="21600" h="27890">
                <a:moveTo>
                  <a:pt x="449" y="0"/>
                </a:moveTo>
                <a:arcTo wR="449" hR="449" stAng="16200000" swAng="-5400000"/>
                <a:lnTo>
                  <a:pt x="0" y="27441"/>
                </a:lnTo>
                <a:arcTo wR="449" hR="449" stAng="10800000" swAng="-5400000"/>
                <a:lnTo>
                  <a:pt x="21151" y="27890"/>
                </a:lnTo>
                <a:arcTo wR="449" hR="449" stAng="5400000" swAng="-5400000"/>
                <a:lnTo>
                  <a:pt x="21600" y="449"/>
                </a:lnTo>
                <a:arcTo wR="449" hR="4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311040" y="573120"/>
            <a:ext cx="6235920" cy="4157640"/>
            <a:chOff x="311040" y="573120"/>
            <a:chExt cx="6235920" cy="41576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11040" y="573120"/>
              <a:ext cx="623592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69720" y="635040"/>
              <a:ext cx="61185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832120" y="8148600"/>
            <a:ext cx="1714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546080" y="814860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CF6-BE07-4BD3-8779-078F148993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228600" y="438120"/>
            <a:ext cx="6399360" cy="8263080"/>
          </a:xfrm>
          <a:custGeom>
            <a:avLst/>
            <a:gdLst>
              <a:gd name="textAreaLeft" fmla="*/ 38880 w 6399360"/>
              <a:gd name="textAreaRight" fmla="*/ 6360480 w 6399360"/>
              <a:gd name="textAreaTop" fmla="*/ 38880 h 8263080"/>
              <a:gd name="textAreaBottom" fmla="*/ 8224200 h 8263080"/>
            </a:gdLst>
            <a:ahLst/>
            <a:rect l="textAreaLeft" t="textAreaTop" r="textAreaRight" b="textAreaBottom"/>
            <a:pathLst>
              <a:path w="21600" h="27890">
                <a:moveTo>
                  <a:pt x="449" y="0"/>
                </a:moveTo>
                <a:arcTo wR="449" hR="449" stAng="16200000" swAng="-5400000"/>
                <a:lnTo>
                  <a:pt x="0" y="27441"/>
                </a:lnTo>
                <a:arcTo wR="449" hR="449" stAng="10800000" swAng="-5400000"/>
                <a:lnTo>
                  <a:pt x="21151" y="27890"/>
                </a:lnTo>
                <a:arcTo wR="449" hR="449" stAng="5400000" swAng="-5400000"/>
                <a:lnTo>
                  <a:pt x="21600" y="449"/>
                </a:lnTo>
                <a:arcTo wR="449" hR="4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311040" y="573120"/>
            <a:ext cx="6235920" cy="5803920"/>
            <a:chOff x="311040" y="573120"/>
            <a:chExt cx="6235920" cy="58039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11040" y="573120"/>
              <a:ext cx="623592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9200" y="614520"/>
              <a:ext cx="6159600" cy="57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832120" y="8148600"/>
            <a:ext cx="1714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546080" y="814860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A08-BEA0-4F0E-AB8D-D89E7BE93E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228600" y="438120"/>
            <a:ext cx="6399360" cy="8263080"/>
          </a:xfrm>
          <a:custGeom>
            <a:avLst/>
            <a:gdLst>
              <a:gd name="textAreaLeft" fmla="*/ 38880 w 6399360"/>
              <a:gd name="textAreaRight" fmla="*/ 6360480 w 6399360"/>
              <a:gd name="textAreaTop" fmla="*/ 38880 h 8263080"/>
              <a:gd name="textAreaBottom" fmla="*/ 8224200 h 8263080"/>
            </a:gdLst>
            <a:ahLst/>
            <a:rect l="textAreaLeft" t="textAreaTop" r="textAreaRight" b="textAreaBottom"/>
            <a:pathLst>
              <a:path w="21600" h="27890">
                <a:moveTo>
                  <a:pt x="449" y="0"/>
                </a:moveTo>
                <a:arcTo wR="449" hR="449" stAng="16200000" swAng="-5400000"/>
                <a:lnTo>
                  <a:pt x="0" y="27441"/>
                </a:lnTo>
                <a:arcTo wR="449" hR="449" stAng="10800000" swAng="-5400000"/>
                <a:lnTo>
                  <a:pt x="21151" y="27890"/>
                </a:lnTo>
                <a:arcTo wR="449" hR="449" stAng="5400000" swAng="-5400000"/>
                <a:lnTo>
                  <a:pt x="21600" y="449"/>
                </a:lnTo>
                <a:arcTo wR="449" hR="4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832120" y="8148600"/>
            <a:ext cx="1714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4546080" y="814860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FEF-9FC9-4160-8A4E-15BD8993BC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228600" y="438120"/>
            <a:ext cx="6399360" cy="8263080"/>
          </a:xfrm>
          <a:custGeom>
            <a:avLst/>
            <a:gdLst>
              <a:gd name="textAreaLeft" fmla="*/ 38880 w 6399360"/>
              <a:gd name="textAreaRight" fmla="*/ 6360480 w 6399360"/>
              <a:gd name="textAreaTop" fmla="*/ 38880 h 8263080"/>
              <a:gd name="textAreaBottom" fmla="*/ 8224200 h 8263080"/>
            </a:gdLst>
            <a:ahLst/>
            <a:rect l="textAreaLeft" t="textAreaTop" r="textAreaRight" b="textAreaBottom"/>
            <a:pathLst>
              <a:path w="21600" h="27890">
                <a:moveTo>
                  <a:pt x="449" y="0"/>
                </a:moveTo>
                <a:arcTo wR="449" hR="449" stAng="16200000" swAng="-5400000"/>
                <a:lnTo>
                  <a:pt x="0" y="27441"/>
                </a:lnTo>
                <a:arcTo wR="449" hR="449" stAng="10800000" swAng="-5400000"/>
                <a:lnTo>
                  <a:pt x="21151" y="27890"/>
                </a:lnTo>
                <a:arcTo wR="449" hR="449" stAng="5400000" swAng="-5400000"/>
                <a:lnTo>
                  <a:pt x="21600" y="449"/>
                </a:lnTo>
                <a:arcTo wR="449" hR="4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4800600" y="579600"/>
            <a:ext cx="1743120" cy="5790960"/>
          </a:xfrm>
          <a:custGeom>
            <a:avLst/>
            <a:gdLst>
              <a:gd name="textAreaLeft" fmla="*/ 0 w 1743120"/>
              <a:gd name="textAreaRight" fmla="*/ 1729440 w 1743120"/>
              <a:gd name="textAreaTop" fmla="*/ 0 h 5790960"/>
              <a:gd name="textAreaBottom" fmla="*/ 5791320 h 5790960"/>
            </a:gdLst>
            <a:ahLst/>
            <a:rect l="textAreaLeft" t="textAreaTop" r="textAreaRight" b="textAreaBottom"/>
            <a:pathLst>
              <a:path w="1743075" h="5791200">
                <a:moveTo>
                  <a:pt x="0" y="0"/>
                </a:moveTo>
                <a:lnTo>
                  <a:pt x="1695175" y="0"/>
                </a:lnTo>
                <a:lnTo>
                  <a:pt x="1695175" y="0"/>
                </a:lnTo>
                <a:arcTo wR="47900" hR="47900" stAng="-5400000" swAng="5400000"/>
                <a:lnTo>
                  <a:pt x="1743075" y="5791200"/>
                </a:lnTo>
                <a:lnTo>
                  <a:pt x="0" y="57912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78000" y="6647040"/>
            <a:ext cx="6137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78000" y="706320"/>
            <a:ext cx="6137280" cy="558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2832120" y="8148600"/>
            <a:ext cx="1714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46080" y="814860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6F2-7189-4D5D-93C5-032AD52A975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7"/>
          <p:cNvGraphicFramePr/>
          <p:nvPr/>
        </p:nvGraphicFramePr>
        <p:xfrm>
          <a:off x="476280" y="244440"/>
          <a:ext cx="537516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44440"/>
                    <a:ext cx="537516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8"/>
          <p:cNvGraphicFramePr/>
          <p:nvPr/>
        </p:nvGraphicFramePr>
        <p:xfrm>
          <a:off x="1666800" y="3203640"/>
          <a:ext cx="4498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0" y="3203640"/>
                    <a:ext cx="4498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Номер слайда 3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69A-937E-493B-AFD3-C7AE0B976D1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DB9-B85E-4A2E-BC79-A74EF8988C0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6"/>
          <p:cNvGraphicFramePr/>
          <p:nvPr/>
        </p:nvGraphicFramePr>
        <p:xfrm>
          <a:off x="263520" y="420840"/>
          <a:ext cx="6323040" cy="94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420840"/>
                    <a:ext cx="6323040" cy="94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53A9-C828-4E5B-BBC7-A316679961C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343080" y="976320"/>
          <a:ext cx="6325920" cy="90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976320"/>
                    <a:ext cx="6325920" cy="90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A86-2957-4290-8806-C0997BA5892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345960" y="582480"/>
          <a:ext cx="6107400" cy="895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582480"/>
                    <a:ext cx="6107400" cy="89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99B-6C89-44BE-A84E-B8E018762D4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439560" y="741240"/>
          <a:ext cx="6013800" cy="937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741240"/>
                    <a:ext cx="6013800" cy="9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53B-EB24-4B1C-8DE3-00E43BE0AF3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3"/>
          <p:cNvGraphicFramePr/>
          <p:nvPr/>
        </p:nvGraphicFramePr>
        <p:xfrm>
          <a:off x="263520" y="528480"/>
          <a:ext cx="6323040" cy="929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528480"/>
                    <a:ext cx="6323040" cy="9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B23-A41D-4FFC-B91C-3756B3C4905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3"/>
          <p:cNvGraphicFramePr/>
          <p:nvPr/>
        </p:nvGraphicFramePr>
        <p:xfrm>
          <a:off x="511200" y="592200"/>
          <a:ext cx="6013440" cy="902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92200"/>
                    <a:ext cx="6013440" cy="902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B28-86EB-4C4D-AC61-BF7438DCCE8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333360" y="625320"/>
          <a:ext cx="6215040" cy="977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625320"/>
                    <a:ext cx="6215040" cy="977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0674-0661-47DE-84D1-A56EFEADE13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3"/>
          <p:cNvGraphicFramePr/>
          <p:nvPr/>
        </p:nvGraphicFramePr>
        <p:xfrm>
          <a:off x="260280" y="611280"/>
          <a:ext cx="6307200" cy="903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611280"/>
                    <a:ext cx="6307200" cy="90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00E-84C2-48D7-AEC8-ABB30E824A5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333360" y="468360"/>
          <a:ext cx="6121440" cy="984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68360"/>
                    <a:ext cx="6121440" cy="984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9BC0-6D92-4F18-8B33-FA6C1CE6E492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333360" y="492120"/>
          <a:ext cx="6121440" cy="1027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92120"/>
                    <a:ext cx="6121440" cy="1027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114-E44B-41E9-8466-A5B9A7380E4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260280" y="504720"/>
          <a:ext cx="6319800" cy="846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504720"/>
                    <a:ext cx="6319800" cy="846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347-17C9-4213-BA07-5BC1894B687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272880" y="609480"/>
          <a:ext cx="6324840" cy="1015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609480"/>
                    <a:ext cx="6324840" cy="1015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AC8-4267-4FC1-B231-7F50DDB946D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260280" y="395280"/>
          <a:ext cx="6323040" cy="906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395280"/>
                    <a:ext cx="6323040" cy="906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0DD-69A7-4D2A-A347-5F89C83B01B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260280" y="611280"/>
          <a:ext cx="6323040" cy="950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611280"/>
                    <a:ext cx="6323040" cy="950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398-C2DF-499C-8CDB-8583FCEE67C7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476280" y="468360"/>
          <a:ext cx="6013440" cy="957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68360"/>
                    <a:ext cx="6013440" cy="9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B7B7-7E58-4DD7-A777-E940F41EC9E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404640" y="530280"/>
          <a:ext cx="6324840" cy="908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530280"/>
                    <a:ext cx="6324840" cy="90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11CA-9C1D-4B32-AB23-7B3341C47AF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260280" y="468360"/>
          <a:ext cx="632304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468360"/>
                    <a:ext cx="63230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Рисунок 6" descr=""/>
          <p:cNvPicPr/>
          <p:nvPr/>
        </p:nvPicPr>
        <p:blipFill>
          <a:blip r:embed="rId3"/>
          <a:stretch/>
        </p:blipFill>
        <p:spPr>
          <a:xfrm>
            <a:off x="1413000" y="5508720"/>
            <a:ext cx="387972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2004840" y="2771640"/>
            <a:ext cx="4584960" cy="61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Object 3"/>
          <p:cNvGraphicFramePr/>
          <p:nvPr/>
        </p:nvGraphicFramePr>
        <p:xfrm>
          <a:off x="-27000" y="76320"/>
          <a:ext cx="6613560" cy="917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000" y="76320"/>
                    <a:ext cx="6613560" cy="91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FA4-4395-4E0D-9DF4-D26C74F3AD0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7225-6601-4824-80EC-9C27840E501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274680" y="466560"/>
          <a:ext cx="6323040" cy="936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466560"/>
                    <a:ext cx="6323040" cy="9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Рисунок 3" descr=""/>
          <p:cNvPicPr/>
          <p:nvPr/>
        </p:nvPicPr>
        <p:blipFill>
          <a:blip r:embed="rId3"/>
          <a:stretch/>
        </p:blipFill>
        <p:spPr>
          <a:xfrm>
            <a:off x="4365720" y="826920"/>
            <a:ext cx="193356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30C1-D036-4758-B1D1-B7734C22E03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333360" y="1403280"/>
          <a:ext cx="6192720" cy="918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03280"/>
                    <a:ext cx="6192720" cy="9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Рисунок 4" descr=""/>
          <p:cNvPicPr/>
          <p:nvPr/>
        </p:nvPicPr>
        <p:blipFill>
          <a:blip r:embed="rId3"/>
          <a:stretch/>
        </p:blipFill>
        <p:spPr>
          <a:xfrm>
            <a:off x="4365720" y="5867280"/>
            <a:ext cx="1625400" cy="2635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1E8E-BFB2-4EFF-A37C-95456648F116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333360" y="1547640"/>
          <a:ext cx="6192720" cy="921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547640"/>
                    <a:ext cx="6192720" cy="921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52D-79C3-48AC-99B2-6C4FAAAEFC6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260280" y="539640"/>
          <a:ext cx="6375600" cy="698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539640"/>
                    <a:ext cx="63756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616-83A9-454D-81AC-C630D6A42DE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257040" y="468360"/>
          <a:ext cx="6261120" cy="91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468360"/>
                    <a:ext cx="6261120" cy="91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Рисунок 1" descr=""/>
          <p:cNvPicPr/>
          <p:nvPr/>
        </p:nvPicPr>
        <p:blipFill>
          <a:blip r:embed="rId3"/>
          <a:stretch/>
        </p:blipFill>
        <p:spPr>
          <a:xfrm>
            <a:off x="2349360" y="5219640"/>
            <a:ext cx="2292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0FED-E413-4F31-A7F2-304F5BD21AE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257040" y="468360"/>
          <a:ext cx="6261120" cy="916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468360"/>
                    <a:ext cx="6261120" cy="916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Рисунок 2" descr=""/>
          <p:cNvPicPr/>
          <p:nvPr/>
        </p:nvPicPr>
        <p:blipFill>
          <a:blip r:embed="rId3"/>
          <a:stretch/>
        </p:blipFill>
        <p:spPr>
          <a:xfrm>
            <a:off x="2492280" y="5076720"/>
            <a:ext cx="21607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2"/>
          <p:cNvSpPr/>
          <p:nvPr/>
        </p:nvSpPr>
        <p:spPr>
          <a:xfrm>
            <a:off x="6261120" y="8148600"/>
            <a:ext cx="34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D04-C695-468C-868A-6D803480851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6"/>
          <p:cNvGraphicFramePr/>
          <p:nvPr/>
        </p:nvGraphicFramePr>
        <p:xfrm>
          <a:off x="333360" y="504720"/>
          <a:ext cx="6243480" cy="918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04720"/>
                    <a:ext cx="6243480" cy="9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21:36:58Z</dcterms:created>
  <dc:creator>Larsina</dc:creator>
  <dc:description/>
  <dc:language>en-US</dc:language>
  <cp:lastModifiedBy>user</cp:lastModifiedBy>
  <dcterms:modified xsi:type="dcterms:W3CDTF">2013-02-26T09:08:07Z</dcterms:modified>
  <cp:revision>24</cp:revision>
  <dc:subject/>
  <dc:title>Слайд 1</dc:title>
</cp:coreProperties>
</file>