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BFEA-7984-4676-B559-3A4D7FEF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D0C3-3F5A-4148-9CDD-E7A20969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A9E4-983D-46D8-9FCA-2499945E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8EFD-3750-40C7-A543-D1544033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5E52-B7AB-49C5-B11B-A665C8FA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C382-999F-49C6-AF49-B4586C16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25A7-3A12-46C5-A2E6-2B514C53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C6F3-8EED-4259-A497-71954498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5F71-7BF3-4CB9-9757-F3511F29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7B28-3595-4D7E-8039-2DB76261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487-9DB5-447C-A221-237EC9E9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672-7438-4F92-8D05-09843F6B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AB04-15A2-44A8-A328-2EF801E8F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охранение психического здоровь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4276800"/>
            <a:ext cx="2895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 условиях специального учреж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3581280" y="1697040"/>
            <a:ext cx="556272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сихическое здоровь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такое состояние психики человека, которое характеризуется целостностью и согласованностью всех психических функций организма, обеспечивающих чувство субъективной психической комфортности, способностью к целенаправленной осмысленной деятельности, адекватные (с учетом этнокультуральных особенностей) формы поведения [3. с.141–142]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 по сохранению психического здоров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учать педагогов способам регуляции психоэмоционального состоя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ормировать в педагогическом коллективе благоприятный психологический микроклимат, способствующий сохранению и укреплению психического здоровья педагого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вивать систему профилактики стрессовых ситуаций, эмоционального выгорания в педагогической сред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ормировать у педагогов мотивацию к профессиональному самосовершенствованию лично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ко­мендации по профилактике стрес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Объект 3" descr=""/>
          <p:cNvPicPr/>
          <p:nvPr/>
        </p:nvPicPr>
        <p:blipFill>
          <a:blip r:embed="rId1"/>
          <a:stretch/>
        </p:blipFill>
        <p:spPr>
          <a:xfrm>
            <a:off x="1714680" y="1681200"/>
            <a:ext cx="57150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  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пределите краткосрочные и долгосрочные це­л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  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спользуйте «тайм-ауты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владевайте умениями и навыками саморегуля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нимайтесь профессиональным развитием и самосовершенство­ва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  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збегайте ненужной конкурен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 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тремитесь эмоционально общаться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  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ддерживайте хорошую спортивную фор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ы экстренной психологической помощ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47388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04560" y="17280"/>
            <a:ext cx="8839080" cy="66294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хо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лечение: спортивные игры, обращение к любимому виду искусства (просмотреть хорошую комедию, послушать талантливую музыку, посетить выставку, сходить в гости к хорошим знакомым, общение с природой, отпуск, занятия танцами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ключение: Посмотрите по сторонам, стараясь обращать внимание на те мелкие детали окружения, которых обычно не замечаете. При этом мысленно во всех подробностях проговорите (про себя) то, что вы видите, например: “Какая ужасная расцветка у его рубашки… Интересно, а чья фотография в такой красивой рамке? Из этого окна открывается неплохой вид..” и так далее – пока не почувствуете, что понемногу успокаиваете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это необходимо, обратитесь за профессиональной помощью. Если вам кажется, что возникший стресс настолько силён (превращается в хронический), что все известные вам способы борьбы с ним не помогают, возможно, имеет смысл обратиться за помощью к профессионалам. Психолог или психотерапевт поможет улучшить настр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роматерап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утотренинг (самовнушение) /игры-формулы/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та над дыхани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ссаж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отерапия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лок различных упражн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396252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3T15:33:13Z</dcterms:created>
  <dc:creator>сергей мурзов</dc:creator>
  <dc:description/>
  <dc:language>en-US</dc:language>
  <cp:lastModifiedBy>сергей мурзов</cp:lastModifiedBy>
  <dcterms:modified xsi:type="dcterms:W3CDTF">2015-03-23T21:45:39Z</dcterms:modified>
  <cp:revision>7</cp:revision>
  <dc:subject/>
  <dc:title>Сохранение психического здоровья </dc:title>
</cp:coreProperties>
</file>