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EE13-40E5-45E4-A5FE-E7CBC575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C2AF-D333-4F24-8BF3-DBBC33F1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F4B7-9D9A-41A6-A8C7-115B1ECE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D740-7050-4EB5-BE21-2E57ADD2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992C-049C-482A-A39A-4A9A33E6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CADF-67F6-478D-9A51-4E61D74D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082D-7728-4E64-9F42-2EE5C72E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B067-D4DB-4F7B-8CC5-7CF2F93F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4578-ECEE-413E-AB19-C87BD934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D04E-73C0-42A7-A2D3-F96E4652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74FC-2B67-47D8-9A52-AB548EB1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483D-4FBA-4915-9C1D-159FCC8F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FCCC-8F07-4A43-9135-6C1390296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Times New Roman"/>
              </a:rPr>
              <a:t>Муниципальное бюджетное дошкольное образовательное учреждение детский сад № 29 № Светлячок»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  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i="1" lang="ru-RU" sz="4400" spc="-1" strike="noStrike">
                <a:solidFill>
                  <a:srgbClr val="ff0066"/>
                </a:solidFill>
                <a:latin typeface="Times New Roman"/>
              </a:rPr>
              <a:t>Расти здоровым, малыш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»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Times New Roman"/>
              </a:rPr>
              <a:t>Подготовила воспитатель  группы раннего возраста №3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Times New Roman"/>
              </a:rPr>
              <a:t>Карклина Е.В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924360" y="4581360"/>
            <a:ext cx="1016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4" descr="H:\DCIM\117NIKON\DSCN6831.JPG"/>
          <p:cNvPicPr/>
          <p:nvPr/>
        </p:nvPicPr>
        <p:blipFill>
          <a:blip r:embed="rId1"/>
          <a:stretch/>
        </p:blipFill>
        <p:spPr>
          <a:xfrm>
            <a:off x="3214800" y="3643200"/>
            <a:ext cx="25714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0b1d0b5d0b7-d0bdd0b0d0b7d0b2d0b0d0bdd0b8d18f-1"/>
          <p:cNvPicPr/>
          <p:nvPr/>
        </p:nvPicPr>
        <p:blipFill>
          <a:blip r:embed="rId1"/>
          <a:stretch/>
        </p:blipFill>
        <p:spPr>
          <a:xfrm>
            <a:off x="250920" y="189000"/>
            <a:ext cx="3313080" cy="3024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3"/>
          <p:cNvSpPr/>
          <p:nvPr/>
        </p:nvSpPr>
        <p:spPr>
          <a:xfrm>
            <a:off x="250920" y="1484280"/>
            <a:ext cx="87138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нне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возрасте закладывается фундамент здоровья: происходит созревание и совершенствование жизненных систем и функций организма, развиваются его адаптационные возможности, повышается его устойчивость к внешним воздействиям, формируется осанка, приобретаются физические качества, привычки, вырабатываются волевые черты характера, без которых невозможен здоровый образ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250920" y="49723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а занятиях физической культурой помимо традиционных методов комплексного воздействия на физическое и нервно-психическое развитие, а так же коррекцию ранних отклонений в состоянии здоровья детей используются  нетрадиционные методы оздоро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3780000" y="189000"/>
            <a:ext cx="518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«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бота о здоровье</a:t>
            </a:r>
            <a:r>
              <a:rPr b="1" lang="ru-RU" sz="2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— это важнейший труд воспитателя. От жизнерадостности, бодрости детей зависит их духовная жизнь, мировоззрение, умственное развитие, прочность знаний, вера в свои силы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. А. Сухомл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50560" y="-243000"/>
            <a:ext cx="8713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Цель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– создать в группе условия , при которых возможно полное удовлетворение основных потребностей ребенка, сохранение его физического и психического здоровья, становление полноценной личности.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 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азвивать различные виды восприятия у детей раннего возраста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оспитывать у детей раннего возраста умение взаимодействовать друг с другом в детском коллективе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азвитие различных видов моторики у детей раннего возраста (общей, мелкой и артикуляционной).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беспечение психологической безопасности личности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азвитие правильного речевого и неречевого дыхания.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Ожидаемый  результат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нижение показателей заболеваемости детей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вышение показателей развития физических качеств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устойчивые показатели психоэмоционального благополучия детей раннего возраста в группе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Формы организации  здоровьесберегающей работы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рганизованная образовательная деятельность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движные игры и пальчиковая гимнастика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ыхательные упражнения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0" y="524952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48000" y="-531720"/>
            <a:ext cx="57960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6"/>
          <p:cNvSpPr/>
          <p:nvPr/>
        </p:nvSpPr>
        <p:spPr>
          <a:xfrm>
            <a:off x="611280" y="26028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рганизованная образователь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imes New Roman"/>
              </a:rPr>
              <a:t>Цель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чить детей раннего возраста правильно выполнять основные движения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Развивать физические возможности детей, укреплять орган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вивать интерес  к  физическ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- создание эмоционального комфорта для де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 стимулирование желания детей заниматься двигательной активн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D:\Физо\DSCF9066.JPG"/>
          <p:cNvPicPr/>
          <p:nvPr/>
        </p:nvPicPr>
        <p:blipFill>
          <a:blip r:embed="rId1"/>
          <a:stretch/>
        </p:blipFill>
        <p:spPr>
          <a:xfrm>
            <a:off x="971640" y="3706920"/>
            <a:ext cx="3512880" cy="27842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D:\Физо\P1030336.JPG"/>
          <p:cNvPicPr/>
          <p:nvPr/>
        </p:nvPicPr>
        <p:blipFill>
          <a:blip r:embed="rId2"/>
          <a:srcRect l="0" t="0" r="20017" b="0"/>
          <a:stretch/>
        </p:blipFill>
        <p:spPr>
          <a:xfrm>
            <a:off x="5419800" y="3706920"/>
            <a:ext cx="303984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C:\Documents and Settings\Пользователь\Рабочий стол\P1030327.JPG"/>
          <p:cNvPicPr/>
          <p:nvPr/>
        </p:nvPicPr>
        <p:blipFill>
          <a:blip r:embed="rId1"/>
          <a:srcRect l="7191" t="0" r="0" b="10824"/>
          <a:stretch/>
        </p:blipFill>
        <p:spPr>
          <a:xfrm>
            <a:off x="539640" y="293760"/>
            <a:ext cx="4152960" cy="28972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" descr="C:\Documents and Settings\Пользователь\Рабочий стол\DSCN6762.JPG"/>
          <p:cNvPicPr/>
          <p:nvPr/>
        </p:nvPicPr>
        <p:blipFill>
          <a:blip r:embed="rId2"/>
          <a:stretch/>
        </p:blipFill>
        <p:spPr>
          <a:xfrm>
            <a:off x="4952880" y="293760"/>
            <a:ext cx="3868920" cy="28972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7"/>
          <p:cNvSpPr/>
          <p:nvPr/>
        </p:nvSpPr>
        <p:spPr>
          <a:xfrm>
            <a:off x="907920" y="4559400"/>
            <a:ext cx="3264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inherit"/>
                <a:ea typeface="Times New Roman"/>
              </a:rPr>
              <a:t>Чтобы быть всегда здоровым</a:t>
            </a:r>
            <a:r>
              <a:rPr b="0" lang="ru-RU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,</a:t>
            </a:r>
            <a:br>
              <a:rPr sz="1600"/>
            </a:br>
            <a:r>
              <a:rPr b="0" lang="ru-RU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Нужно бегать и скакать.</a:t>
            </a:r>
            <a:br>
              <a:rPr sz="1600"/>
            </a:br>
            <a:r>
              <a:rPr b="0" lang="ru-RU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Больше спортом заниматься,</a:t>
            </a:r>
            <a:br>
              <a:rPr sz="1600"/>
            </a:br>
            <a:r>
              <a:rPr b="0" lang="ru-RU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И здоровым не скучать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" descr="D:\Физо\DSCF9059.JPG"/>
          <p:cNvPicPr/>
          <p:nvPr/>
        </p:nvPicPr>
        <p:blipFill>
          <a:blip r:embed="rId3"/>
          <a:stretch/>
        </p:blipFill>
        <p:spPr>
          <a:xfrm>
            <a:off x="5168880" y="3645000"/>
            <a:ext cx="343548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48000" y="-531720"/>
            <a:ext cx="57960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611280" y="260280"/>
            <a:ext cx="842472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одвижные игры и пальчиковая гимна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imes New Roman"/>
              </a:rPr>
              <a:t>Цель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чить детей раннего возраста правильно выполнять основные движения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Развивать физические возможности детей, укреплять орган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вивать интерес  к  физическ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imes New Roman"/>
              </a:rPr>
              <a:t>Цель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чить детей развивать мелкую моторику, координацию движений пальцев рук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imes New Roman"/>
              </a:rPr>
              <a:t>Задачи: - создание эмоционального комфорта для де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</a:rPr>
              <a:t>- стимулирование желания детей заниматься двигательной активн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" descr="D:\Физо\DSCF9068.JPG"/>
          <p:cNvPicPr/>
          <p:nvPr/>
        </p:nvPicPr>
        <p:blipFill>
          <a:blip r:embed="rId1"/>
          <a:stretch/>
        </p:blipFill>
        <p:spPr>
          <a:xfrm>
            <a:off x="714240" y="3714840"/>
            <a:ext cx="3930840" cy="28432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H:\DCIM\117NIKON\DSCN6821.JPG"/>
          <p:cNvPicPr/>
          <p:nvPr/>
        </p:nvPicPr>
        <p:blipFill>
          <a:blip r:embed="rId2"/>
          <a:stretch/>
        </p:blipFill>
        <p:spPr>
          <a:xfrm>
            <a:off x="4857840" y="3714840"/>
            <a:ext cx="4000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1c1782"/>
          <p:cNvPicPr/>
          <p:nvPr/>
        </p:nvPicPr>
        <p:blipFill>
          <a:blip r:embed="rId1"/>
          <a:stretch/>
        </p:blipFill>
        <p:spPr>
          <a:xfrm>
            <a:off x="684360" y="5300640"/>
            <a:ext cx="1366560" cy="1368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Snowflake_024"/>
          <p:cNvPicPr/>
          <p:nvPr/>
        </p:nvPicPr>
        <p:blipFill>
          <a:blip r:embed="rId2"/>
          <a:stretch/>
        </p:blipFill>
        <p:spPr>
          <a:xfrm>
            <a:off x="4211640" y="544500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3"/>
          <a:stretch/>
        </p:blipFill>
        <p:spPr>
          <a:xfrm>
            <a:off x="7380360" y="5516640"/>
            <a:ext cx="1152360" cy="10810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684360" y="362448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7"/>
          <p:cNvSpPr/>
          <p:nvPr/>
        </p:nvSpPr>
        <p:spPr>
          <a:xfrm>
            <a:off x="1728720" y="3999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ыхательные упраж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9"/>
          <p:cNvSpPr/>
          <p:nvPr/>
        </p:nvSpPr>
        <p:spPr>
          <a:xfrm>
            <a:off x="1187280" y="1128600"/>
            <a:ext cx="76489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Цель:</a:t>
            </a: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990033"/>
                </a:solidFill>
                <a:latin typeface="Times New Roman"/>
              </a:rPr>
              <a:t>Повысить жизненный тонус и сопротивляемость, закаленность, устойчивость организма к заболеваниям дыхательной сист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Задачи:</a:t>
            </a: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990033"/>
                </a:solidFill>
                <a:latin typeface="Times New Roman"/>
              </a:rPr>
              <a:t>1.Научить детей дышать через  н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33"/>
                </a:solidFill>
                <a:latin typeface="Times New Roman"/>
              </a:rPr>
              <a:t>               </a:t>
            </a:r>
            <a:r>
              <a:rPr b="0" i="1" lang="ru-RU" sz="1800" spc="-1" strike="noStrike">
                <a:solidFill>
                  <a:srgbClr val="990033"/>
                </a:solidFill>
                <a:latin typeface="Times New Roman"/>
              </a:rPr>
              <a:t>2 Подготовить их к выполнению   более сложных дыхательных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33"/>
                </a:solidFill>
                <a:latin typeface="Times New Roman"/>
              </a:rPr>
              <a:t>                  </a:t>
            </a:r>
            <a:r>
              <a:rPr b="0" i="1" lang="ru-RU" sz="1800" spc="-1" strike="noStrike">
                <a:solidFill>
                  <a:srgbClr val="990033"/>
                </a:solidFill>
                <a:latin typeface="Times New Roman"/>
              </a:rPr>
              <a:t>упраж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8" descr="C:\Documents and Settings\Пользователь\Рабочий стол\К собранию\P1030363.JPG"/>
          <p:cNvPicPr/>
          <p:nvPr/>
        </p:nvPicPr>
        <p:blipFill>
          <a:blip r:embed="rId4"/>
          <a:srcRect l="0" t="0" r="2724" b="12222"/>
          <a:stretch/>
        </p:blipFill>
        <p:spPr>
          <a:xfrm>
            <a:off x="2916360" y="3833640"/>
            <a:ext cx="36558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4360" y="902880"/>
            <a:ext cx="45352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дной из главных задач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здоровления детей раннего возраста является создание атмосферы психологического комфорта и эмоционального благополучия. Этой цели может служить и уголок уединения, который представляет собой нишу покоя, где ребенок чувствует себя защищенным и может тихонечко играть. Иногда ему это нужно, иногда нет. Такие уголки скрывают ребенка от посторонних глаз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Рисунок 3" descr="C:\Documents and Settings\Пользователь\Рабочий стол\К собранию\P1030380.JPG"/>
          <p:cNvPicPr/>
          <p:nvPr/>
        </p:nvPicPr>
        <p:blipFill>
          <a:blip r:embed="rId1"/>
          <a:srcRect l="19239" t="0" r="18853" b="0"/>
          <a:stretch/>
        </p:blipFill>
        <p:spPr>
          <a:xfrm>
            <a:off x="5364000" y="1227240"/>
            <a:ext cx="3465720" cy="45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4360" y="934560"/>
            <a:ext cx="820728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доровье детей – это будущее страны. Сохранить и улучшать здоровье детей – это огромная каждодневная работа, начиная с рождения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истематическая работа по оздоровлению дете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 применением инновационных форм физкультурно-оздоровительных мероприятий и создание психоэмоционального и физического комфорт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зволяет сократить число случаев заболеваний по причине простуды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эффективно развивать двигательную деятельность детей и сохранять и укреплять здоровье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0:20:44Z</dcterms:created>
  <dc:creator>side</dc:creator>
  <dc:description/>
  <dc:language>en-US</dc:language>
  <cp:lastModifiedBy>1</cp:lastModifiedBy>
  <dcterms:modified xsi:type="dcterms:W3CDTF">2016-11-30T10:59:19Z</dcterms:modified>
  <cp:revision>120</cp:revision>
  <dc:subject/>
  <dc:title>Your Title Here…</dc:title>
</cp:coreProperties>
</file>