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94A-6E76-4083-9542-9ED67199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203-CE09-477B-8024-A6F27318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A825-BF73-4C06-B2C1-AFAE8659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9CD1-F1A0-4F94-B4C6-4DAEDAAB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EC8F-8A02-4329-AB8E-0FA7608B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1DC5-68AC-4415-82EE-5CA073F6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1E39-1F96-49B9-91DC-72C301A6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7B2-1888-409B-BD9E-D772A2DE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6A2-ED6B-4DE6-99AE-0DD2FAF3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9D0-3386-4FD8-95A5-6D4C8715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457-DBBA-43F3-A4AA-BF634419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936F-47AF-476A-B5D6-862FB6B0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0AA4-9885-4DBC-9459-7532DF1153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15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student.PEDAGOG.000\Desktop\8f9360a6aef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714680" y="857160"/>
            <a:ext cx="7341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0099"/>
                </a:solidFill>
                <a:latin typeface="Monotype Corsiva"/>
              </a:rPr>
              <a:t>Как попали к нам растения</a:t>
            </a:r>
            <a:r>
              <a:rPr b="0" lang="ru-RU" sz="4800" spc="-1" strike="noStrike">
                <a:solidFill>
                  <a:srgbClr val="cc0099"/>
                </a:solidFill>
                <a:latin typeface="Monotype Corsiv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8"/>
          <p:cNvSpPr/>
          <p:nvPr/>
        </p:nvSpPr>
        <p:spPr>
          <a:xfrm>
            <a:off x="873720" y="428760"/>
            <a:ext cx="3635640" cy="764280"/>
          </a:xfrm>
          <a:prstGeom prst="rect">
            <a:avLst/>
          </a:prstGeom>
          <a:solidFill>
            <a:srgbClr val="ffff66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Я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2"/>
          <p:cNvSpPr/>
          <p:nvPr/>
        </p:nvSpPr>
        <p:spPr>
          <a:xfrm>
            <a:off x="428760" y="2428920"/>
            <a:ext cx="82864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известна земляника крупноплодная, часто неправильно называемая клубникой. Она родственница нашей лесной землянике, только очень далекая. Родоначальниками же современной крупноплодной земляники были два вида — виргинская и чилоэская (по названию острова Чилоэ в Тихом океане). Земляника виргинская была завезена в Европу из Северной Америки в 1624 году и высажена в ботаническом саду в Париже. В 1714 году по западному побережью Южной Америки путешествовал французский офицер А. Фрезье. С большим трудом ему удалось довезти до Европы несколько кустиков чилоэской земляники. Часть их он передал ботаническому саду в Париже, остальные — своим друзьям, садоводам-любителям. Чилоэская земляника — растение двудомное. В Париж же попали только женские экземпляры. Потомство от скрещивания чилоэской и виргинской земляники дало начало современным сортам этой ценнейшей ягодной культур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Франции крупноплодная земляника, быстро распространилась в соседние страны. В России она появилась много позже, в XIX веке. До этого у нас знали и собирали только лесную землянику. Теперь земляника крупноплодная широко возделывается в нашей стра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sivatherium.narod.ru/postcard/rast_per/pic_13.jpg"/>
          <p:cNvPicPr/>
          <p:nvPr/>
        </p:nvPicPr>
        <p:blipFill>
          <a:blip r:embed="rId2"/>
          <a:stretch/>
        </p:blipFill>
        <p:spPr>
          <a:xfrm>
            <a:off x="6143760" y="357120"/>
            <a:ext cx="28000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" descr="31"/>
          <p:cNvPicPr/>
          <p:nvPr/>
        </p:nvPicPr>
        <p:blipFill>
          <a:blip r:embed="rId2"/>
          <a:stretch/>
        </p:blipFill>
        <p:spPr>
          <a:xfrm>
            <a:off x="1908000" y="1916280"/>
            <a:ext cx="1802160" cy="1728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34"/>
          <p:cNvPicPr/>
          <p:nvPr/>
        </p:nvPicPr>
        <p:blipFill>
          <a:blip r:embed="rId3"/>
          <a:stretch/>
        </p:blipFill>
        <p:spPr>
          <a:xfrm>
            <a:off x="611280" y="1700280"/>
            <a:ext cx="1301760" cy="1239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26"/>
          <p:cNvPicPr/>
          <p:nvPr/>
        </p:nvPicPr>
        <p:blipFill>
          <a:blip r:embed="rId4"/>
          <a:stretch/>
        </p:blipFill>
        <p:spPr>
          <a:xfrm>
            <a:off x="468360" y="3860640"/>
            <a:ext cx="1104840" cy="19051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е значение для человека имеют раст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3"/>
          <p:cNvPicPr/>
          <p:nvPr/>
        </p:nvPicPr>
        <p:blipFill>
          <a:blip r:embed="rId5"/>
          <a:stretch/>
        </p:blipFill>
        <p:spPr>
          <a:xfrm>
            <a:off x="1116000" y="4292640"/>
            <a:ext cx="2160720" cy="1450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27"/>
          <p:cNvPicPr/>
          <p:nvPr/>
        </p:nvPicPr>
        <p:blipFill>
          <a:blip r:embed="rId6"/>
          <a:stretch/>
        </p:blipFill>
        <p:spPr>
          <a:xfrm>
            <a:off x="6300720" y="4076640"/>
            <a:ext cx="1612800" cy="17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28"/>
          <p:cNvPicPr/>
          <p:nvPr/>
        </p:nvPicPr>
        <p:blipFill>
          <a:blip r:embed="rId7"/>
          <a:stretch/>
        </p:blipFill>
        <p:spPr>
          <a:xfrm>
            <a:off x="6804000" y="1268280"/>
            <a:ext cx="1733400" cy="1467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30"/>
          <p:cNvPicPr/>
          <p:nvPr/>
        </p:nvPicPr>
        <p:blipFill>
          <a:blip r:embed="rId8"/>
          <a:stretch/>
        </p:blipFill>
        <p:spPr>
          <a:xfrm rot="2082600">
            <a:off x="5795640" y="2204640"/>
            <a:ext cx="1444680" cy="1208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2"/>
          <p:cNvSpPr/>
          <p:nvPr/>
        </p:nvSpPr>
        <p:spPr>
          <a:xfrm>
            <a:off x="687600" y="5661000"/>
            <a:ext cx="30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мят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5513040" y="3557520"/>
            <a:ext cx="278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чат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543240" y="355752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ют полезные ве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5296680" y="5661000"/>
            <a:ext cx="33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евают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37"/>
          <p:cNvPicPr/>
          <p:nvPr/>
        </p:nvPicPr>
        <p:blipFill>
          <a:blip r:embed="rId2"/>
          <a:stretch/>
        </p:blipFill>
        <p:spPr>
          <a:xfrm>
            <a:off x="539640" y="333360"/>
            <a:ext cx="1425600" cy="178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46"/>
          <p:cNvPicPr/>
          <p:nvPr/>
        </p:nvPicPr>
        <p:blipFill>
          <a:blip r:embed="rId3"/>
          <a:stretch/>
        </p:blipFill>
        <p:spPr>
          <a:xfrm>
            <a:off x="7020000" y="333360"/>
            <a:ext cx="1649160" cy="165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18_1158"/>
          <p:cNvPicPr/>
          <p:nvPr/>
        </p:nvPicPr>
        <p:blipFill>
          <a:blip r:embed="rId4"/>
          <a:stretch/>
        </p:blipFill>
        <p:spPr>
          <a:xfrm>
            <a:off x="684360" y="4221000"/>
            <a:ext cx="2106360" cy="2240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1471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5400" spc="-1" strike="noStrike">
                <a:solidFill>
                  <a:srgbClr val="800080"/>
                </a:solidFill>
                <a:latin typeface="Monotype Corsiva"/>
              </a:rPr>
              <a:t>Плодовые культуры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84360" y="2193840"/>
            <a:ext cx="7775280" cy="2043720"/>
          </a:xfrm>
          <a:prstGeom prst="rect">
            <a:avLst/>
          </a:prstGeom>
          <a:solidFill>
            <a:srgbClr val="ffff99"/>
          </a:solidFill>
          <a:ln w="57240">
            <a:solidFill>
              <a:srgbClr val="c4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довые растения растут в сад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ним относятся не только фрукто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ья, но и кустарники, и трав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ющие нам пл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1235580167_1"/>
          <p:cNvPicPr/>
          <p:nvPr/>
        </p:nvPicPr>
        <p:blipFill>
          <a:blip r:embed="rId5"/>
          <a:stretch/>
        </p:blipFill>
        <p:spPr>
          <a:xfrm>
            <a:off x="3419640" y="4437000"/>
            <a:ext cx="2471400" cy="1854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zBMji74P"/>
          <p:cNvPicPr/>
          <p:nvPr/>
        </p:nvPicPr>
        <p:blipFill>
          <a:blip r:embed="rId6"/>
          <a:stretch/>
        </p:blipFill>
        <p:spPr>
          <a:xfrm>
            <a:off x="6227640" y="4437000"/>
            <a:ext cx="23274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41"/>
          <p:cNvPicPr/>
          <p:nvPr/>
        </p:nvPicPr>
        <p:blipFill>
          <a:blip r:embed="rId2"/>
          <a:stretch/>
        </p:blipFill>
        <p:spPr>
          <a:xfrm>
            <a:off x="468360" y="476280"/>
            <a:ext cx="1800000" cy="1440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Monotype Corsiva"/>
              </a:rPr>
              <a:t>          </a:t>
            </a:r>
            <a:br>
              <a:rPr sz="4800"/>
            </a:br>
            <a:r>
              <a:rPr b="0" lang="ru-RU" sz="4800" spc="-1" strike="noStrike">
                <a:solidFill>
                  <a:srgbClr val="006600"/>
                </a:solidFill>
                <a:latin typeface="Monotype Corsiva"/>
              </a:rPr>
              <a:t>           </a:t>
            </a:r>
            <a:r>
              <a:rPr b="0" lang="ru-RU" sz="5400" spc="-1" strike="noStrike">
                <a:solidFill>
                  <a:srgbClr val="006600"/>
                </a:solidFill>
                <a:latin typeface="Monotype Corsiva"/>
              </a:rPr>
              <a:t>Овощные культу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53"/>
          <p:cNvPicPr/>
          <p:nvPr/>
        </p:nvPicPr>
        <p:blipFill>
          <a:blip r:embed="rId3"/>
          <a:stretch/>
        </p:blipFill>
        <p:spPr>
          <a:xfrm>
            <a:off x="7164360" y="476280"/>
            <a:ext cx="1478160" cy="1649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994680" y="2349360"/>
            <a:ext cx="7111800" cy="1068840"/>
          </a:xfrm>
          <a:prstGeom prst="rect">
            <a:avLst/>
          </a:prstGeom>
          <a:solidFill>
            <a:srgbClr val="ccffcc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вощные культуры растут на пол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 ого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post-469-1243236376"/>
          <p:cNvPicPr/>
          <p:nvPr/>
        </p:nvPicPr>
        <p:blipFill>
          <a:blip r:embed="rId4"/>
          <a:stretch/>
        </p:blipFill>
        <p:spPr>
          <a:xfrm>
            <a:off x="826920" y="4005360"/>
            <a:ext cx="1967040" cy="2050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120"/>
          <p:cNvPicPr/>
          <p:nvPr/>
        </p:nvPicPr>
        <p:blipFill>
          <a:blip r:embed="rId5"/>
          <a:stretch/>
        </p:blipFill>
        <p:spPr>
          <a:xfrm>
            <a:off x="3203640" y="4076640"/>
            <a:ext cx="2616120" cy="188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арлдд"/>
          <p:cNvPicPr/>
          <p:nvPr/>
        </p:nvPicPr>
        <p:blipFill>
          <a:blip r:embed="rId6"/>
          <a:stretch/>
        </p:blipFill>
        <p:spPr>
          <a:xfrm>
            <a:off x="5940360" y="4149720"/>
            <a:ext cx="245916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3" descr="275px-Illustration_Hordeum_vulgare1"/>
          <p:cNvPicPr/>
          <p:nvPr/>
        </p:nvPicPr>
        <p:blipFill>
          <a:blip r:embed="rId2"/>
          <a:stretch/>
        </p:blipFill>
        <p:spPr>
          <a:xfrm>
            <a:off x="6270480" y="4292640"/>
            <a:ext cx="965520" cy="2206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Avena_strigosa"/>
          <p:cNvPicPr/>
          <p:nvPr/>
        </p:nvPicPr>
        <p:blipFill>
          <a:blip r:embed="rId3"/>
          <a:stretch/>
        </p:blipFill>
        <p:spPr>
          <a:xfrm>
            <a:off x="3465360" y="4149720"/>
            <a:ext cx="1538280" cy="230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26"/>
          <p:cNvPicPr/>
          <p:nvPr/>
        </p:nvPicPr>
        <p:blipFill>
          <a:blip r:embed="rId4"/>
          <a:stretch/>
        </p:blipFill>
        <p:spPr>
          <a:xfrm>
            <a:off x="7236000" y="476280"/>
            <a:ext cx="1293480" cy="223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54"/>
          <p:cNvPicPr/>
          <p:nvPr/>
        </p:nvPicPr>
        <p:blipFill>
          <a:blip r:embed="rId5"/>
          <a:stretch/>
        </p:blipFill>
        <p:spPr>
          <a:xfrm>
            <a:off x="468360" y="404640"/>
            <a:ext cx="1963800" cy="220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0" lang="ru-RU" sz="5400" spc="-1" strike="noStrike">
                <a:solidFill>
                  <a:srgbClr val="cc6600"/>
                </a:solidFill>
                <a:latin typeface="Monotype Corsiva"/>
              </a:rPr>
              <a:t>Зерновые культу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07760" y="2708280"/>
            <a:ext cx="7860240" cy="1556280"/>
          </a:xfrm>
          <a:prstGeom prst="rect">
            <a:avLst/>
          </a:prstGeom>
          <a:solidFill>
            <a:srgbClr val="ffcc66"/>
          </a:solidFill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рновые культуры растут на полях.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ёрен пшеницы, ячменя, ржи, ов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ают муку и круп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994a69ce7840"/>
          <p:cNvPicPr/>
          <p:nvPr/>
        </p:nvPicPr>
        <p:blipFill>
          <a:blip r:embed="rId6"/>
          <a:stretch/>
        </p:blipFill>
        <p:spPr>
          <a:xfrm>
            <a:off x="539640" y="4365720"/>
            <a:ext cx="1552680" cy="20494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1602000" y="57736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554360" y="5789520"/>
            <a:ext cx="10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ё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168680" y="578952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чм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55"/>
          <p:cNvPicPr/>
          <p:nvPr/>
        </p:nvPicPr>
        <p:blipFill>
          <a:blip r:embed="rId2"/>
          <a:stretch/>
        </p:blipFill>
        <p:spPr>
          <a:xfrm>
            <a:off x="6948360" y="476280"/>
            <a:ext cx="1809720" cy="2663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48"/>
          <p:cNvPicPr/>
          <p:nvPr/>
        </p:nvPicPr>
        <p:blipFill>
          <a:blip r:embed="rId3"/>
          <a:stretch/>
        </p:blipFill>
        <p:spPr>
          <a:xfrm>
            <a:off x="611280" y="476280"/>
            <a:ext cx="182700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Monotype Corsiva"/>
              </a:rPr>
              <a:t>Прядильн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808200" y="24829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09200" y="3213000"/>
            <a:ext cx="7657560" cy="3018600"/>
          </a:xfrm>
          <a:prstGeom prst="rect">
            <a:avLst/>
          </a:prstGeom>
          <a:solidFill>
            <a:srgbClr val="ccff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дильные растения очень це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дают прекрасное волокно, из кот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го вырабатывают ткани: ситец, бяз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тин, трикотаж, постельное бельё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фельные полотен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342520" y="242100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лоп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6209280" y="2421000"/>
            <a:ext cx="8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ё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51"/>
          <p:cNvPicPr/>
          <p:nvPr/>
        </p:nvPicPr>
        <p:blipFill>
          <a:blip r:embed="rId2"/>
          <a:stretch/>
        </p:blipFill>
        <p:spPr>
          <a:xfrm>
            <a:off x="539640" y="549360"/>
            <a:ext cx="2448000" cy="237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50"/>
          <p:cNvPicPr/>
          <p:nvPr/>
        </p:nvPicPr>
        <p:blipFill>
          <a:blip r:embed="rId3"/>
          <a:stretch/>
        </p:blipFill>
        <p:spPr>
          <a:xfrm>
            <a:off x="6372360" y="476280"/>
            <a:ext cx="2179440" cy="2743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Декоративные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раст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678960" y="2997360"/>
            <a:ext cx="809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оны, нарциссы, гладиолусы, тюльп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цветы. Их выращив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лумбах для кра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045b0d377ea4t"/>
          <p:cNvPicPr/>
          <p:nvPr/>
        </p:nvPicPr>
        <p:blipFill>
          <a:blip r:embed="rId4"/>
          <a:stretch/>
        </p:blipFill>
        <p:spPr>
          <a:xfrm>
            <a:off x="755640" y="4508640"/>
            <a:ext cx="1762200" cy="1885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zDEsLlrQjm"/>
          <p:cNvPicPr/>
          <p:nvPr/>
        </p:nvPicPr>
        <p:blipFill>
          <a:blip r:embed="rId5"/>
          <a:stretch/>
        </p:blipFill>
        <p:spPr>
          <a:xfrm>
            <a:off x="6300720" y="4005360"/>
            <a:ext cx="2309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3" descr="http://sivatherium.narod.ru/postcard/rast_per/pic_01.jpg"/>
          <p:cNvPicPr/>
          <p:nvPr/>
        </p:nvPicPr>
        <p:blipFill>
          <a:blip r:embed="rId1"/>
          <a:stretch/>
        </p:blipFill>
        <p:spPr>
          <a:xfrm>
            <a:off x="6286680" y="357120"/>
            <a:ext cx="2549520" cy="333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8"/>
          <p:cNvSpPr/>
          <p:nvPr/>
        </p:nvSpPr>
        <p:spPr>
          <a:xfrm>
            <a:off x="589680" y="357120"/>
            <a:ext cx="5156640" cy="764280"/>
          </a:xfrm>
          <a:prstGeom prst="rect">
            <a:avLst/>
          </a:prstGeom>
          <a:solidFill>
            <a:srgbClr val="ffff66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КУРУЗА (МАИС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428760" y="1285920"/>
            <a:ext cx="58579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просто трудно представить наши южные поля без кукурузы, переселившейся к нам из Центральной Америки около 500 лет назад. Матросы Христофора Колумба были первыми европейцами, увидевшими это растение. Индейцы называли его маисом и возделывали с незапамятных времен. Многие индейские племена обожествляли маис, от которого зависело их благополучие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мифов и легенд связано с этим растением. Рассказывают, будто бог маиса был сыном бога Солнца и богини Луны. Но нашлись другие божества, которые позавидовали его красоте и силе. Они убили прекрасного юношу, а тело разрубили на мелкие кусочки, которые затем превратились в зерна маиса. Может быть, поэтому мексиканцы называют кукурузу «тлаолли», что значит — тел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индейцев европейцы узнали, как нужно обрабатывать кукурузное поле. Маис прижился в Европе легко и распространился прямо-таки с рекордной быстротой. Позже кукуруза покорила пять континентов, став наряду с пшеницей и рисом кормилицей миллионов людей. На территории нашей страны раньше других народов, еще в XVII веке, оценили кукурузу молдаване и грузины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олько не делают из этого удивительного растения: муку и крупу, консервированные зерна и хлопья, крахмал и растительное масло — всего не перечтешь! Кукуруза используется повсеместно и как кормовая культура. Она служит первоклассным сырьем и для технических отраслей промышленности, идет на изготовление бумаги, линолеума, вискозы, изоляционных материалов, смол, уксусной кислоты и других продук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8"/>
          <p:cNvSpPr/>
          <p:nvPr/>
        </p:nvSpPr>
        <p:spPr>
          <a:xfrm>
            <a:off x="864000" y="428760"/>
            <a:ext cx="4885200" cy="764280"/>
          </a:xfrm>
          <a:prstGeom prst="rect">
            <a:avLst/>
          </a:prstGeom>
          <a:solidFill>
            <a:srgbClr val="ffff66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СОЛНЕЧ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428760" y="1285920"/>
            <a:ext cx="61434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олнечник растет во многих районах России. Его соцветие очень похоже на маленькое солнце, а желтые язычковые цветки — на солнечные лучи. На родине подсолнечника, на юге Северной Америки, это растение считали священным, называли «солнечным цветком», его соцветие отливали из золота, носили на торжественных процессиях, устанавливали в храма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вропу подсолнечник был завезен испанскими моряками в начале XVI века и посажен в ботаническом саду в Мадриде под названием «цветок солнца». Его разводили как декоративное растение. Мода на «солнечный цветок» перекинулась и в другие страны. В Россию он попал при Петре I из Голландии и в течение нескольких десятилетий украшал сады. Лишь в 1829 году в селе Алексеевке Воронежской губернии крестьянин Д. Бокарев открыл людям новое свойство этого растения, обнаружив в нем щедрый источник вкусного масла. Он смастерил пресс, на котором стал выжимать из семян подсолнечника масло. Вскоре «солнечный цветок» стал нашим главным масличным растением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ский селекционер академик В. С. Пустовойт вывел новые сорта подсолнечника с очень высоким содержанием масла. Подсолнечное масло употребляется не только в пищу. Оно используется при выработке маргарина, мыла и масляных красок. Кроме масла из подсолнечника получают мед, лекарства и хороший силос. Россия по праву считается второй родиной подсолнечника. Отсюда он начал свое новое путешествие по мир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sivatherium.narod.ru/postcard/rast_per/pic_04.jpg"/>
          <p:cNvPicPr/>
          <p:nvPr/>
        </p:nvPicPr>
        <p:blipFill>
          <a:blip r:embed="rId2"/>
          <a:stretch/>
        </p:blipFill>
        <p:spPr>
          <a:xfrm>
            <a:off x="6715080" y="357120"/>
            <a:ext cx="212400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8"/>
          <p:cNvSpPr/>
          <p:nvPr/>
        </p:nvSpPr>
        <p:spPr>
          <a:xfrm>
            <a:off x="1638000" y="571680"/>
            <a:ext cx="2943720" cy="642600"/>
          </a:xfrm>
          <a:prstGeom prst="rect">
            <a:avLst/>
          </a:prstGeom>
          <a:solidFill>
            <a:srgbClr val="ffff66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РТОФ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2"/>
          <p:cNvSpPr/>
          <p:nvPr/>
        </p:nvSpPr>
        <p:spPr>
          <a:xfrm>
            <a:off x="428760" y="2143080"/>
            <a:ext cx="8143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еобыкновенную популярность картофеля, лишь немногие знают, что история переселения его в Европу и в Россию богата разнообразными событиями. Растению этому поклонялись, и его же ненавидели. Цветами картофеля украшали знаменитые королевские дворцы, и это же растение скармливали домашним животным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картофеля — Южная Америка, где он растет в Андах, от Чили до Центральной Америки. Там его возделывают с незапамятных времен. Изображения картофельного растения можно увидеть на глиняных изделиях, обнаруженных при раскопках древних захоронений инк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вропе о картофеле впервые узнали около 400 лет назад. Вопрос о том, кто первым привез картофель как пищевую культуру из Нового Света — испанцы или англичане, — все еще дискутируется. Слух о чудесных клубнях, «земляных яблоках», разнесся тогда по Европе, но не везде новинка пришлась по вкусу. Кое-где пытались есть клубни сырыми или еще хуже — пробовали есть ядовитые зеленые плоды, после чего уже ни за что не хотели сажать это растен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ю картофель был завезен при Петре I, но «заморского гостя» тоже встретили в штыки. Дурная молва о растении как источнике проказы, туберкулеза, рахита настолько цепко держалась в народе, что сажать «чертовы яблоки» наотрез отказывались. Начались «картофельные бунты», которые жестоко подавлялис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м, немало трудностей преодолели в России скромные, невинные клубни, прежде чем завоевали всеобщее признание. Сейчас картофель у нас по праву называют вторым хлебом. СССР производит около одной трети всего выращиваемого на планете картофеля, занимая первое место как по площади, так и по валовому сбор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sivatherium.narod.ru/postcard/rast_per/pic_03.jpg"/>
          <p:cNvPicPr/>
          <p:nvPr/>
        </p:nvPicPr>
        <p:blipFill>
          <a:blip r:embed="rId1"/>
          <a:stretch/>
        </p:blipFill>
        <p:spPr>
          <a:xfrm>
            <a:off x="5929200" y="214200"/>
            <a:ext cx="2783160" cy="197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8"/>
          <p:cNvSpPr/>
          <p:nvPr/>
        </p:nvSpPr>
        <p:spPr>
          <a:xfrm>
            <a:off x="1940040" y="785880"/>
            <a:ext cx="2398320" cy="764280"/>
          </a:xfrm>
          <a:prstGeom prst="rect">
            <a:avLst/>
          </a:prstGeom>
          <a:solidFill>
            <a:srgbClr val="ffff66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ЕК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2"/>
          <p:cNvSpPr/>
          <p:nvPr/>
        </p:nvSpPr>
        <p:spPr>
          <a:xfrm>
            <a:off x="428760" y="2357280"/>
            <a:ext cx="82864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кла — древний овощ, как полагают, родом из Средиземноморья и Передней Азии. У персов это растение считалось символом ссоры и сплетен. Такая нелестная характеристика была у свеклы и в Греции. А вот в Древнем Риме она пользовалась большим почетом. В сочинениях Плиния Старшего есть упоминание о белой и красной свекл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вулетнее растение семейства маревых с толстым мясистым корнем культивируется сейчас во всех частях света, главным образом в умеренном климате. Корнеплодная свекла распространилась в Европе, по-видимому, в XIV—XV веках. Примерно в то же время свеклу завезли в Россию. В XVI—XVII веках она стала уже широко распространенным овощем. Из свекол-родоначальниц произошли наши теперешние свеклы: красно-фиолетовая, из которой варят борщ и делают винегрет, сладкие белые корнеплоды, названные сахарной свеклой, и кормовая свекла. То, что в корнях растения содержится сахар, никому раньше и в голову не приходило. В России знали только заморский тростниковый сахар, но продавали его в аптеках, и стоил он очень дорого. И вот в 1747 году немецкий химик Маркграф нашел в белой свекле сахар не хуже тростникового. В 1799 году Франц Ахард впервые получил несколько килограммов свекловичного сахара. Про удачные опыты узнали в России, и по указу Павла I русским помещикам стали отводить земли под сахарную свеклу. В скором времени в селе Алябьеве Тульской губернии был построен сахарный завод. Теперь наша страна стоит на первом месте в мире по производству свекловичного сахара, а столовая свекла по значимости в овощеводстве занимает третье место (после капусты и морков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sivatherium.narod.ru/postcard/rast_per/pic_05.jpg"/>
          <p:cNvPicPr/>
          <p:nvPr/>
        </p:nvPicPr>
        <p:blipFill>
          <a:blip r:embed="rId2"/>
          <a:stretch/>
        </p:blipFill>
        <p:spPr>
          <a:xfrm>
            <a:off x="5929200" y="357120"/>
            <a:ext cx="27972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8"/>
          <p:cNvSpPr/>
          <p:nvPr/>
        </p:nvSpPr>
        <p:spPr>
          <a:xfrm>
            <a:off x="2227320" y="500040"/>
            <a:ext cx="2433240" cy="764280"/>
          </a:xfrm>
          <a:prstGeom prst="rect">
            <a:avLst/>
          </a:prstGeom>
          <a:solidFill>
            <a:srgbClr val="ffff66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ГУР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2"/>
          <p:cNvSpPr/>
          <p:nvPr/>
        </p:nvSpPr>
        <p:spPr>
          <a:xfrm>
            <a:off x="500040" y="1357200"/>
            <a:ext cx="62866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урец — травянистое растение из семейства тыквенных, один из самых древних овощей. Родом он из Индии, известен был там за несколько тысячелетий до новой эры. Его также возделывали в Древнем Египте и Греции. Изображение огуречной плети украшало стены египетских храмов. В Древнем Египте богатые люди для здоровья пили огуречный сок с розовой водой. Там же лечились этим соком от лихорадки и собачьих укус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редиземноморья это растение распространилось в другие страны Европы, но в Россию оно, видимо, было завезено не из Европы, а из Восточной Ази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печатные сведения о культуре огурца в нашей стране относятся к началу XVI века. Русский климат оказался для «индийского гостя» слишком суровым. Сколько нужно было труда, выдумки, терпения, находчивости, чтобы сделать тропическое растение одним из распространенных и любимых овощей. Сто с лишним лет назад под Москвой, в Клину, появились первые в России теплицы, предназначенные для выращивания огурцов. В настоящее время эта культура возделывается практически повсеместно: на Кавказе и в Средней Азии, в Прибалтике и на Сахалине. В парниках и теплицах огурец — главная культ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sivatherium.narod.ru/postcard/rast_per/pic_06.jpg"/>
          <p:cNvPicPr/>
          <p:nvPr/>
        </p:nvPicPr>
        <p:blipFill>
          <a:blip r:embed="rId2"/>
          <a:stretch/>
        </p:blipFill>
        <p:spPr>
          <a:xfrm>
            <a:off x="6786720" y="357120"/>
            <a:ext cx="2036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8"/>
          <p:cNvSpPr/>
          <p:nvPr/>
        </p:nvSpPr>
        <p:spPr>
          <a:xfrm>
            <a:off x="813600" y="428760"/>
            <a:ext cx="5481360" cy="642600"/>
          </a:xfrm>
          <a:prstGeom prst="rect">
            <a:avLst/>
          </a:prstGeom>
          <a:solidFill>
            <a:srgbClr val="ffff66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МИДОР, ИЛИ ТОМ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428760" y="1285920"/>
            <a:ext cx="61434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дор — популярнейший овощ. Родина предков обыкновенных томатов — Южная Америка. Невысокие длинные кустики с мелкими красными плодами до сих пор встречаются в Перу, Эквадоре, Мексике. Индейцы племени ацтеков называли это растение «тумантла», что означает «крупная ягода». Испанцы стали называть его «томат». Из-за океана это растение было завезено в Италию, где его назвали «помидоро», что означает «золотое яблоко». Затем во Франции его окрестили «пом д’амур» — «яблоко любви». На первых порах помидоры есть побаивались, считали их ядовитыми. Даже великий натуралист Карл Линней дал растению латинское название «солянум ликоперсикум» — «волчий персик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помидоры появились в царствование Екатерины II вместе со слухом, что они ядовиты и их нельзя употреблять в пищу. Только в 1850 году наши соотечественники узнали, что плоды этого растения не опасны, а даже полезны и вкусны. Начав свой путь в Крыму, Грузии, Нижнем Поволжье, томаты стали распространяться в более северные районы Росси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известно несколько сот культивируемых оранжево-красных, розовых, желтых, больших и маленьких, круглых и продолговатых сортов помидоров. После картофеля помидоры — самая распространенная культура семейства пасленовых. В России их выращивают в открытом и защищенном грунте почти повсеместно. Так «заморский плод» стал излюбленным овощем многих люд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sivatherium.narod.ru/postcard/rast_per/pic_07.jpg"/>
          <p:cNvPicPr/>
          <p:nvPr/>
        </p:nvPicPr>
        <p:blipFill>
          <a:blip r:embed="rId2"/>
          <a:stretch/>
        </p:blipFill>
        <p:spPr>
          <a:xfrm>
            <a:off x="6429240" y="285840"/>
            <a:ext cx="25005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8"/>
          <p:cNvSpPr/>
          <p:nvPr/>
        </p:nvSpPr>
        <p:spPr>
          <a:xfrm>
            <a:off x="2568960" y="500040"/>
            <a:ext cx="1988280" cy="764280"/>
          </a:xfrm>
          <a:prstGeom prst="rect">
            <a:avLst/>
          </a:prstGeom>
          <a:solidFill>
            <a:srgbClr val="ffff66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БУ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2"/>
          <p:cNvSpPr/>
          <p:nvPr/>
        </p:nvSpPr>
        <p:spPr>
          <a:xfrm>
            <a:off x="428760" y="1285920"/>
            <a:ext cx="61434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арбуза — Южная Африка, где и сейчас в Калахари это растение встречается в диком виде. Дикий арбуз прославился тем, что в пустыне поил своим соком всех жаждущих. Арбуз культивируется издавна, его изображения найдены на рисунках древних египтян. В Западную Европу это растение было завезено в XI—XII веках рыцарями-крестоносцами. В Россию арбузы вплоть до конца XVII века привозили из-за границы как заморское лакомство. Сырыми их тогда не ели, а долго вымачивали дольки и варили с перцем и острыми пряностями. Первые арбузы были посеяны на юге России по царскому указу от 11 ноября 1660 года, причем предписывалось: как только диковинные овощи поспеют, немедленно доставить их в Москву. При Петре I арбузы уже не ввозили из-за границы. Их часто подавали во дворцах, но опять-таки не свежими, а вымоченными в сахарном сиропе. Лишь в XIX веке арбуз окончательно прижился в Нижнем Поволжье и на Украине, и его стали есть в натуральном вид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е название растение получило от слова «харбюза», что в иранских языках означает — дыня, или «огромный огурец». Ныне это растение семейства тыквенных занимает у нас самые большие в мире посевные площади. На нашу страну приходится более половины мирового сбора арбу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sivatherium.narod.ru/postcard/rast_per/pic_11.jpg"/>
          <p:cNvPicPr/>
          <p:nvPr/>
        </p:nvPicPr>
        <p:blipFill>
          <a:blip r:embed="rId2"/>
          <a:stretch/>
        </p:blipFill>
        <p:spPr>
          <a:xfrm>
            <a:off x="6715080" y="357120"/>
            <a:ext cx="213696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8"/>
          <p:cNvSpPr/>
          <p:nvPr/>
        </p:nvSpPr>
        <p:spPr>
          <a:xfrm>
            <a:off x="453240" y="428760"/>
            <a:ext cx="5481360" cy="642600"/>
          </a:xfrm>
          <a:prstGeom prst="rect">
            <a:avLst/>
          </a:prstGeom>
          <a:solidFill>
            <a:srgbClr val="ffff66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НЯ ОБЫКНОВЕ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2"/>
          <p:cNvSpPr/>
          <p:nvPr/>
        </p:nvSpPr>
        <p:spPr>
          <a:xfrm>
            <a:off x="285840" y="2214720"/>
            <a:ext cx="871524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ня «приручена» давно. Ее история уходит в глубь веков. Арабы утверждают, что дыня — плод райских садов и доставил ее на землю один из жителей рая, совершив этим страшное преступление перед богом. Дыня так много значила в хозяйстве узбека, таджика, туркмена, что ее называли даром небес, а трещины на поверхности плода — священными письменами, начертанными самим аллах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ой этого растения считают Малую и Среднюю Азию, откуда оно начало свое распространение в другие края. В Россию дыня попала в XII—XIП веках двумя путями. Впервые она обосновалась на наших землях одновременно с древнегреческими колонистами из Малой Азии, заселившими побережье Черного моря, а в более позднее время была завезена из Средней Ази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XVI века царские стрельцы, специально посланные в южные края для сбора семян редких растений, доставили в Москву и семена дыни, но из-за сурового климата она стала парниковой и оранжерейной культуро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в средней и южной зонах бахчеводства помимо дыни обыкновенной разводят дыни нескольких видов и сортов, полученные главным образом путем длительной народной селекци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 дыню чаще всего подают на десерт. А вот англичане едят ее во время завтрака. В США нередко с дыни начинают обед, а на Ближнем Востоке ее подают к мясу и рыб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sivatherium.narod.ru/postcard/rast_per/pic_12.jpg"/>
          <p:cNvPicPr/>
          <p:nvPr/>
        </p:nvPicPr>
        <p:blipFill>
          <a:blip r:embed="rId2"/>
          <a:stretch/>
        </p:blipFill>
        <p:spPr>
          <a:xfrm>
            <a:off x="6072120" y="214200"/>
            <a:ext cx="292896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1:38:28Z</dcterms:created>
  <dc:creator>мама</dc:creator>
  <dc:description/>
  <dc:language>en-US</dc:language>
  <cp:lastModifiedBy>Dima</cp:lastModifiedBy>
  <dcterms:modified xsi:type="dcterms:W3CDTF">2016-09-22T11:36:12Z</dcterms:modified>
  <cp:revision>25</cp:revision>
  <dc:subject/>
  <dc:title>Слайд 1</dc:title>
</cp:coreProperties>
</file>