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3.gif" ContentType="image/gif"/>
  <Override PartName="/ppt/media/image58.png" ContentType="image/png"/>
  <Override PartName="/ppt/media/image55.gif" ContentType="image/gif"/>
  <Override PartName="/ppt/media/image46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48.jpeg" ContentType="image/jpeg"/>
  <Override PartName="/ppt/media/image45.jpeg" ContentType="image/jpeg"/>
  <Override PartName="/ppt/media/image44.png" ContentType="image/png"/>
  <Override PartName="/ppt/media/image33.jpeg" ContentType="image/jpeg"/>
  <Override PartName="/ppt/media/image27.png" ContentType="image/png"/>
  <Override PartName="/ppt/media/image20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15.jpeg" ContentType="image/jpeg"/>
  <Override PartName="/ppt/media/image49.jpeg" ContentType="image/jpeg"/>
  <Override PartName="/ppt/media/image21.jpeg" ContentType="image/jpeg"/>
  <Override PartName="/ppt/media/image26.gif" ContentType="image/gif"/>
  <Override PartName="/ppt/media/image29.png" ContentType="image/png"/>
  <Override PartName="/ppt/media/image22.png" ContentType="image/png"/>
  <Override PartName="/ppt/media/image24.jpeg" ContentType="image/jpeg"/>
  <Override PartName="/ppt/media/image18.jpeg" ContentType="image/jpeg"/>
  <Override PartName="/ppt/media/image73.png" ContentType="image/png"/>
  <Override PartName="/ppt/media/image72.jpeg" ContentType="image/jpeg"/>
  <Override PartName="/ppt/media/image70.jpeg" ContentType="image/jpeg"/>
  <Override PartName="/ppt/media/image42.gif" ContentType="image/gif"/>
  <Override PartName="/ppt/media/image65.jpeg" ContentType="image/jpeg"/>
  <Override PartName="/ppt/media/image68.jpeg" ContentType="image/jpeg"/>
  <Override PartName="/ppt/media/image67.jpeg" ContentType="image/jpeg"/>
  <Override PartName="/ppt/media/image69.png" ContentType="image/png"/>
  <Override PartName="/ppt/media/image32.png" ContentType="image/png"/>
  <Override PartName="/ppt/media/image51.jpeg" ContentType="image/jpeg"/>
  <Override PartName="/ppt/media/image62.png" ContentType="image/png"/>
  <Override PartName="/ppt/media/image17.jpeg" ContentType="image/jpeg"/>
  <Override PartName="/ppt/media/image61.jpeg" ContentType="image/jpeg"/>
  <Override PartName="/ppt/media/image40.png" ContentType="image/png"/>
  <Override PartName="/ppt/media/image60.jpeg" ContentType="image/jpeg"/>
  <Override PartName="/ppt/media/image37.jpeg" ContentType="image/jpeg"/>
  <Override PartName="/ppt/media/image25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71.png" ContentType="image/png"/>
  <Override PartName="/ppt/media/image6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9.png" ContentType="image/png"/>
  <Override PartName="/ppt/media/image39.png" ContentType="image/png"/>
  <Override PartName="/ppt/media/image64.jpeg" ContentType="image/jpeg"/>
  <Override PartName="/ppt/media/image38.jpeg" ContentType="image/jpeg"/>
  <Override PartName="/ppt/media/image54.jpeg" ContentType="image/jpeg"/>
  <Override PartName="/ppt/media/image30.jpeg" ContentType="image/jpeg"/>
  <Override PartName="/ppt/media/image31.png" ContentType="image/png"/>
  <Override PartName="/ppt/media/image2.jpeg" ContentType="image/jpeg"/>
  <Override PartName="/ppt/media/image36.png" ContentType="image/png"/>
  <Override PartName="/ppt/media/image4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280-2FF3-49FE-BF49-7F04AD2C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A65-457F-478D-A87D-FC28E511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CDC-EC9D-42B0-A315-7D1FD0DE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E58-0429-434E-A902-7E1EB9DC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BDA1-27BC-4010-A0D2-F2D7BAB5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6857-5BB3-4174-9D5E-67F4DF3B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8A4F-F7E0-4F76-891F-BF708A3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97BB-AB8E-4C19-B293-2F8617C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D53-C245-4EA6-87C4-7C684A3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AF5-308B-46ED-9B98-32F3D40C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07C-B974-4958-9B40-00EBAA4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EC2-67C9-4902-B53B-3DFA62D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C69-2BD9-4E04-98FD-82A256CD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B38-7A93-4CB7-AB0D-F601788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4B70-94B8-4D87-B722-48D3E307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21A-3091-4CE5-81C0-E6942CDF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82DB-EEEF-47AF-873C-90637E06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142-35DF-4ECD-A5D0-DB9639ED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096-7E16-44E7-B8A3-FF18814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E6E-A613-4497-BC57-F1B8A4A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E3D-7DD6-4247-9FE9-AD78157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478-D224-4A11-A205-1750733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ED7-08CF-41DC-A396-E014758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73D-E052-41CC-AFE9-9437805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4C9E-589E-4884-B199-C3E641822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30E5-0E9F-477E-9F57-1D2A6CB05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14666570"/>
          <p:cNvPicPr/>
          <p:nvPr/>
        </p:nvPicPr>
        <p:blipFill>
          <a:blip r:embed="rId2"/>
          <a:stretch/>
        </p:blipFill>
        <p:spPr>
          <a:xfrm>
            <a:off x="3638520" y="1332000"/>
            <a:ext cx="5505480" cy="5526000"/>
          </a:xfrm>
          <a:prstGeom prst="rect">
            <a:avLst/>
          </a:prstGeom>
          <a:ln w="0">
            <a:noFill/>
          </a:ln>
        </p:spPr>
      </p:pic>
      <p:pic>
        <p:nvPicPr>
          <p:cNvPr id="83" name="krasivaya_melodiya_-_bez_slov_(xMusic.me).mp3" descr=""/>
          <p:cNvPicPr/>
          <p:nvPr/>
        </p:nvPicPr>
        <p:blipFill>
          <a:blip r:embed="rId3"/>
          <a:stretch/>
        </p:blipFill>
        <p:spPr>
          <a:xfrm>
            <a:off x="3956040" y="3228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age (15)"/>
          <p:cNvPicPr/>
          <p:nvPr/>
        </p:nvPicPr>
        <p:blipFill>
          <a:blip r:embed="rId4"/>
          <a:stretch/>
        </p:blipFill>
        <p:spPr>
          <a:xfrm>
            <a:off x="209520" y="1236600"/>
            <a:ext cx="3948120" cy="5264280"/>
          </a:xfrm>
          <a:prstGeom prst="rect">
            <a:avLst/>
          </a:prstGeom>
          <a:ln cap="rnd" w="50760">
            <a:solidFill>
              <a:srgbClr val="000000"/>
            </a:solidFill>
            <a:miter/>
          </a:ln>
        </p:spPr>
      </p:pic>
      <p:sp>
        <p:nvSpPr>
          <p:cNvPr id="85" name="WordArt 8"/>
          <p:cNvSpPr txBox="1"/>
          <p:nvPr/>
        </p:nvSpPr>
        <p:spPr>
          <a:xfrm>
            <a:off x="4460760" y="2141640"/>
            <a:ext cx="4319640" cy="19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Районная акц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"Знание - жизнь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401760" y="158760"/>
            <a:ext cx="838512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333333"/>
                  </a:solidFill>
                  <a:miter/>
                </a:ln>
                <a:solidFill>
                  <a:srgbClr val="006600">
                    <a:alpha val="6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Муниципальное бюджетное</a:t>
            </a:r>
            <a:endParaRPr b="1" lang="en-US" sz="2800" spc="1" strike="noStrike">
              <a:ln w="6480">
                <a:solidFill>
                  <a:srgbClr val="333333"/>
                </a:solidFill>
                <a:miter/>
              </a:ln>
              <a:solidFill>
                <a:srgbClr val="006600">
                  <a:alpha val="6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333333"/>
                  </a:solidFill>
                  <a:miter/>
                </a:ln>
                <a:solidFill>
                  <a:srgbClr val="006600">
                    <a:alpha val="6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 </a:t>
            </a:r>
            <a:r>
              <a:rPr b="1" lang="en-US" sz="2800" spc="1" strike="noStrike">
                <a:ln w="6480">
                  <a:solidFill>
                    <a:srgbClr val="333333"/>
                  </a:solidFill>
                  <a:miter/>
                </a:ln>
                <a:solidFill>
                  <a:srgbClr val="006600">
                    <a:alpha val="6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общеобразовательное учреждение</a:t>
            </a:r>
            <a:endParaRPr b="1" lang="en-US" sz="2800" spc="1" strike="noStrike">
              <a:ln w="6480">
                <a:solidFill>
                  <a:srgbClr val="333333"/>
                </a:solidFill>
                <a:miter/>
              </a:ln>
              <a:solidFill>
                <a:srgbClr val="006600">
                  <a:alpha val="6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333333"/>
                  </a:solidFill>
                  <a:miter/>
                </a:ln>
                <a:solidFill>
                  <a:srgbClr val="006600">
                    <a:alpha val="60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лицей №4 г. Данкова Липецкой области</a:t>
            </a:r>
            <a:endParaRPr b="1" lang="en-US" sz="2800" spc="1" strike="noStrike">
              <a:ln w="6480">
                <a:solidFill>
                  <a:srgbClr val="333333"/>
                </a:solidFill>
                <a:miter/>
              </a:ln>
              <a:solidFill>
                <a:srgbClr val="006600">
                  <a:alpha val="60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87" name="WordArt 13"/>
          <p:cNvSpPr txBox="1"/>
          <p:nvPr/>
        </p:nvSpPr>
        <p:spPr>
          <a:xfrm>
            <a:off x="4568760" y="4494240"/>
            <a:ext cx="405612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Новикова 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Оксана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Алексеевна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88" name="Музыка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1"/>
          <p:cNvGrpSpPr/>
          <p:nvPr/>
        </p:nvGrpSpPr>
        <p:grpSpPr>
          <a:xfrm>
            <a:off x="210960" y="477720"/>
            <a:ext cx="8778960" cy="6677640"/>
            <a:chOff x="210960" y="477720"/>
            <a:chExt cx="8778960" cy="6677640"/>
          </a:xfrm>
        </p:grpSpPr>
        <p:pic>
          <p:nvPicPr>
            <p:cNvPr id="124" name="Picture 5" descr=""/>
            <p:cNvPicPr/>
            <p:nvPr/>
          </p:nvPicPr>
          <p:blipFill>
            <a:blip r:embed="rId2"/>
            <a:srcRect l="17819" t="0" r="10259" b="-298"/>
            <a:stretch/>
          </p:blipFill>
          <p:spPr>
            <a:xfrm>
              <a:off x="7118280" y="723960"/>
              <a:ext cx="1800360" cy="44812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25" name="Text Box 4"/>
            <p:cNvSpPr/>
            <p:nvPr/>
          </p:nvSpPr>
          <p:spPr>
            <a:xfrm>
              <a:off x="210960" y="477720"/>
              <a:ext cx="3999240" cy="667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Наверное, каждый из нас, выбирая свой дальнейший путь, свою профессию, ориентируется на тех людей, которые рядом, которые влияют на наше восприятие жизни и чей опыт и умения вызывают в нас хорошую зависть. Так, что ответ прост - меня окружали прекрасные педагоги, профессионалы, на которых мне хотелось быть похожей. 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4491000" y="484200"/>
              <a:ext cx="2374920" cy="1797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taneo BT"/>
                </a:rPr>
                <a:t>Классный руководитель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taneo BT"/>
                </a:rPr>
                <a:t>учитель русского язык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taneo BT"/>
                </a:rPr>
                <a:t>и  литерату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taneo BT"/>
                </a:rPr>
                <a:t>Беляева Раиса Васильевн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7054920" y="5370480"/>
              <a:ext cx="1935000" cy="15541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taneo BT"/>
                </a:rPr>
                <a:t>Учитель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taneo BT"/>
                </a:rPr>
                <a:t>начальных класс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taneo BT"/>
                </a:rPr>
                <a:t>Соболева Татьян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taneo BT"/>
                </a:rPr>
                <a:t>Владимировн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7" descr="сканирование0047"/>
            <p:cNvPicPr/>
            <p:nvPr/>
          </p:nvPicPr>
          <p:blipFill>
            <a:blip r:embed="rId4"/>
            <a:stretch/>
          </p:blipFill>
          <p:spPr>
            <a:xfrm>
              <a:off x="4448160" y="1954080"/>
              <a:ext cx="2413080" cy="452592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7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9"/>
          <p:cNvGrpSpPr/>
          <p:nvPr/>
        </p:nvGrpSpPr>
        <p:grpSpPr>
          <a:xfrm>
            <a:off x="233280" y="414360"/>
            <a:ext cx="8678880" cy="6393600"/>
            <a:chOff x="233280" y="414360"/>
            <a:chExt cx="8678880" cy="6393600"/>
          </a:xfrm>
        </p:grpSpPr>
        <p:sp>
          <p:nvSpPr>
            <p:cNvPr id="130" name="Text Box 4"/>
            <p:cNvSpPr/>
            <p:nvPr/>
          </p:nvSpPr>
          <p:spPr>
            <a:xfrm>
              <a:off x="4767120" y="3787920"/>
              <a:ext cx="4145040" cy="3020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…</a:t>
              </a: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где нет времени скучать, ссориться и тратить время на пустое, где каждый ученик – это строитель будущего, а значит все жители этой страны в</a:t>
              </a:r>
              <a:r>
                <a:rPr b="1" i="1" lang="en-US" sz="2400" spc="-1" strike="noStrike">
                  <a:solidFill>
                    <a:srgbClr val="990000"/>
                  </a:solidFill>
                  <a:latin typeface="Highlight LET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ответе за будущее.</a:t>
              </a:r>
              <a:r>
                <a:rPr b="0" lang="en-US" sz="2400" spc="-1" strike="noStrike">
                  <a:solidFill>
                    <a:srgbClr val="990000"/>
                  </a:solidFill>
                  <a:latin typeface="Highlight LE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6" descr="image (4)"/>
            <p:cNvPicPr/>
            <p:nvPr/>
          </p:nvPicPr>
          <p:blipFill>
            <a:blip r:embed="rId3"/>
            <a:stretch/>
          </p:blipFill>
          <p:spPr>
            <a:xfrm>
              <a:off x="304920" y="3753000"/>
              <a:ext cx="4360680" cy="261612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32" name="Picture 7" descr="image (16)"/>
            <p:cNvPicPr/>
            <p:nvPr/>
          </p:nvPicPr>
          <p:blipFill>
            <a:blip r:embed="rId4"/>
            <a:stretch/>
          </p:blipFill>
          <p:spPr>
            <a:xfrm>
              <a:off x="4903920" y="450720"/>
              <a:ext cx="3922560" cy="26132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33" name="Text Box 8"/>
            <p:cNvSpPr/>
            <p:nvPr/>
          </p:nvSpPr>
          <p:spPr>
            <a:xfrm>
              <a:off x="233280" y="414360"/>
              <a:ext cx="4141800" cy="3020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Школа – сама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удивительная страна, где каждый день не похож на предыдущий, где каждый миг – это поиск чего-то нового, интересного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12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0"/>
          <p:cNvGrpSpPr/>
          <p:nvPr/>
        </p:nvGrpSpPr>
        <p:grpSpPr>
          <a:xfrm>
            <a:off x="372960" y="291960"/>
            <a:ext cx="8534520" cy="6739200"/>
            <a:chOff x="372960" y="291960"/>
            <a:chExt cx="8534520" cy="6739200"/>
          </a:xfrm>
        </p:grpSpPr>
        <p:sp>
          <p:nvSpPr>
            <p:cNvPr id="135" name="Text Box 4"/>
            <p:cNvSpPr/>
            <p:nvPr/>
          </p:nvSpPr>
          <p:spPr>
            <a:xfrm>
              <a:off x="372960" y="4376880"/>
              <a:ext cx="8534520" cy="2654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Каждый день на меня смотрят глаза моих учеников. За партами на моих уроках сидит будущее России. И от меня, от их учителя, зависит, как сложится жизнь этих детей. Ведь «ребёнок – это цветок, который распускает свои лепестки тогда, когда ему комфортно и интересно, и вянет, когда ему не хватает теплоты»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5" descr="DSC04466"/>
            <p:cNvPicPr/>
            <p:nvPr/>
          </p:nvPicPr>
          <p:blipFill>
            <a:blip r:embed="rId3"/>
            <a:stretch/>
          </p:blipFill>
          <p:spPr>
            <a:xfrm>
              <a:off x="2363760" y="291960"/>
              <a:ext cx="5004000" cy="37530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37" name="Picture 7" descr="flower%20%2829%29"/>
            <p:cNvPicPr/>
            <p:nvPr/>
          </p:nvPicPr>
          <p:blipFill>
            <a:blip r:embed="rId4"/>
            <a:stretch/>
          </p:blipFill>
          <p:spPr>
            <a:xfrm>
              <a:off x="7577280" y="3035160"/>
              <a:ext cx="99036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466497081"/>
            <p:cNvPicPr/>
            <p:nvPr/>
          </p:nvPicPr>
          <p:blipFill>
            <a:blip r:embed="rId5"/>
            <a:stretch/>
          </p:blipFill>
          <p:spPr>
            <a:xfrm>
              <a:off x="631800" y="2462040"/>
              <a:ext cx="1257480" cy="2000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3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263520" y="457200"/>
            <a:ext cx="8588520" cy="6474600"/>
            <a:chOff x="263520" y="457200"/>
            <a:chExt cx="8588520" cy="6474600"/>
          </a:xfrm>
        </p:grpSpPr>
        <p:sp>
          <p:nvSpPr>
            <p:cNvPr id="140" name="Text Box 4"/>
            <p:cNvSpPr/>
            <p:nvPr/>
          </p:nvSpPr>
          <p:spPr>
            <a:xfrm>
              <a:off x="422280" y="3911760"/>
              <a:ext cx="8177040" cy="3020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Каждый ребенок талантлив, талантлив по-своему - такова моя позиция. Нет такого “двоечника”, которого не за что было бы похвалить. Выделить из потока неудач крошечный островок успеха, дать соломинку помощи, показать тропинку к пониманию - и у ребенка возникнет вера в свои возможности и желание учиться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Picture 5" descr="Изображение 036"/>
            <p:cNvPicPr/>
            <p:nvPr/>
          </p:nvPicPr>
          <p:blipFill>
            <a:blip r:embed="rId3"/>
            <a:stretch/>
          </p:blipFill>
          <p:spPr>
            <a:xfrm>
              <a:off x="263520" y="457200"/>
              <a:ext cx="4187880" cy="279072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42" name="Picture 6" descr="Изображение 186"/>
            <p:cNvPicPr/>
            <p:nvPr/>
          </p:nvPicPr>
          <p:blipFill>
            <a:blip r:embed="rId4"/>
            <a:stretch/>
          </p:blipFill>
          <p:spPr>
            <a:xfrm>
              <a:off x="4672080" y="480960"/>
              <a:ext cx="4179960" cy="27860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7"/>
          <p:cNvGrpSpPr/>
          <p:nvPr/>
        </p:nvGrpSpPr>
        <p:grpSpPr>
          <a:xfrm>
            <a:off x="439560" y="325440"/>
            <a:ext cx="8371080" cy="6631920"/>
            <a:chOff x="439560" y="325440"/>
            <a:chExt cx="8371080" cy="6631920"/>
          </a:xfrm>
        </p:grpSpPr>
        <p:sp>
          <p:nvSpPr>
            <p:cNvPr id="144" name="Text Box 4"/>
            <p:cNvSpPr/>
            <p:nvPr/>
          </p:nvSpPr>
          <p:spPr>
            <a:xfrm>
              <a:off x="439560" y="4668840"/>
              <a:ext cx="8371080" cy="228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От меня зависит, как родители будут относиться к школе, станут ли они верными соратниками, единомышленниками. Много лет я буду незримо присутствовать в семье каждого ученика. И, возможно, стану хорошим другом семьи на всю жизнь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5" descr="IMG_9625"/>
            <p:cNvPicPr/>
            <p:nvPr/>
          </p:nvPicPr>
          <p:blipFill>
            <a:blip r:embed="rId3"/>
            <a:stretch/>
          </p:blipFill>
          <p:spPr>
            <a:xfrm>
              <a:off x="1617840" y="325440"/>
              <a:ext cx="5905440" cy="39369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8"/>
          <p:cNvGrpSpPr/>
          <p:nvPr/>
        </p:nvGrpSpPr>
        <p:grpSpPr>
          <a:xfrm>
            <a:off x="206280" y="174600"/>
            <a:ext cx="8731440" cy="6804360"/>
            <a:chOff x="206280" y="174600"/>
            <a:chExt cx="8731440" cy="6804360"/>
          </a:xfrm>
        </p:grpSpPr>
        <p:pic>
          <p:nvPicPr>
            <p:cNvPr id="147" name="Picture 7" descr="DSC04485"/>
            <p:cNvPicPr/>
            <p:nvPr/>
          </p:nvPicPr>
          <p:blipFill>
            <a:blip r:embed="rId2"/>
            <a:stretch/>
          </p:blipFill>
          <p:spPr>
            <a:xfrm>
              <a:off x="5075280" y="201600"/>
              <a:ext cx="3665520" cy="26766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48" name="Text Box 4"/>
            <p:cNvSpPr/>
            <p:nvPr/>
          </p:nvSpPr>
          <p:spPr>
            <a:xfrm>
              <a:off x="206280" y="5056200"/>
              <a:ext cx="8731440" cy="1922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Живя в столь сложном мире, родители всё куда-то спешат, часто не успевая давать своим детям внимание и заботу. А учитель просто обязан помнить об этом, да и должен помочь родителям открыть своего ребёнка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5" descr="image (2)"/>
            <p:cNvPicPr/>
            <p:nvPr/>
          </p:nvPicPr>
          <p:blipFill>
            <a:blip r:embed="rId4"/>
            <a:stretch/>
          </p:blipFill>
          <p:spPr>
            <a:xfrm>
              <a:off x="2562120" y="2532240"/>
              <a:ext cx="3795840" cy="23508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50" name="Picture 6" descr="DSC04511"/>
            <p:cNvPicPr/>
            <p:nvPr/>
          </p:nvPicPr>
          <p:blipFill>
            <a:blip r:embed="rId5"/>
            <a:stretch/>
          </p:blipFill>
          <p:spPr>
            <a:xfrm>
              <a:off x="411120" y="174600"/>
              <a:ext cx="3700440" cy="26859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1"/>
          <p:cNvGrpSpPr/>
          <p:nvPr/>
        </p:nvGrpSpPr>
        <p:grpSpPr>
          <a:xfrm>
            <a:off x="185760" y="201600"/>
            <a:ext cx="8704080" cy="6827400"/>
            <a:chOff x="185760" y="201600"/>
            <a:chExt cx="8704080" cy="6827400"/>
          </a:xfrm>
        </p:grpSpPr>
        <p:sp>
          <p:nvSpPr>
            <p:cNvPr id="152" name="Text Box 4"/>
            <p:cNvSpPr/>
            <p:nvPr/>
          </p:nvSpPr>
          <p:spPr>
            <a:xfrm>
              <a:off x="185760" y="3643200"/>
              <a:ext cx="8704080" cy="3385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Учитель только своим примером и своей любовью может вести детей «через тернии к звездам»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Учитель должен стать для детей не просто педагогом, дающим знания, а духовным наставником, своего рода проповедником, который не только указывает истинный путь, но и проходит его вместе с каждым ребенком, поддерживая в нем веру в добро и справедливость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Picture 6" descr="DSC04479"/>
            <p:cNvPicPr/>
            <p:nvPr/>
          </p:nvPicPr>
          <p:blipFill>
            <a:blip r:embed="rId3"/>
            <a:stretch/>
          </p:blipFill>
          <p:spPr>
            <a:xfrm>
              <a:off x="2446200" y="201600"/>
              <a:ext cx="4426200" cy="33195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  <p:pic>
        <p:nvPicPr>
          <p:cNvPr id="154" name="Picture 8" descr="512275570"/>
          <p:cNvPicPr/>
          <p:nvPr/>
        </p:nvPicPr>
        <p:blipFill>
          <a:blip r:embed="rId4"/>
          <a:stretch/>
        </p:blipFill>
        <p:spPr>
          <a:xfrm>
            <a:off x="7715160" y="5184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347760" y="5151600"/>
            <a:ext cx="8516880" cy="155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Highlight LET"/>
              </a:rPr>
              <a:t>Мне хочется, чтобы они выросли добрыми, умеющими видеть прекрасное, кормящими голодных птиц зимой, любующимися закатами и рассветами, ценящими дружбу.</a:t>
            </a:r>
            <a:r>
              <a:rPr b="0" lang="en-US" sz="2400" spc="-1" strike="noStrike">
                <a:solidFill>
                  <a:srgbClr val="000000"/>
                </a:solidFill>
                <a:latin typeface="Highlight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DSC04468"/>
          <p:cNvPicPr/>
          <p:nvPr/>
        </p:nvPicPr>
        <p:blipFill>
          <a:blip r:embed="rId3"/>
          <a:stretch/>
        </p:blipFill>
        <p:spPr>
          <a:xfrm>
            <a:off x="1874880" y="582480"/>
            <a:ext cx="5621400" cy="4216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p:transition spd="slow" advTm="12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9"/>
          <p:cNvGrpSpPr/>
          <p:nvPr/>
        </p:nvGrpSpPr>
        <p:grpSpPr>
          <a:xfrm>
            <a:off x="169920" y="204840"/>
            <a:ext cx="8742240" cy="6468840"/>
            <a:chOff x="169920" y="204840"/>
            <a:chExt cx="8742240" cy="6468840"/>
          </a:xfrm>
        </p:grpSpPr>
        <p:sp>
          <p:nvSpPr>
            <p:cNvPr id="158" name="Text Box 4"/>
            <p:cNvSpPr/>
            <p:nvPr/>
          </p:nvSpPr>
          <p:spPr>
            <a:xfrm>
              <a:off x="3400560" y="239760"/>
              <a:ext cx="5486400" cy="192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Счастлива ли я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Да, я счастлива. Мое счастье прежде всего в моей семье: это мои дети, мой муж, родители, близкие родственники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Picture 5" descr="image (27)"/>
            <p:cNvPicPr/>
            <p:nvPr/>
          </p:nvPicPr>
          <p:blipFill>
            <a:blip r:embed="rId3"/>
            <a:stretch/>
          </p:blipFill>
          <p:spPr>
            <a:xfrm>
              <a:off x="1990800" y="2652840"/>
              <a:ext cx="3457440" cy="23050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60" name="Picture 6" descr="image (30)"/>
            <p:cNvPicPr/>
            <p:nvPr/>
          </p:nvPicPr>
          <p:blipFill>
            <a:blip r:embed="rId4"/>
            <a:stretch/>
          </p:blipFill>
          <p:spPr>
            <a:xfrm>
              <a:off x="298440" y="204840"/>
              <a:ext cx="2530440" cy="23032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61" name="Picture 7" descr="image (29)"/>
            <p:cNvPicPr/>
            <p:nvPr/>
          </p:nvPicPr>
          <p:blipFill>
            <a:blip r:embed="rId5"/>
            <a:stretch/>
          </p:blipFill>
          <p:spPr>
            <a:xfrm>
              <a:off x="5951520" y="2644920"/>
              <a:ext cx="2576520" cy="22780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62" name="Text Box 8"/>
            <p:cNvSpPr/>
            <p:nvPr/>
          </p:nvSpPr>
          <p:spPr>
            <a:xfrm>
              <a:off x="169920" y="5116680"/>
              <a:ext cx="8742240" cy="1557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Семья как большой дом, который нужно строить всю свою жизнь по кирпичику. Порой трудно, тяжело. Но как согревает семейный очаг душу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12000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8"/>
          <p:cNvGrpSpPr/>
          <p:nvPr/>
        </p:nvGrpSpPr>
        <p:grpSpPr>
          <a:xfrm>
            <a:off x="250920" y="326880"/>
            <a:ext cx="8607240" cy="6558480"/>
            <a:chOff x="250920" y="326880"/>
            <a:chExt cx="8607240" cy="6558480"/>
          </a:xfrm>
        </p:grpSpPr>
        <p:sp>
          <p:nvSpPr>
            <p:cNvPr id="164" name="Text Box 4"/>
            <p:cNvSpPr/>
            <p:nvPr/>
          </p:nvSpPr>
          <p:spPr>
            <a:xfrm>
              <a:off x="250920" y="4962600"/>
              <a:ext cx="8601120" cy="192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Став классным руководителем 5 класса, я задумалась над тем, что я могу сделать сегодня для их будущего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Как минимум, подготовить  к безопасному участию в дорожном движении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5" name="Picture 6" descr="Изображение 070"/>
            <p:cNvPicPr/>
            <p:nvPr/>
          </p:nvPicPr>
          <p:blipFill>
            <a:blip r:embed="rId3"/>
            <a:stretch/>
          </p:blipFill>
          <p:spPr>
            <a:xfrm>
              <a:off x="258840" y="326880"/>
              <a:ext cx="4559400" cy="30402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66" name="Picture 5" descr="IMG_20150611_115202"/>
            <p:cNvPicPr/>
            <p:nvPr/>
          </p:nvPicPr>
          <p:blipFill>
            <a:blip r:embed="rId4"/>
            <a:stretch/>
          </p:blipFill>
          <p:spPr>
            <a:xfrm>
              <a:off x="4249800" y="1047600"/>
              <a:ext cx="4608360" cy="34560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2000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SC04454"/>
          <p:cNvPicPr/>
          <p:nvPr/>
        </p:nvPicPr>
        <p:blipFill>
          <a:blip r:embed="rId2"/>
          <a:stretch/>
        </p:blipFill>
        <p:spPr>
          <a:xfrm>
            <a:off x="1308240" y="303120"/>
            <a:ext cx="6864120" cy="4411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0" name="Text Box 7"/>
          <p:cNvSpPr/>
          <p:nvPr/>
        </p:nvSpPr>
        <p:spPr>
          <a:xfrm>
            <a:off x="1262160" y="5183280"/>
            <a:ext cx="6878520" cy="1678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Highlight LET"/>
              </a:rPr>
              <a:t>Каждый человек ищет свой пу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Highlight LET"/>
              </a:rPr>
              <a:t>в бурных потоках врем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Highlight LET"/>
              </a:rPr>
              <a:t>Говорят, нас ведет по жизни незримый ангел.</a:t>
            </a: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angel-11"/>
          <p:cNvPicPr/>
          <p:nvPr/>
        </p:nvPicPr>
        <p:blipFill>
          <a:blip r:embed="rId4"/>
          <a:stretch/>
        </p:blipFill>
        <p:spPr>
          <a:xfrm>
            <a:off x="-195120" y="0"/>
            <a:ext cx="2471760" cy="24987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7"/>
          <p:cNvGrpSpPr/>
          <p:nvPr/>
        </p:nvGrpSpPr>
        <p:grpSpPr>
          <a:xfrm>
            <a:off x="374760" y="411120"/>
            <a:ext cx="8454960" cy="6071760"/>
            <a:chOff x="374760" y="411120"/>
            <a:chExt cx="8454960" cy="6071760"/>
          </a:xfrm>
        </p:grpSpPr>
        <p:sp>
          <p:nvSpPr>
            <p:cNvPr id="168" name="Text Box 4"/>
            <p:cNvSpPr/>
            <p:nvPr/>
          </p:nvSpPr>
          <p:spPr>
            <a:xfrm>
              <a:off x="430200" y="4925880"/>
              <a:ext cx="8399520" cy="1557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Часто обращаю внимание на то, что в связи с возрастающим потоком автомототранспорта, переход улиц для пешеходов, а в особенности для детей, становится все более сложны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5" descr="vnimanie-deti"/>
            <p:cNvPicPr/>
            <p:nvPr/>
          </p:nvPicPr>
          <p:blipFill>
            <a:blip r:embed="rId3"/>
            <a:stretch/>
          </p:blipFill>
          <p:spPr>
            <a:xfrm>
              <a:off x="374760" y="411120"/>
              <a:ext cx="4695840" cy="28353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70" name="Picture 6" descr="01"/>
            <p:cNvPicPr/>
            <p:nvPr/>
          </p:nvPicPr>
          <p:blipFill>
            <a:blip r:embed="rId4"/>
            <a:stretch/>
          </p:blipFill>
          <p:spPr>
            <a:xfrm>
              <a:off x="4210200" y="1676520"/>
              <a:ext cx="4524120" cy="28382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1000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8"/>
          <p:cNvGrpSpPr/>
          <p:nvPr/>
        </p:nvGrpSpPr>
        <p:grpSpPr>
          <a:xfrm>
            <a:off x="379440" y="485640"/>
            <a:ext cx="8420040" cy="6377400"/>
            <a:chOff x="379440" y="485640"/>
            <a:chExt cx="8420040" cy="6377400"/>
          </a:xfrm>
        </p:grpSpPr>
        <p:sp>
          <p:nvSpPr>
            <p:cNvPr id="172" name="Text Box 4"/>
            <p:cNvSpPr/>
            <p:nvPr/>
          </p:nvSpPr>
          <p:spPr>
            <a:xfrm>
              <a:off x="379440" y="4940280"/>
              <a:ext cx="8420040" cy="192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Без знаний правил дорожного движения или несоблюдения их, участник дорожного движения может расплатиться своим здоровьем или даже жизнью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7" descr="images__news_2015-12_--PDD"/>
            <p:cNvPicPr/>
            <p:nvPr/>
          </p:nvPicPr>
          <p:blipFill>
            <a:blip r:embed="rId3"/>
            <a:stretch/>
          </p:blipFill>
          <p:spPr>
            <a:xfrm>
              <a:off x="2063880" y="485640"/>
              <a:ext cx="5137200" cy="41943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-345960" y="198360"/>
            <a:ext cx="9816840" cy="6437880"/>
            <a:chOff x="-345960" y="198360"/>
            <a:chExt cx="9816840" cy="6437880"/>
          </a:xfrm>
        </p:grpSpPr>
        <p:sp>
          <p:nvSpPr>
            <p:cNvPr id="175" name="Text Box 4"/>
            <p:cNvSpPr/>
            <p:nvPr/>
          </p:nvSpPr>
          <p:spPr>
            <a:xfrm>
              <a:off x="-345960" y="5445000"/>
              <a:ext cx="9816840" cy="1191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Жизнь любого человека важна, а жизнь ребенка бесценна!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5" descr="P9010886"/>
            <p:cNvPicPr/>
            <p:nvPr/>
          </p:nvPicPr>
          <p:blipFill>
            <a:blip r:embed="rId3"/>
            <a:stretch/>
          </p:blipFill>
          <p:spPr>
            <a:xfrm>
              <a:off x="2817720" y="198360"/>
              <a:ext cx="3754080" cy="50054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5000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8665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0"/>
          <p:cNvGrpSpPr/>
          <p:nvPr/>
        </p:nvGrpSpPr>
        <p:grpSpPr>
          <a:xfrm>
            <a:off x="345960" y="252360"/>
            <a:ext cx="7949880" cy="6915960"/>
            <a:chOff x="345960" y="252360"/>
            <a:chExt cx="7949880" cy="6915960"/>
          </a:xfrm>
        </p:grpSpPr>
        <p:sp>
          <p:nvSpPr>
            <p:cNvPr id="93" name="Text Box 5"/>
            <p:cNvSpPr/>
            <p:nvPr/>
          </p:nvSpPr>
          <p:spPr>
            <a:xfrm>
              <a:off x="5601240" y="4148280"/>
              <a:ext cx="2694600" cy="3020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Итог наложения, переплетения этих путеводных нитей – жизненный путь человека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6" descr="image (20)"/>
            <p:cNvPicPr/>
            <p:nvPr/>
          </p:nvPicPr>
          <p:blipFill>
            <a:blip r:embed="rId3"/>
            <a:stretch/>
          </p:blipFill>
          <p:spPr>
            <a:xfrm>
              <a:off x="908640" y="252360"/>
              <a:ext cx="2962440" cy="24382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95" name="Picture 7" descr="image (28)"/>
            <p:cNvPicPr/>
            <p:nvPr/>
          </p:nvPicPr>
          <p:blipFill>
            <a:blip r:embed="rId4"/>
            <a:stretch/>
          </p:blipFill>
          <p:spPr>
            <a:xfrm>
              <a:off x="345960" y="1576440"/>
              <a:ext cx="4157280" cy="31528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96" name="Picture 8" descr="P1050281"/>
            <p:cNvPicPr/>
            <p:nvPr/>
          </p:nvPicPr>
          <p:blipFill>
            <a:blip r:embed="rId5"/>
            <a:stretch/>
          </p:blipFill>
          <p:spPr>
            <a:xfrm>
              <a:off x="2207880" y="3946680"/>
              <a:ext cx="3050640" cy="25113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97" name="Text Box 9"/>
            <p:cNvSpPr/>
            <p:nvPr/>
          </p:nvSpPr>
          <p:spPr>
            <a:xfrm>
              <a:off x="4845960" y="596880"/>
              <a:ext cx="2801880" cy="4117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Мы выбираем друзей, профессию; испытывая желание чего-то добиться, накладываем на нить провидения собственную волю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13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1"/>
          <p:cNvGrpSpPr/>
          <p:nvPr/>
        </p:nvGrpSpPr>
        <p:grpSpPr>
          <a:xfrm>
            <a:off x="312840" y="146160"/>
            <a:ext cx="8499240" cy="6832800"/>
            <a:chOff x="312840" y="146160"/>
            <a:chExt cx="8499240" cy="6832800"/>
          </a:xfrm>
        </p:grpSpPr>
        <p:pic>
          <p:nvPicPr>
            <p:cNvPr id="99" name="Picture 9" descr="image (14)"/>
            <p:cNvPicPr/>
            <p:nvPr/>
          </p:nvPicPr>
          <p:blipFill>
            <a:blip r:embed="rId2"/>
            <a:stretch/>
          </p:blipFill>
          <p:spPr>
            <a:xfrm>
              <a:off x="4491000" y="146160"/>
              <a:ext cx="3994200" cy="26654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00" name="Picture 5" descr="P3071409"/>
            <p:cNvPicPr/>
            <p:nvPr/>
          </p:nvPicPr>
          <p:blipFill>
            <a:blip r:embed="rId3"/>
            <a:stretch/>
          </p:blipFill>
          <p:spPr>
            <a:xfrm>
              <a:off x="4786200" y="2104920"/>
              <a:ext cx="3629160" cy="27212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01" name="Text Box 4"/>
            <p:cNvSpPr/>
            <p:nvPr/>
          </p:nvSpPr>
          <p:spPr>
            <a:xfrm>
              <a:off x="349200" y="5056200"/>
              <a:ext cx="8462880" cy="1922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Если в процессе поиска этого пути мы встречаем истинных единомышленников, наступает «удачи момент». Идти становится легче, жить – интереснее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Picture 6" descr="P1040529"/>
            <p:cNvPicPr/>
            <p:nvPr/>
          </p:nvPicPr>
          <p:blipFill>
            <a:blip r:embed="rId5"/>
            <a:stretch/>
          </p:blipFill>
          <p:spPr>
            <a:xfrm>
              <a:off x="934920" y="2130480"/>
              <a:ext cx="3552840" cy="26636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03" name="Picture 8" descr="P1040022"/>
            <p:cNvPicPr/>
            <p:nvPr/>
          </p:nvPicPr>
          <p:blipFill>
            <a:blip r:embed="rId6"/>
            <a:stretch/>
          </p:blipFill>
          <p:spPr>
            <a:xfrm>
              <a:off x="312840" y="146160"/>
              <a:ext cx="3619440" cy="271440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9"/>
          <p:cNvGrpSpPr/>
          <p:nvPr/>
        </p:nvGrpSpPr>
        <p:grpSpPr>
          <a:xfrm>
            <a:off x="422280" y="450720"/>
            <a:ext cx="8504280" cy="6006600"/>
            <a:chOff x="422280" y="450720"/>
            <a:chExt cx="8504280" cy="6006600"/>
          </a:xfrm>
        </p:grpSpPr>
        <p:sp>
          <p:nvSpPr>
            <p:cNvPr id="105" name="Text Box 4"/>
            <p:cNvSpPr/>
            <p:nvPr/>
          </p:nvSpPr>
          <p:spPr>
            <a:xfrm>
              <a:off x="422280" y="4168800"/>
              <a:ext cx="8504280" cy="228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Размышляя о своем жизненном пути, я прекрасно понимаю, что не могу провести грань, где заканчивается моя работа и начинается личная жизнь. Наверное, это и есть  моя дорога, зовущая и ведущая к счастью педагогического труда, к бесконечной жизни в душах моих учеников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5" descr="DSC04464"/>
            <p:cNvPicPr/>
            <p:nvPr/>
          </p:nvPicPr>
          <p:blipFill>
            <a:blip r:embed="rId3"/>
            <a:stretch/>
          </p:blipFill>
          <p:spPr>
            <a:xfrm>
              <a:off x="477720" y="450720"/>
              <a:ext cx="3760920" cy="32720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07" name="Picture 8" descr="DSC04514"/>
            <p:cNvPicPr/>
            <p:nvPr/>
          </p:nvPicPr>
          <p:blipFill>
            <a:blip r:embed="rId4"/>
            <a:stretch/>
          </p:blipFill>
          <p:spPr>
            <a:xfrm>
              <a:off x="4729320" y="460440"/>
              <a:ext cx="3924000" cy="32414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0"/>
          <p:cNvGrpSpPr/>
          <p:nvPr/>
        </p:nvGrpSpPr>
        <p:grpSpPr>
          <a:xfrm>
            <a:off x="257040" y="284040"/>
            <a:ext cx="8643960" cy="6353280"/>
            <a:chOff x="257040" y="284040"/>
            <a:chExt cx="8643960" cy="6353280"/>
          </a:xfrm>
        </p:grpSpPr>
        <p:sp>
          <p:nvSpPr>
            <p:cNvPr id="109" name="Text Box 4"/>
            <p:cNvSpPr/>
            <p:nvPr/>
          </p:nvSpPr>
          <p:spPr>
            <a:xfrm>
              <a:off x="4994280" y="343080"/>
              <a:ext cx="3710160" cy="192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Для меня «учитель» – не профессия, не общественное положение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не хобби, не работа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Picture 5" descr="DSC01413"/>
            <p:cNvPicPr/>
            <p:nvPr/>
          </p:nvPicPr>
          <p:blipFill>
            <a:blip r:embed="rId3"/>
            <a:stretch/>
          </p:blipFill>
          <p:spPr>
            <a:xfrm>
              <a:off x="257040" y="284040"/>
              <a:ext cx="4184640" cy="313848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pic>
          <p:nvPicPr>
            <p:cNvPr id="111" name="Picture 6" descr="DSC01420"/>
            <p:cNvPicPr/>
            <p:nvPr/>
          </p:nvPicPr>
          <p:blipFill>
            <a:blip r:embed="rId4"/>
            <a:stretch/>
          </p:blipFill>
          <p:spPr>
            <a:xfrm>
              <a:off x="4602240" y="3348000"/>
              <a:ext cx="4298760" cy="32241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12" name="Text Box 7"/>
            <p:cNvSpPr/>
            <p:nvPr/>
          </p:nvSpPr>
          <p:spPr>
            <a:xfrm>
              <a:off x="279360" y="3983040"/>
              <a:ext cx="3830760" cy="2654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Для меня  быть учителем – это и значит жить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  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Picture 9" descr="52"/>
            <p:cNvPicPr/>
            <p:nvPr/>
          </p:nvPicPr>
          <p:blipFill>
            <a:blip r:embed="rId6"/>
            <a:stretch/>
          </p:blipFill>
          <p:spPr>
            <a:xfrm>
              <a:off x="3965400" y="1714680"/>
              <a:ext cx="1333800" cy="323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100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154080" y="307800"/>
            <a:ext cx="8835840" cy="7043400"/>
            <a:chOff x="154080" y="307800"/>
            <a:chExt cx="8835840" cy="7043400"/>
          </a:xfrm>
        </p:grpSpPr>
        <p:sp>
          <p:nvSpPr>
            <p:cNvPr id="115" name="Text Box 4"/>
            <p:cNvSpPr/>
            <p:nvPr/>
          </p:nvSpPr>
          <p:spPr>
            <a:xfrm>
              <a:off x="4421160" y="307800"/>
              <a:ext cx="4568760" cy="7043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16 лет назад я сделала свой выбор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. </a:t>
              </a: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Считаю его правильным и сейчас. Ведь именно благодаря моей профессии вокруг меня всегда много людей, которым нужна я, и которые нужны мне - это мои ученики и их родители. Рядом коллеги-единомышленники, для которых каждый ученик это личность, а не объект учения, каждый урок - это творчество, а не работа и каждая двойка не итог, а причина для серьёзного размышления.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6" descr="сканирование0044"/>
            <p:cNvPicPr/>
            <p:nvPr/>
          </p:nvPicPr>
          <p:blipFill>
            <a:blip r:embed="rId3"/>
            <a:stretch/>
          </p:blipFill>
          <p:spPr>
            <a:xfrm>
              <a:off x="154080" y="363600"/>
              <a:ext cx="4019400" cy="61484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25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8"/>
          <p:cNvGrpSpPr/>
          <p:nvPr/>
        </p:nvGrpSpPr>
        <p:grpSpPr>
          <a:xfrm>
            <a:off x="1603440" y="409680"/>
            <a:ext cx="5916600" cy="6559560"/>
            <a:chOff x="1603440" y="409680"/>
            <a:chExt cx="5916600" cy="6559560"/>
          </a:xfrm>
        </p:grpSpPr>
        <p:sp>
          <p:nvSpPr>
            <p:cNvPr id="118" name="Text Box 4"/>
            <p:cNvSpPr/>
            <p:nvPr/>
          </p:nvSpPr>
          <p:spPr>
            <a:xfrm>
              <a:off x="1603440" y="4314960"/>
              <a:ext cx="5916600" cy="2654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Highlight LET"/>
                </a:rPr>
                <a:t>Почему я стала учите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Highlight LET"/>
                </a:rPr>
                <a:t>Отвечая самой себе на данный вопрос, вспоминаю свои школьные годы. Ведь как писал Сент Экзюпери в “Маленьком принце” - “Все мы родом из детства”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Picture 7" descr="сканирование0045"/>
            <p:cNvPicPr/>
            <p:nvPr/>
          </p:nvPicPr>
          <p:blipFill>
            <a:blip r:embed="rId3"/>
            <a:stretch/>
          </p:blipFill>
          <p:spPr>
            <a:xfrm>
              <a:off x="1862280" y="409680"/>
              <a:ext cx="5371920" cy="35240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7"/>
          <p:cNvGrpSpPr/>
          <p:nvPr/>
        </p:nvGrpSpPr>
        <p:grpSpPr>
          <a:xfrm>
            <a:off x="528480" y="439560"/>
            <a:ext cx="8615520" cy="6677640"/>
            <a:chOff x="528480" y="439560"/>
            <a:chExt cx="8615520" cy="6677640"/>
          </a:xfrm>
        </p:grpSpPr>
        <p:sp>
          <p:nvSpPr>
            <p:cNvPr id="121" name="Text Box 4"/>
            <p:cNvSpPr/>
            <p:nvPr/>
          </p:nvSpPr>
          <p:spPr>
            <a:xfrm>
              <a:off x="528480" y="439560"/>
              <a:ext cx="4997520" cy="667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В детстве мои подруги играли во «врачей», «актрис»,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«продавцов»... Ну, а я всегда была «учителем». Мне нравилось проигрывать дома те ситуации, которые происходили в школе, находить решения дневных проблем, нравилось быть мудрее своих бессловесных кукол, рассказывать им разные истории, а потом спрашивать и ставить оценки. Мне очень хотелось, чтобы все мои «ученики» были умными и добрыми, чтобы им было комфортно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Highlight LET"/>
                </a:rPr>
                <a:t>и не страшно в школе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6" descr="9"/>
            <p:cNvPicPr/>
            <p:nvPr/>
          </p:nvPicPr>
          <p:blipFill>
            <a:blip r:embed="rId3"/>
            <a:stretch/>
          </p:blipFill>
          <p:spPr>
            <a:xfrm>
              <a:off x="5194440" y="1768320"/>
              <a:ext cx="3949560" cy="434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25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08:26:07Z</dcterms:created>
  <dc:creator>Dmytro</dc:creator>
  <dc:description/>
  <dc:language>en-US</dc:language>
  <cp:lastModifiedBy>Admin</cp:lastModifiedBy>
  <dcterms:modified xsi:type="dcterms:W3CDTF">2016-11-30T19:36:17Z</dcterms:modified>
  <cp:revision>44</cp:revision>
  <dc:subject/>
  <dc:title>Prezentacja programu PowerPoint</dc:title>
</cp:coreProperties>
</file>