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260-2EC3-4FCD-94FC-5F0B83DB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F13-5F42-4691-8D7F-9F511EB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FCB-8B0F-43B2-8848-AE6D766B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121-18BE-4A45-8A7C-63D8AACD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81E5-A3AB-4C79-813B-0E860F6F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C00B-7982-41C6-A2F5-AFFD98A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55C-884E-4829-8430-0DAC6AD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C51-EC17-4191-A953-9130CD4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E00-F1C1-4328-AF4C-B4072A9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3C66-F03B-49A3-8434-1749D44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4BD-0690-48FE-8E75-B69EF0C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E55-0249-4025-B447-E341A2C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3771-0EC8-44F0-B042-AC17204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5D6C-02F9-4EC6-86FE-8CB4CBDA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CCE6-0E1E-424D-9CC2-A996F59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03F9-84B1-43A8-BCD5-DA85147F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F9A-623E-4D9C-8EF9-9CB2DA85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4EA4-DD16-4507-AACF-FFD5EDF1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32E0-5153-424A-973A-B775D4D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DC26-2E19-4050-8493-58D4BAB4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DAD0-1774-4495-B1A3-18B57CFE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7D0E-4614-4E89-8D6C-CC1AC8D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3DE-EAF1-4B7B-BF50-B42E12D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5A45-F184-487C-8C2B-EFFF131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C55C-FF7C-47A2-83B8-CF61321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51F5-A666-473E-8600-43A1CC7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3B0D-87E5-4EA5-8184-BCB6A6F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47B1-C54D-4664-AD8B-6BF6586D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0CB5-7066-4E4F-9A73-2EAF1AD3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648A-DD06-4368-9D39-50443C41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3F12-6BF4-4550-9E6E-AA4B27F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F765-CD6A-46D0-AC36-C3B16DB8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2460-A28F-4690-AFEC-2DC0EDEC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D12-8CE0-4915-B5A5-6D39DAB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4C7A-BD7A-4936-8F2B-AF07266B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FF62-683A-4619-A177-C948AAC8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A494-F6B1-4CD9-9C13-5DE785D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AD1E-6CDD-4E62-A02C-02CF4FD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485B-3462-4D47-AE0C-2B493B3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FBBE-3FDF-4FEE-ACDC-2ABE262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757F-FC25-4F74-B7A4-A7D02F2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CF51-C642-454C-8EFC-6D09E0FC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D96A-8CDE-4225-8A95-7A1EDF90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CA1-8F0E-4915-974D-165B3EC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814-7F36-4D3A-A01B-FABA17E5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02A-4CE9-4CB1-B9B5-E919651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F18-EF8F-485E-A146-751FFF88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DAB-7445-4C52-8D01-6C9E64D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6D5-59A8-4828-B91F-61A22E1412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6DB5-C1A4-4689-9A6B-D37698E1C7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A9B9-EA9C-471E-8272-DC580CD38F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B2B-4CE1-489B-90D4-8B0A81B20A9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52520" y="901800"/>
            <a:ext cx="6821640" cy="462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5640" y="5516280"/>
            <a:ext cx="6172200" cy="858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стребова Елена Михайловн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764640"/>
            <a:ext cx="4619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82520">
              <a:lnSpc>
                <a:spcPct val="8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аптивная двигательная рекреация - один из главных способов социальной интеграции инвал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182520">
              <a:lnSpc>
                <a:spcPct val="8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во рекреация является синонимом слову отдых. По определению С. П. Евсеева (2000), «содержание адаптивной двигательной рекреации направлено на активизацию, поддержание или восстановление физических сил, затраченных инвалидом во время какого-либо вида деятельности (труд, учёба, спорт и др.), на профилактику утомления, развлечение, интересное проведение досуга и вообще на оздоровление, улучшение кондиции, повышение уровня жизнестойкости через удовольствие или с удовольствием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182520">
              <a:lnSpc>
                <a:spcPct val="8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4" descr="D:\Desktop\ЗАЧЕТ\olga-kljuchnikova_14135309341874491030.jpg"/>
          <p:cNvPicPr/>
          <p:nvPr/>
        </p:nvPicPr>
        <p:blipFill>
          <a:blip r:embed="rId1"/>
          <a:stretch/>
        </p:blipFill>
        <p:spPr>
          <a:xfrm>
            <a:off x="5003640" y="1125360"/>
            <a:ext cx="3889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731880"/>
            <a:ext cx="645336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новная задача адаптивной физической рекреации состоит в привитии личности инвалида проверенных исторической практикой мировоззренческих взглядов Эпикура, проповедовавшего философию (принцип) гедонизма, в освоении инвалидом основных приемов и способов рекре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D:\Desktop\ЗАЧЕТ\774741.jpg"/>
          <p:cNvPicPr/>
          <p:nvPr/>
        </p:nvPicPr>
        <p:blipFill>
          <a:blip r:embed="rId1"/>
          <a:stretch/>
        </p:blipFill>
        <p:spPr>
          <a:xfrm>
            <a:off x="1476360" y="3666960"/>
            <a:ext cx="6983280" cy="278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D:\Desktop\ЗАЧЕТ\poolsportgluhih17.02.13030.jpg"/>
          <p:cNvPicPr/>
          <p:nvPr/>
        </p:nvPicPr>
        <p:blipFill>
          <a:blip r:embed="rId2"/>
          <a:stretch/>
        </p:blipFill>
        <p:spPr>
          <a:xfrm>
            <a:off x="1476360" y="2924280"/>
            <a:ext cx="6983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D:\Desktop\ЗАЧЕТ\774741.jpg"/>
          <p:cNvPicPr/>
          <p:nvPr/>
        </p:nvPicPr>
        <p:blipFill>
          <a:blip r:embed="rId1"/>
          <a:stretch/>
        </p:blipFill>
        <p:spPr>
          <a:xfrm>
            <a:off x="611280" y="692280"/>
            <a:ext cx="8064360" cy="309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68000" y="3789360"/>
            <a:ext cx="8280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Водные объекты создают благоприятные условия для отдыха, спорта и туризма. Рекреация (активный отдых на воде) осуществляется на живописных и безопасных для здоровья и жизни людей водоемах. Открытые водоемы с чистой водой должны в теплое время года быть доступны для купания населения. Места, выделенные для купания, должны быть удобными, безопасными для населения, отвечать санитарно-гигиеническим требованиям для купания и пляжей, располагаться выше по течению реки и вдали от мест загрязнения водоема: спуска сточных вод, стирки белья, водопоя скота, пристан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99640" y="1773000"/>
            <a:ext cx="73882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8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эффект от адаптивной двигательной рекреации, основная идея которой заключается в обеспечении психологического комфорта и заинтересованности занимающихся за счет полной свободы выбора средств, методов и форм занятий, следует ожидать в случае ее дополнения оздоровительными технологиями профилактической медици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4360" y="260280"/>
            <a:ext cx="7991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валидов адаптивная двигательная рекреация — не только биологически оправданная саморегулируемая двигательная активность, поддерживающая эмоциональное состояние, здоровье и работоспособность, но и способ преодоления замкнутого пространства, психическая защита, возможность общения, удовлетворения личных интересов, вкусов, желаний в выборе видов и форм занят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C:\Users\тамара\Desktop\i.jpeg"/>
          <p:cNvPicPr/>
          <p:nvPr/>
        </p:nvPicPr>
        <p:blipFill>
          <a:blip r:embed="rId1"/>
          <a:stretch/>
        </p:blipFill>
        <p:spPr>
          <a:xfrm>
            <a:off x="1692360" y="2781360"/>
            <a:ext cx="66247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89000"/>
            <a:ext cx="74674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82520">
              <a:lnSpc>
                <a:spcPct val="10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182520">
              <a:lnSpc>
                <a:spcPct val="10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приобретенной инвалидности или тяжелого заболевания адаптивная двигательная рекреация может и должна стать первым этапом, первым шагом в направлении снятия (преодоления) стресса и приобщении к адаптивной физической культуре (адаптивному физическому воспитанию, адаптивному спорту и др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182520">
              <a:lnSpc>
                <a:spcPct val="100000"/>
              </a:lnSpc>
              <a:spcBef>
                <a:spcPts val="499"/>
              </a:spcBef>
              <a:buClr>
                <a:srgbClr val="7e963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D:\Desktop\ЗАЧЕТ\503004_view.jpg"/>
          <p:cNvPicPr/>
          <p:nvPr/>
        </p:nvPicPr>
        <p:blipFill>
          <a:blip r:embed="rId1"/>
          <a:stretch/>
        </p:blipFill>
        <p:spPr>
          <a:xfrm>
            <a:off x="1476360" y="3068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D:\Desktop\ЗАЧЕТ\640x480_rKtM1HgFhYnqJ5I5WEy7.jpg"/>
          <p:cNvPicPr/>
          <p:nvPr/>
        </p:nvPicPr>
        <p:blipFill>
          <a:blip r:embed="rId2"/>
          <a:stretch/>
        </p:blipFill>
        <p:spPr>
          <a:xfrm>
            <a:off x="5310360" y="2349360"/>
            <a:ext cx="34099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9:38:29Z</dcterms:created>
  <dc:creator>админ</dc:creator>
  <dc:description/>
  <dc:language>en-US</dc:language>
  <cp:lastModifiedBy>тамара</cp:lastModifiedBy>
  <dcterms:modified xsi:type="dcterms:W3CDTF">2016-11-20T17:29:34Z</dcterms:modified>
  <cp:revision>46</cp:revision>
  <dc:subject/>
  <dc:title>Муниципальное бюджетное общеобразовательное учреждение – средняя общеобразовательная школа №66 города Тулы              История адаптивного спорта для лиц с поражением слуха</dc:title>
</cp:coreProperties>
</file>