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433-182A-4924-873E-D1D733D1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4634-01BD-4BA4-AAD1-96B156DE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7FA-A38C-4E00-8576-2927C2E1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7C6D-0F25-4AC3-B967-73D77C26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FFC-EA4C-4E81-8390-9A1C4E6F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4E3-E44D-4AA5-B878-D7DEBDB6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17B-A887-4063-9CA2-8665BDC4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A21-B7FE-4873-A563-296703D9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6D2D-FDBB-4412-8350-5A6D9AE0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5EA-807A-493D-882E-BD20C9C4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948-658F-4FFE-8822-F6D52FBF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692-E3FD-47D7-86AB-C3790613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C7CE-BF20-41C3-B2AC-5BE8D9C1A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ЖИВОП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76280"/>
            <a:ext cx="6400800" cy="33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55308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ртр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007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арина (морская живопис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38400" y="1484280"/>
            <a:ext cx="66672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тюрм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3880" y="1484280"/>
            <a:ext cx="6096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йзаж городс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сториче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866960"/>
            <a:ext cx="676908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ртр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248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55640" y="1197000"/>
            <a:ext cx="7851960" cy="450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лагодарю за внимание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75452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и́вопис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— вид изобразительного искусства, связанный с передачей зрительных образов посредством нанесения красок на твёрдую или гибкую поверх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ествует два вида живописи: станковая и монументальная. К станковой живописи относят произведения, существующие независимо от места создания. В основном это картины, созданные на мольберте (то есть станке) худож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ид живо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нко́вая жи́вопис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— род живописи, произведения которого имеют самостоятельное значение и воспринимаются независимо от окружения. Буквально — живопись, созданная на станке (мольберт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нумента́льная жи́вопис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— живопись на архитектурных сооружениях и других стационарных основан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танковая живоп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6985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55640" y="1052640"/>
            <a:ext cx="78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ртины пишутся в основном на холсте, натянутом на раму или наклеенном на картон, на картоне, в прошлом широко применялись деревянные доски, могут использоваться любые плоские материалы. Монументальная живопись выполняется непосредственно на стенах зданий и других сооруж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Жанры живо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рхитектурная живопис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ималистическая живопис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коративные: декорационная живопись, аллегорическая живопись, монументальная живопись и др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рические: историческая, батальная, документальная живопись и др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льтовые: религиозная живопись, мифологическая живопись и др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ытовые:  бытовая живопис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рина (морская живопис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тюрмор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тр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ифиче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48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Анималистиче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35280" y="1581120"/>
            <a:ext cx="51130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конопись (культовая живопис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3178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9:42:35Z</dcterms:created>
  <dc:creator>User</dc:creator>
  <dc:description/>
  <dc:language>en-US</dc:language>
  <cp:lastModifiedBy>User</cp:lastModifiedBy>
  <dcterms:modified xsi:type="dcterms:W3CDTF">2003-01-01T02:50:38Z</dcterms:modified>
  <cp:revision>3</cp:revision>
  <dc:subject/>
  <dc:title>ЖИВОПИСЬ</dc:title>
</cp:coreProperties>
</file>