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F14-734A-4357-B6DE-B5C01D98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4DF-FB59-40A0-82D1-34A0395B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EF5-F348-4EE0-A562-43EBF50D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062-DEA3-4D14-9345-492B0B0C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A486-4F5C-4572-9098-FAFA99BD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BFC4-658B-42A7-9F9F-756DF3AF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0B1D-DF46-4F9A-BB7A-FA15A9D4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44AC-086D-4A62-9E30-2B0FAA20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CF60-0D72-44B4-BD3D-6BB545DC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E205-7CEB-425D-9E06-DDE37043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BCA1-C2A0-4687-BF11-F2CFCCB4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D05-D401-4A18-BA5D-8BAA5994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1D8B-313F-4E92-B9AA-41CDE9DC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3728-E7A7-44BC-BA8E-A0F219E2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9A71-FA4D-45CC-9DC5-44632977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97D5-6976-4A2F-AAAD-F5777061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6A70-236B-4EF2-827B-9EB7500A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8B0-BA10-4BE1-9549-76F1F727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40C-4EA8-4021-8B6B-8C8DD851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E28-0860-4048-93D5-76D7302D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25D-FDF5-43A9-8707-C6610D48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343-48BB-4B88-8A24-FB91CCD6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30F-E33A-457F-A13E-5919C30E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39C-114D-4769-A707-4E692BE7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E1CB-6523-4136-B4CE-23E657AD3C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71AA-4441-4E1C-B388-6E63E5EAC6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arfor-shop.ru/" TargetMode="External"/><Relationship Id="rId2" Type="http://schemas.openxmlformats.org/officeDocument/2006/relationships/hyperlink" Target="http://www.museum.ru/" TargetMode="External"/><Relationship Id="rId3" Type="http://schemas.openxmlformats.org/officeDocument/2006/relationships/hyperlink" Target="http://goodcoins.narod.ru/" TargetMode="External"/><Relationship Id="rId4" Type="http://schemas.openxmlformats.org/officeDocument/2006/relationships/hyperlink" Target="http://podarok-na.ru/" TargetMode="External"/><Relationship Id="rId5" Type="http://schemas.openxmlformats.org/officeDocument/2006/relationships/hyperlink" Target="http://prazdnik.dn.ua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20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ГОРЯЧИЕ НАПИТКИ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АЕПИТИЕ…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365720"/>
            <a:ext cx="7974000" cy="2232000"/>
          </a:xfrm>
          <a:prstGeom prst="rect">
            <a:avLst/>
          </a:prstGeom>
          <a:solidFill>
            <a:srgbClr val="b3ffb3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818"/>
                </a:solidFill>
                <a:latin typeface="Arial"/>
              </a:rPr>
              <a:t>Презентация к уроку техн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818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818"/>
                </a:solidFill>
                <a:latin typeface="Arial"/>
              </a:rPr>
              <a:t>Тема:«Горячие напит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818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818"/>
                </a:solidFill>
                <a:latin typeface="Arial"/>
              </a:rPr>
              <a:t>Сделана ученицей 5 Б класса, СОШ №17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818"/>
                </a:solidFill>
                <a:latin typeface="Arial"/>
              </a:rPr>
              <a:t>Гусевой Ангели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j0198625"/>
          <p:cNvPicPr/>
          <p:nvPr/>
        </p:nvPicPr>
        <p:blipFill>
          <a:blip r:embed="rId1"/>
          <a:stretch/>
        </p:blipFill>
        <p:spPr>
          <a:xfrm>
            <a:off x="6443640" y="2708280"/>
            <a:ext cx="2416320" cy="2087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1471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Arial Black"/>
              </a:rPr>
              <a:t>Материал, из которого делают чайные сервизы (фарфор, фаянс), — прекрасная основа для художественной росписи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4" descr="001"/>
          <p:cNvPicPr/>
          <p:nvPr/>
        </p:nvPicPr>
        <p:blipFill>
          <a:blip r:embed="rId1"/>
          <a:stretch/>
        </p:blipFill>
        <p:spPr>
          <a:xfrm>
            <a:off x="1835280" y="2433600"/>
            <a:ext cx="6408720" cy="4424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763640" y="2104920"/>
            <a:ext cx="6658200" cy="475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Посуда русских фарфоровых заводов украшает витрины многих музеев мира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878120" y="24782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рмита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хнологическая кар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вентарь и посу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йник для кипячения воды, чайник для заваривания чая, ситечко для процеживания чая, чайная лож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чники информа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farfor-shop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museum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goodcoins.narod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podarok-na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://prazdnik.dn.u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ОРЯЧИЕ НАПИТ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2" descr="D:\УЧИТЕЛЬ ГОДА КУБАНИ 2013 приказ от5 апреля\урок ЧАЙ с презентациями\i (12).jpg"/>
          <p:cNvPicPr/>
          <p:nvPr/>
        </p:nvPicPr>
        <p:blipFill>
          <a:blip r:embed="rId1"/>
          <a:stretch/>
        </p:blipFill>
        <p:spPr>
          <a:xfrm>
            <a:off x="900000" y="1889280"/>
            <a:ext cx="2519640" cy="49687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3635280" y="2421000"/>
            <a:ext cx="322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а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а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j0233756"/>
          <p:cNvPicPr/>
          <p:nvPr/>
        </p:nvPicPr>
        <p:blipFill>
          <a:blip r:embed="rId2"/>
          <a:stretch/>
        </p:blipFill>
        <p:spPr>
          <a:xfrm>
            <a:off x="3924360" y="4797360"/>
            <a:ext cx="1969920" cy="174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j0228911"/>
          <p:cNvPicPr/>
          <p:nvPr/>
        </p:nvPicPr>
        <p:blipFill>
          <a:blip r:embed="rId3"/>
          <a:stretch/>
        </p:blipFill>
        <p:spPr>
          <a:xfrm>
            <a:off x="7020000" y="2492280"/>
            <a:ext cx="1836720" cy="1430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234294"/>
          <p:cNvPicPr/>
          <p:nvPr/>
        </p:nvPicPr>
        <p:blipFill>
          <a:blip r:embed="rId4"/>
          <a:stretch/>
        </p:blipFill>
        <p:spPr>
          <a:xfrm>
            <a:off x="6616800" y="4437000"/>
            <a:ext cx="2527200" cy="1987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А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й – один из самых древних напитков, употребляемых человеком. Родина чая – Китай. Молодой листочек по – китайски называется «тцайей». Отсюда и произошло слово «ча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й не только утоляет жажду, но и способствует снижению артериального давления, помогает при цинге, кори, подагре, остром ревматиз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Ф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2060280"/>
            <a:ext cx="8007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ооткрывателем удивительных свойств кофе считается эфиопский пастух Кади. Как – то он решил отдохнуть возле зарослей кофейного дерева. Юноша заметил, что козы после поедания плодов кофе становятся бодрее и игривее. Он последовал их примеру и попробовал кофе, после чего ощутил необыкновенный прилив си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КА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2656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ена какао были впервые привезены в Европу в 1520 году завоевателем Мексики Эрнаном Кортесом. Ацтеки использовали семена какао для приготовления особого тонизирующего напитка. Свой «чоколатль» атцеки пили без сахара или мёда, но с перцем и ванилью. Затем какао стали выращивать в Венесуэле, Вест – Индии, а с 18 века и в Бразил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Способы заваривания чая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леный чай, например, заваривают в одном большом чайнике и понемногу наливают в пиа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4971960" y="1484280"/>
            <a:ext cx="417204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753080" cy="374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усскому же обычаю в чашку наливают небольшое количество заварки и затем доливают кипят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Как и самовар, заварочный чайник придуман европейцами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476360" y="2506680"/>
            <a:ext cx="7005600" cy="4351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Не меньшей гордостью хозяйки, чем самовар, был и чайный сервиз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5" descr="Vesenniy_Versal'_2619020P-14_2614020P-15"/>
          <p:cNvPicPr/>
          <p:nvPr/>
        </p:nvPicPr>
        <p:blipFill>
          <a:blip r:embed="rId1"/>
          <a:stretch/>
        </p:blipFill>
        <p:spPr>
          <a:xfrm>
            <a:off x="1332000" y="1989000"/>
            <a:ext cx="7273800" cy="4708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23:30Z</dcterms:created>
  <dc:creator>Admin</dc:creator>
  <dc:description/>
  <dc:language>en-US</dc:language>
  <cp:lastModifiedBy>User</cp:lastModifiedBy>
  <dcterms:modified xsi:type="dcterms:W3CDTF">2015-02-02T18:42:19Z</dcterms:modified>
  <cp:revision>18</cp:revision>
  <dc:subject/>
  <dc:title>Чайные сервизы</dc:title>
</cp:coreProperties>
</file>