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7.jpeg" ContentType="image/jpeg"/>
  <Override PartName="/ppt/media/image20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D56-9EEF-4A05-84B7-DE0C2FAB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3B5-5460-44D0-9366-D2A78489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EE6-32C0-4D5E-97E0-74E144E7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9E5-1AE5-4E82-A380-52D63C99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C587-3CBF-40EC-B9BB-866F855E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2E3B-006B-4BCF-A6D4-B957309E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60E9-EFE3-4FDD-9D63-E2B30471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8E38-FFD6-44B1-AB8E-5F26DA49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F383-F8CA-4040-A041-F0424C16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A772-F8E6-4CB5-B962-9294D333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B45A-E296-4239-9EA9-423F893E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6F7-6D1E-43B6-B20A-21EACFB5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CCA4-0F91-42C9-8D49-27FEED92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5A5D-6590-40C0-8A6F-131E350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7ADA-AF17-4698-B481-D4FF6E3B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B015-5B52-42C9-A623-FECD0077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F49B-1247-4E4F-9A5F-7ACF0A8A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DE16-139D-45E2-BA1F-8ABA226A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BBAA-5C83-4397-983D-93FCCCA2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A641-326E-4F7B-9881-8C8CFCDF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6119-365F-47CE-AED6-5591551D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2055-542E-4801-98D5-3CC34449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FED-B8C3-4EC0-8639-03CDED4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7083-199A-40A4-8161-D8AEE790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9B53-5D06-4D14-8A65-9F6AD798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DA0C-664F-4A5E-AD84-233BB3FC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9906-8A86-42F2-A179-6F7AFCF2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FD25-2DDF-4195-8C02-4D1AF781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2A7F2-726A-4704-AAC0-B4652015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5416-345F-4706-A724-F267DE28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932D-750E-4E24-B5A9-5DFD5DB2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D1C4A-1F92-419D-92E2-E94F9A97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E6B6-C116-4066-8608-00DE90B2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D64-A926-4985-AB89-C75138D8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AA23-BAD2-4C05-B8ED-90B8F169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7E81-D32B-4254-BEA6-5C761222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95B2-9862-4B1D-9952-F7F28161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864B4-BE61-4B27-8C53-B7B4B040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19187-A805-416B-8C40-D7DDAE4E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0119E-D138-4183-8B0A-C5915F77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54F5-F442-4AF5-B706-AE8663F7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2F5B7-1DE1-4086-84F8-07E4EA25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FF054-C8E8-4D0E-BCA9-29997B51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C4291-45FE-4590-B1CB-8932C95B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F81-A209-4E6A-9F08-02A09DBD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AEA5-E6E3-462C-BF8A-32AFED1C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D614B-AD94-40F3-88BD-301F8851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5401E-4952-4A5C-A592-20286452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1F4AB-6F53-454E-8087-D9F09BE5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FCDC0-46C8-40E0-9090-ECFD900B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EFDF-3232-4FD0-97BA-1C2D489C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F38F0-18E7-42A1-9222-C6E334D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F812D-9760-40AF-A93A-48379245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E8757-6DFC-48BA-9683-B972C3B7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1D0DC-2930-4FD6-A80F-4BE20D59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6C2-8F87-4094-8077-3E6441BA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F722-36AF-4557-A52D-747DD510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D49-FBEC-4D31-97F0-AA5589A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32F-9966-4D3B-90E8-4C8426B5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783-3F0B-4B3C-9769-B8681731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1E8C-F9BA-42D5-A3A1-88E3868D284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53F5-BD9B-4AD8-9A4B-27F8ECC1BDA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B609-429F-482C-962D-703C0A2BBD0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51E9-128F-4851-B2BD-3703D2EF8DE8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422D-794D-49DF-927E-CA677F67EE4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2182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4221000"/>
            <a:ext cx="5114880" cy="136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ница объединения «Дизайнер одежды»: Мосиенко Виолетт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br>
              <a:rPr sz="1900"/>
            </a:b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ховичёва Ольга Юрьевна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2" descr="M:\Презентации\Виолетта\а3.jpg"/>
          <p:cNvPicPr/>
          <p:nvPr/>
        </p:nvPicPr>
        <p:blipFill>
          <a:blip r:embed="rId1"/>
          <a:stretch/>
        </p:blipFill>
        <p:spPr>
          <a:xfrm>
            <a:off x="3348000" y="476280"/>
            <a:ext cx="4281480" cy="3673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M:\Презентации\Виолетта\а2.jpg"/>
          <p:cNvPicPr/>
          <p:nvPr/>
        </p:nvPicPr>
        <p:blipFill>
          <a:blip r:embed="rId2"/>
          <a:stretch/>
        </p:blipFill>
        <p:spPr>
          <a:xfrm>
            <a:off x="179280" y="981000"/>
            <a:ext cx="3635640" cy="484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3"/>
          <a:stretch/>
        </p:blipFill>
        <p:spPr>
          <a:xfrm>
            <a:off x="4102200" y="3716280"/>
            <a:ext cx="36259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1067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197000"/>
            <a:ext cx="7238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Квадрат 10х10см сложить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 диагонали, полученный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реугольник сложить попола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Прошить ниткой с иглой по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езанному краю и затянуть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шить 12 лепестков. Соединить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цветок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ередина:  вырезать круг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ошить по краю, в центр круг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ложить  синтепон и затянуть нитью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крепить к середин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твол : прямоугольник 20х2см. Сложить вдоль и прошить. Наполнить синтепоном. пришить листок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шок: прямоугольник15х8 см  прошить, вывернуть, наполнить синтепоном. Закрепить завязк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формить работу в рамку на голубом фоне из ткани и сделать декоративный забор из веток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4" descr="Фото2460"/>
          <p:cNvPicPr/>
          <p:nvPr/>
        </p:nvPicPr>
        <p:blipFill>
          <a:blip r:embed="rId2"/>
          <a:stretch/>
        </p:blipFill>
        <p:spPr>
          <a:xfrm>
            <a:off x="4716360" y="260280"/>
            <a:ext cx="3221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поделки аппликацией из ткани – интересное занятие, которое надолго может увлечь ребенка. Кроме развития мелкой моторики, этот вид рукоделия позволяет развивать фантазию. Несложные детские аппликации из ткани могут служить даже украшением интерьер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536400" y="182520"/>
            <a:ext cx="7248600" cy="2225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2707920"/>
            <a:ext cx="723888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M:\Презентации\Виолетта\а1.jpg"/>
          <p:cNvPicPr/>
          <p:nvPr/>
        </p:nvPicPr>
        <p:blipFill>
          <a:blip r:embed="rId2"/>
          <a:stretch/>
        </p:blipFill>
        <p:spPr>
          <a:xfrm>
            <a:off x="971640" y="1628640"/>
            <a:ext cx="637200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чально аппликации из кусочков ткани исполняли совсем не декоративную роль. С помощью лоскутов ткани наши предки пытались ремонтировать свою одежду, продлевая такими латками срок ее службы. Так, северные народы чаще делали аппликации из меха и кожи, а в России наиболее распространенным материалом являлась фабричная и домотканая ткан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поделки аппликацией из ткани – интересное занятие, которое надолго может увлечь ребенка. Кроме развития мелкой моторики, этот вид рукоделия позволяет развивать фантазию. Несложные детские аппликации из ткани могут служить даже украшением интерьер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C:\Users\user 123\Desktop\6.jpg"/>
          <p:cNvPicPr/>
          <p:nvPr/>
        </p:nvPicPr>
        <p:blipFill>
          <a:blip r:embed="rId1"/>
          <a:stretch/>
        </p:blipFill>
        <p:spPr>
          <a:xfrm>
            <a:off x="179280" y="1557360"/>
            <a:ext cx="4824360" cy="424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user 123\Desktop\8.jpg"/>
          <p:cNvPicPr/>
          <p:nvPr/>
        </p:nvPicPr>
        <p:blipFill>
          <a:blip r:embed="rId2"/>
          <a:stretch/>
        </p:blipFill>
        <p:spPr>
          <a:xfrm>
            <a:off x="4665600" y="3284640"/>
            <a:ext cx="3230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" descr="C:\Users\user 123\Desktop\2.jpg"/>
          <p:cNvPicPr/>
          <p:nvPr/>
        </p:nvPicPr>
        <p:blipFill>
          <a:blip r:embed="rId1"/>
          <a:stretch/>
        </p:blipFill>
        <p:spPr>
          <a:xfrm>
            <a:off x="179280" y="1557360"/>
            <a:ext cx="4321440" cy="3384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user 123\Desktop\4.jpg"/>
          <p:cNvPicPr/>
          <p:nvPr/>
        </p:nvPicPr>
        <p:blipFill>
          <a:blip r:embed="rId2"/>
          <a:stretch/>
        </p:blipFill>
        <p:spPr>
          <a:xfrm>
            <a:off x="4284720" y="2924280"/>
            <a:ext cx="3720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C:\Users\user 123\Desktop\9.jpg"/>
          <p:cNvPicPr/>
          <p:nvPr/>
        </p:nvPicPr>
        <p:blipFill>
          <a:blip r:embed="rId1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C:\Users\user 123\Desktop\5.jpg"/>
          <p:cNvPicPr/>
          <p:nvPr/>
        </p:nvPicPr>
        <p:blipFill>
          <a:blip r:embed="rId1"/>
          <a:stretch/>
        </p:blipFill>
        <p:spPr>
          <a:xfrm>
            <a:off x="1236600" y="1609560"/>
            <a:ext cx="5680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C:\Users\user 123\Desktop\11.jpg"/>
          <p:cNvPicPr/>
          <p:nvPr/>
        </p:nvPicPr>
        <p:blipFill>
          <a:blip r:embed="rId1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C:\Users\user 123\Desktop\12.jpg"/>
          <p:cNvPicPr/>
          <p:nvPr/>
        </p:nvPicPr>
        <p:blipFill>
          <a:blip r:embed="rId1"/>
          <a:stretch/>
        </p:blipFill>
        <p:spPr>
          <a:xfrm>
            <a:off x="179280" y="1700280"/>
            <a:ext cx="4105440" cy="3529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user 123\Desktop\10.jpg"/>
          <p:cNvPicPr/>
          <p:nvPr/>
        </p:nvPicPr>
        <p:blipFill>
          <a:blip r:embed="rId2"/>
          <a:stretch/>
        </p:blipFill>
        <p:spPr>
          <a:xfrm>
            <a:off x="4427640" y="2133720"/>
            <a:ext cx="33130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9:41:17Z</dcterms:created>
  <dc:creator>user 123</dc:creator>
  <dc:description/>
  <dc:language>en-US</dc:language>
  <cp:lastModifiedBy>Николай Юрьевич</cp:lastModifiedBy>
  <dcterms:modified xsi:type="dcterms:W3CDTF">2016-12-01T10:26:22Z</dcterms:modified>
  <cp:revision>12</cp:revision>
  <dc:subject/>
  <dc:title>Аппликации из ткани</dc:title>
</cp:coreProperties>
</file>