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026-DD0E-4E37-8AC4-311C8497C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E60D-5535-43A2-9505-DBE156BC9F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763-9857-4EAA-B0C4-70A79459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C4D-0716-42AD-877A-82446AB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3EE-83CA-4E6A-A765-6F0B7D61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8FD-4716-4A13-AC0A-B94F8B02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602-9656-40ED-B872-28BC107B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9BC-3A67-48DE-8F6E-D7DAE19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45C-8A89-4BB6-B994-8E9CF415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7B7-682A-40A3-A897-F4DCD4D0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032-F375-4C69-A650-3058DC4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E5C-12FE-4F1C-B0A8-1B72374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685-D00B-471B-99EE-4E6400EE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6A5-4263-42A9-AA78-667312F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2A7-1E1F-482E-9247-50E29D943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IMG_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643720" y="557208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ала: преподаватель профессиональных дисциплин Ионина  Алла 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14240" y="0"/>
            <a:ext cx="7572600" cy="4574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ПОУ ТО «Агротехнологический 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по профессии: Продавец, контролер-кас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а по программе: Ассортимента  б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ма урока: Идентификация ассортимента нательного б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85840" y="428760"/>
            <a:ext cx="850104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т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 тип телосложения и возрастные изменения фигуры. Полнотными показателями являются: обхват талии у мужчин и обхват бедер с учетом выступания живота у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нотному показателю выделены             следующие варианты фиг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– 70 – 74 – 78 – 82 – 86 – 90 – 98 – 102 – 106 – 110 – 114 – 118 – 122 – 126 – 1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– 88 – 92 – 96 – 100 104 – 108 – 112 – 116 – 120 – 124 – 128 – 132 – 136 – 140 – 14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роении размерной типологии детей в возрасте до 3 лет ведущими размерными признаками приняты рост и обхват груди, от 3 до 18 лет – рост, обхват груди и обхват 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42960" y="1071720"/>
          <a:ext cx="7715160" cy="5364000"/>
        </p:xfrm>
        <a:graphic>
          <a:graphicData uri="http://schemas.openxmlformats.org/drawingml/2006/table">
            <a:tbl>
              <a:tblPr/>
              <a:tblGrid>
                <a:gridCol w="963720"/>
                <a:gridCol w="963360"/>
                <a:gridCol w="965160"/>
                <a:gridCol w="963720"/>
                <a:gridCol w="965160"/>
                <a:gridCol w="965160"/>
                <a:gridCol w="963720"/>
                <a:gridCol w="965160"/>
              </a:tblGrid>
              <a:tr h="1071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хват тал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хват беде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 – 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- 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- 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- 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-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-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- 1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- 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-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- 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-1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- 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-1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- 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-1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"/>
          <p:cNvSpPr/>
          <p:nvPr/>
        </p:nvSpPr>
        <p:spPr>
          <a:xfrm>
            <a:off x="2071800" y="217440"/>
            <a:ext cx="528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оответствия размеров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IMG_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857160" y="214200"/>
            <a:ext cx="70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500040" y="785880"/>
            <a:ext cx="8286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14200" y="159480"/>
            <a:ext cx="871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, его воспитательные и развивающ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первоначальных умений и навыков, обучающихся по распознаванию ассортимента  б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у обучающихся эстетический вк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у обучающихся профессиональные умения и навыки в раб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0" y="37148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уро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начальных компетенций (знаний, умений, навы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14200" y="223920"/>
            <a:ext cx="871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котажное белье вырабатывается из хлопчатобумажной, шерстяной, полушерстяной, смешанной пряжи, искусственных и шерстяных ни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котажное белье гигиеничное, легкое, достаточно упругое, мягкое, хорошо облегает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85840" y="265716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котажное белье классифицир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ам, сезонности, фасонам, размерам, ростам и подразделяют на бытовое и спортив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овозрастному признаку – на мужское, женское, детское (для новорожденных, ясельного, дошкольного, подросткового возра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85840" y="219240"/>
            <a:ext cx="8643960" cy="1313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ртимент мужского бел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хние сорочки, фуфайки, кальсоны, майки, тру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верхних сорочек обозначается дробью, в числителе – обхват шеи в сантиметрах, а в знаменателе – полуобхват  груди. С  38/44  до  48/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45928241_25922846_kinopoisk_ruZacEfron702083_1024_11.jpg"/>
          <p:cNvPicPr/>
          <p:nvPr/>
        </p:nvPicPr>
        <p:blipFill>
          <a:blip r:embed="rId1"/>
          <a:stretch/>
        </p:blipFill>
        <p:spPr>
          <a:xfrm>
            <a:off x="0" y="1714680"/>
            <a:ext cx="4510080" cy="4857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7.jpg"/>
          <p:cNvPicPr/>
          <p:nvPr/>
        </p:nvPicPr>
        <p:blipFill>
          <a:blip r:embed="rId2"/>
          <a:stretch/>
        </p:blipFill>
        <p:spPr>
          <a:xfrm>
            <a:off x="4500720" y="1714680"/>
            <a:ext cx="464328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4200" y="7200"/>
            <a:ext cx="878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ртимент женского бел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ен по видам, применяемым материалам, отделке. К женским бельевым изделиям относят сорочки ночные, комбинации, панталоны, гарнитуры, пеньюары, нижние юбки   (Пеньюар – утренний нарядный туалет, рукава могут быть длинные, короткие или без рукавов, силуэт свободный, изделие может быть на подкладке или без нее. Пеньюары могут выпускаться в комплекте с сорочк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48555486_1252583429_001.jpg"/>
          <p:cNvPicPr/>
          <p:nvPr/>
        </p:nvPicPr>
        <p:blipFill>
          <a:blip r:embed="rId1"/>
          <a:stretch/>
        </p:blipFill>
        <p:spPr>
          <a:xfrm>
            <a:off x="3286080" y="21430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99502_w6lsAu.jpg"/>
          <p:cNvPicPr/>
          <p:nvPr/>
        </p:nvPicPr>
        <p:blipFill>
          <a:blip r:embed="rId2"/>
          <a:stretch/>
        </p:blipFill>
        <p:spPr>
          <a:xfrm>
            <a:off x="214200" y="2357280"/>
            <a:ext cx="2882880" cy="40006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pinups-olsens.jpg"/>
          <p:cNvPicPr/>
          <p:nvPr/>
        </p:nvPicPr>
        <p:blipFill>
          <a:blip r:embed="rId3"/>
          <a:stretch/>
        </p:blipFill>
        <p:spPr>
          <a:xfrm>
            <a:off x="7000920" y="2000160"/>
            <a:ext cx="18907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214200" y="22176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ое бель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сортимент детского бел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те же виды, что и для взросл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дошкольного возраста – комбинезоны, кофточки, песочн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новорожденных – распашонки, рубашки, ползунки, конверты, кофточки, чепчики, пинетки, фартуки. Изделия могут выпускаться гарниту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oDvt9.jpg"/>
          <p:cNvPicPr/>
          <p:nvPr/>
        </p:nvPicPr>
        <p:blipFill>
          <a:blip r:embed="rId1"/>
          <a:stretch/>
        </p:blipFill>
        <p:spPr>
          <a:xfrm>
            <a:off x="357120" y="2071800"/>
            <a:ext cx="2714760" cy="3467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olsen_twins-web.jpg"/>
          <p:cNvPicPr/>
          <p:nvPr/>
        </p:nvPicPr>
        <p:blipFill>
          <a:blip r:embed="rId2"/>
          <a:stretch/>
        </p:blipFill>
        <p:spPr>
          <a:xfrm>
            <a:off x="5643720" y="257184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464668.jpg"/>
          <p:cNvPicPr/>
          <p:nvPr/>
        </p:nvPicPr>
        <p:blipFill>
          <a:blip r:embed="rId3"/>
          <a:stretch/>
        </p:blipFill>
        <p:spPr>
          <a:xfrm>
            <a:off x="2786040" y="4071960"/>
            <a:ext cx="3470400" cy="2468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85840" y="149400"/>
            <a:ext cx="8643960" cy="1618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ртимент спортивного бель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ки, фуфайки спортивные, трусы-плавки, купальные костю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файки спортивные имеют сшивной или цельный стан, плечи скошены, рукава вшивные, цельнокройные, короткие или длинные, воротник может быть оформлен вырезом различной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3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5840" y="3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48554294_1252581065_0031.jpg"/>
          <p:cNvPicPr/>
          <p:nvPr/>
        </p:nvPicPr>
        <p:blipFill>
          <a:blip r:embed="rId1"/>
          <a:stretch/>
        </p:blipFill>
        <p:spPr>
          <a:xfrm>
            <a:off x="4929120" y="3143160"/>
            <a:ext cx="398304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48917353_1253450507_b054.jpg"/>
          <p:cNvPicPr/>
          <p:nvPr/>
        </p:nvPicPr>
        <p:blipFill>
          <a:blip r:embed="rId2"/>
          <a:stretch/>
        </p:blipFill>
        <p:spPr>
          <a:xfrm>
            <a:off x="214200" y="2000160"/>
            <a:ext cx="2786040" cy="4437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e9e312202091t.jpg"/>
          <p:cNvPicPr/>
          <p:nvPr/>
        </p:nvPicPr>
        <p:blipFill>
          <a:blip r:embed="rId3"/>
          <a:stretch/>
        </p:blipFill>
        <p:spPr>
          <a:xfrm>
            <a:off x="2571840" y="257184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8e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85840" y="244440"/>
            <a:ext cx="857232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ная типология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ная характеристика тела человека представлена измерениями, называемыми размерными признаками. Для производства одежды приняты размер, рост и полн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гуры определяется величиной обхвата груди в сантимет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ами принята следующая классификация разме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– 84 – 88 – 92 – 96 – 100 – 104 – 108 – 112 – 116 – 120 – 124 – 1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– 84 – 88 – 92 – 96 – 100 – 104 – 108 – 112 – 116 – 120 – 124 – 128 -232 – 1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определяется – обхват груди деленное на два (пример:  84 : 2 = 42разм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85840" y="92880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а тела человека без обуви от верхушечной точки головы до пола, измеряемая в сантиме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а следующая классификация по рос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– 158 – 164 – 170 – 176 – 182 – 18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– 146 – 152 – 158 – 164 – 170 – 1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4:17:52Z</dcterms:created>
  <dc:creator>Bill Gates</dc:creator>
  <dc:description/>
  <dc:language>en-US</dc:language>
  <cp:lastModifiedBy>User</cp:lastModifiedBy>
  <dcterms:modified xsi:type="dcterms:W3CDTF">2016-12-01T18:31:00Z</dcterms:modified>
  <cp:revision>16</cp:revision>
  <dc:subject/>
  <dc:title>Слайд 1</dc:title>
</cp:coreProperties>
</file>