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1B5-DA3C-43C2-B685-71DE0B13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C0F-EB14-4672-B4C2-9E20C069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28A-D8E6-4696-A3E4-3A7C47CF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351-A75F-453B-A8BF-9685AD2F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5847-A26D-464D-9BE8-C0E2C485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1897-E5A8-4962-ADE5-CA72675F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533C-21E6-4A84-8A83-44C9EB7D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256D-08B6-4EA6-B43D-04159BE4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89B6-B2DF-43E8-B935-D58D2BB9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D3AB-23EB-46E6-B295-E60230BE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BCAA-EE65-4707-9F8D-94C87258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1AB-3503-4061-AB43-494A2A61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ACB5-79F2-42FF-B877-EB5F3259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0151-2D4F-43E7-83DF-59B06C8C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6F50-3FDE-4D47-A7CC-CD87341F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97B2-7BC5-4350-85DB-C2E1CAC3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6061-9928-4E35-9099-D7F017DC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728-A578-4F00-9D2D-A06DE888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5E4-A57F-46ED-B2AD-B2F4BAA7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69A-BA6C-4EA7-9A2F-38AAE923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4A3-3545-438C-BDE9-27C694DA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C29-1518-4095-9BDC-8484C22F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3F3-3D1E-4EEB-A341-1D4FF829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872-242C-4E94-B69A-13BDB915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CBAE-2D32-4375-A9BE-5D19B416C5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DA59-2C36-47DE-AA6F-F3667144E3A0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5" descr="zoo-ohrada"/>
          <p:cNvPicPr/>
          <p:nvPr/>
        </p:nvPicPr>
        <p:blipFill>
          <a:blip r:embed="rId1"/>
          <a:stretch/>
        </p:blipFill>
        <p:spPr>
          <a:xfrm>
            <a:off x="-304920" y="-219240"/>
            <a:ext cx="9753840" cy="7296480"/>
          </a:xfrm>
          <a:prstGeom prst="rect">
            <a:avLst/>
          </a:prstGeom>
          <a:ln w="0">
            <a:noFill/>
          </a:ln>
        </p:spPr>
      </p:pic>
      <p:sp>
        <p:nvSpPr>
          <p:cNvPr id="353" name="WordArt 6"/>
          <p:cNvSpPr txBox="1"/>
          <p:nvPr/>
        </p:nvSpPr>
        <p:spPr>
          <a:xfrm>
            <a:off x="2411280" y="5084640"/>
            <a:ext cx="6551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езентация о белке летяге  Иголкина Никиты  4 «В«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5" descr="Белка - летяга в полете (6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Picture 5" descr="Белка - летяга в полете (6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Picture 5" descr="SjmX7gLcwjQ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Объект 3" descr=""/>
          <p:cNvPicPr/>
          <p:nvPr/>
        </p:nvPicPr>
        <p:blipFill>
          <a:blip r:embed="rId1"/>
          <a:stretch/>
        </p:blipFill>
        <p:spPr>
          <a:xfrm>
            <a:off x="0" y="-1684440"/>
            <a:ext cx="9145440" cy="91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Объект 3" descr=""/>
          <p:cNvPicPr/>
          <p:nvPr/>
        </p:nvPicPr>
        <p:blipFill>
          <a:blip r:embed="rId1"/>
          <a:stretch/>
        </p:blipFill>
        <p:spPr>
          <a:xfrm>
            <a:off x="108000" y="-54000"/>
            <a:ext cx="1109196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Объект 3" descr=""/>
          <p:cNvPicPr/>
          <p:nvPr/>
        </p:nvPicPr>
        <p:blipFill>
          <a:blip r:embed="rId1"/>
          <a:stretch/>
        </p:blipFill>
        <p:spPr>
          <a:xfrm>
            <a:off x="-34920" y="-243000"/>
            <a:ext cx="9178920" cy="73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Объект 3" descr=""/>
          <p:cNvPicPr/>
          <p:nvPr/>
        </p:nvPicPr>
        <p:blipFill>
          <a:blip r:embed="rId1"/>
          <a:stretch/>
        </p:blipFill>
        <p:spPr>
          <a:xfrm>
            <a:off x="-19080" y="2844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Объект 3" descr=""/>
          <p:cNvPicPr/>
          <p:nvPr/>
        </p:nvPicPr>
        <p:blipFill>
          <a:blip r:embed="rId1"/>
          <a:stretch/>
        </p:blipFill>
        <p:spPr>
          <a:xfrm>
            <a:off x="-841320" y="-27000"/>
            <a:ext cx="1023768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4"/>
          <p:cNvSpPr txBox="1"/>
          <p:nvPr/>
        </p:nvSpPr>
        <p:spPr>
          <a:xfrm>
            <a:off x="0" y="0"/>
            <a:ext cx="9144000" cy="522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им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estudiounivers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оздушный гимнаст – обыкновенная летяг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5" descr="606824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4ffaf0749d943_normal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1253195077_fmt_53_belka_letya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Белка - летяга в полете (6 фот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5" descr="Белка - летяга в полете (6 фото)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Picture 5" descr="Белка - летяга в полете (6 фото)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5" descr="Белка - летяга в полете (6 фото)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5:36:23Z</dcterms:created>
  <dc:creator>11</dc:creator>
  <dc:description/>
  <dc:language>en-US</dc:language>
  <cp:lastModifiedBy>Владимир</cp:lastModifiedBy>
  <dcterms:modified xsi:type="dcterms:W3CDTF">2016-10-26T10:18:02Z</dcterms:modified>
  <cp:revision>6</cp:revision>
  <dc:subject/>
  <dc:title>Слайд 1</dc:title>
</cp:coreProperties>
</file>