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B4D0-BB25-474D-92C9-D51FA8D71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5BE2-62E6-4FF4-8E66-3C80FBE7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6FFA-37C3-449B-A5C8-8656B313B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9D60-3EA9-4B0F-93AD-0CE107EA7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B64F-D7BA-4A55-8A29-009973A21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67D3-93FC-4B4A-BDC0-9732595F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EB9A-BB76-40C4-A9E9-7CD84204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CFCA-0BA3-4B48-BD6A-A4F676C2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C74C-4062-4D64-AB0A-7CD4DBF7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D0D5-77F7-4732-9378-11B3D1CC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E4BF-ABCE-4345-8F2B-3A981B8B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D8AD-46F7-40E4-A014-562EDB1B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D613-D1AA-4374-8FE9-EDC6809E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8746-7443-4F80-9B85-04593D05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95BA-8AAA-44FC-B3CE-AF0A18D0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5803-BB83-4D2C-BD9B-7F8749E30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FD7AF-C478-45A3-AE7D-924D4FEE5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362C-E282-4432-B312-8F2D357B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8016-20BA-42B4-A2FB-C2AFE8B3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6CD7-F23B-4FED-AE6A-808C74D6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C251-1EDB-4571-A378-CA73FF34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A60E-C3B4-4811-BF52-CBC8DDE7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442C-8B0C-4D84-9680-8A6C1BA5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ECCE-3D5F-4705-B303-A0113D3A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6AFD-29AD-4880-BD0C-89606C1A23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F60A-2F76-49EE-AE37-135C65CB91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63640" y="981000"/>
            <a:ext cx="5183280" cy="4969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41480" y="1184400"/>
            <a:ext cx="4824360" cy="4535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56000" y="4941720"/>
            <a:ext cx="71640" cy="79236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56000" y="1197000"/>
            <a:ext cx="71640" cy="7920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048200">
            <a:off x="3529080" y="2455920"/>
            <a:ext cx="1727280" cy="504720"/>
          </a:xfrm>
          <a:prstGeom prst="rightArrow">
            <a:avLst>
              <a:gd name="adj1" fmla="val 50000"/>
              <a:gd name="adj2" fmla="val 8555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6300720" y="3068280"/>
            <a:ext cx="71280" cy="79236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2339640" y="3139560"/>
            <a:ext cx="71640" cy="7920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2421800">
            <a:off x="5435640" y="1483920"/>
            <a:ext cx="71280" cy="4320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2421800">
            <a:off x="3347640" y="5084280"/>
            <a:ext cx="71640" cy="4320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4140800">
            <a:off x="2519640" y="4400640"/>
            <a:ext cx="71640" cy="43164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8662800">
            <a:off x="3204360" y="1506240"/>
            <a:ext cx="71640" cy="43164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4140800">
            <a:off x="6192000" y="2240280"/>
            <a:ext cx="71280" cy="43164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8662800">
            <a:off x="5435640" y="4941360"/>
            <a:ext cx="71280" cy="4320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7407600">
            <a:off x="2448360" y="2240280"/>
            <a:ext cx="71280" cy="4320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7407600">
            <a:off x="6191280" y="4256640"/>
            <a:ext cx="71640" cy="43164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071000">
            <a:off x="3203280" y="2133360"/>
            <a:ext cx="2376360" cy="502920"/>
          </a:xfrm>
          <a:prstGeom prst="rightArrow">
            <a:avLst>
              <a:gd name="adj1" fmla="val 50000"/>
              <a:gd name="adj2" fmla="val 11812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763640" y="981000"/>
            <a:ext cx="5183280" cy="4969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41480" y="1184400"/>
            <a:ext cx="4824360" cy="4535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56000" y="4941720"/>
            <a:ext cx="71640" cy="79236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56000" y="1197000"/>
            <a:ext cx="71640" cy="7920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6797600">
            <a:off x="3673440" y="2455920"/>
            <a:ext cx="1727280" cy="504720"/>
          </a:xfrm>
          <a:prstGeom prst="rightArrow">
            <a:avLst>
              <a:gd name="adj1" fmla="val 50000"/>
              <a:gd name="adj2" fmla="val 8555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6300720" y="3068280"/>
            <a:ext cx="71280" cy="79236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2339640" y="3139560"/>
            <a:ext cx="71640" cy="7920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2421800">
            <a:off x="5435640" y="1483920"/>
            <a:ext cx="71280" cy="4320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2421800">
            <a:off x="3347640" y="5084280"/>
            <a:ext cx="71640" cy="4320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4140800">
            <a:off x="2519640" y="4400640"/>
            <a:ext cx="71640" cy="43164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8662800">
            <a:off x="3204360" y="1506240"/>
            <a:ext cx="71640" cy="43164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4140800">
            <a:off x="6192000" y="2240280"/>
            <a:ext cx="71280" cy="43164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8662800">
            <a:off x="5435640" y="4941360"/>
            <a:ext cx="71280" cy="4320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7407600">
            <a:off x="2448360" y="2240280"/>
            <a:ext cx="71280" cy="4320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7407600">
            <a:off x="6191280" y="4256640"/>
            <a:ext cx="71640" cy="43164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11640" y="3213000"/>
            <a:ext cx="2376360" cy="503280"/>
          </a:xfrm>
          <a:prstGeom prst="rightArrow">
            <a:avLst>
              <a:gd name="adj1" fmla="val 50000"/>
              <a:gd name="adj2" fmla="val 11804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63640" y="981000"/>
            <a:ext cx="5183280" cy="4969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41480" y="1184400"/>
            <a:ext cx="4824360" cy="4535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356000" y="4941720"/>
            <a:ext cx="71640" cy="79236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56000" y="1197000"/>
            <a:ext cx="71640" cy="7920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3274920" y="4294080"/>
            <a:ext cx="2376360" cy="503280"/>
          </a:xfrm>
          <a:prstGeom prst="rightArrow">
            <a:avLst>
              <a:gd name="adj1" fmla="val 50000"/>
              <a:gd name="adj2" fmla="val 11804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7004600">
            <a:off x="3744720" y="2455560"/>
            <a:ext cx="1727280" cy="505080"/>
          </a:xfrm>
          <a:prstGeom prst="rightArrow">
            <a:avLst>
              <a:gd name="adj1" fmla="val 50000"/>
              <a:gd name="adj2" fmla="val 8549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6300720" y="3068280"/>
            <a:ext cx="71280" cy="79236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2339640" y="3139560"/>
            <a:ext cx="71640" cy="7920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2421800">
            <a:off x="5435640" y="1483920"/>
            <a:ext cx="71280" cy="4320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2421800">
            <a:off x="3347640" y="5084280"/>
            <a:ext cx="71640" cy="4320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4140800">
            <a:off x="2519640" y="4400640"/>
            <a:ext cx="71640" cy="43164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8662800">
            <a:off x="3204360" y="1506240"/>
            <a:ext cx="71640" cy="43164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4140800">
            <a:off x="6192000" y="2240280"/>
            <a:ext cx="71280" cy="43164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8662800">
            <a:off x="5435640" y="4941360"/>
            <a:ext cx="71280" cy="4320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7407600">
            <a:off x="2448360" y="2240280"/>
            <a:ext cx="71280" cy="4320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7407600">
            <a:off x="6191280" y="4256640"/>
            <a:ext cx="71640" cy="43164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763640" y="981000"/>
            <a:ext cx="5183280" cy="4969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41480" y="1184400"/>
            <a:ext cx="4824360" cy="4535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56000" y="4941720"/>
            <a:ext cx="71640" cy="79236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56000" y="1197000"/>
            <a:ext cx="71640" cy="7920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7407200">
            <a:off x="3816360" y="2599920"/>
            <a:ext cx="1727280" cy="504720"/>
          </a:xfrm>
          <a:prstGeom prst="rightArrow">
            <a:avLst>
              <a:gd name="adj1" fmla="val 50000"/>
              <a:gd name="adj2" fmla="val 8555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6300720" y="3068280"/>
            <a:ext cx="71280" cy="79236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2339640" y="3139560"/>
            <a:ext cx="71640" cy="7920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2421800">
            <a:off x="5435640" y="1483920"/>
            <a:ext cx="71280" cy="4320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2421800">
            <a:off x="3347640" y="5084280"/>
            <a:ext cx="71640" cy="4320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4140800">
            <a:off x="2519640" y="4400640"/>
            <a:ext cx="71640" cy="43164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8662800">
            <a:off x="3204360" y="1506240"/>
            <a:ext cx="71640" cy="43164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4140800">
            <a:off x="6192000" y="2240280"/>
            <a:ext cx="71280" cy="43164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8662800">
            <a:off x="5435640" y="4941360"/>
            <a:ext cx="71280" cy="4320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7407600">
            <a:off x="2448360" y="2240280"/>
            <a:ext cx="71280" cy="4320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7407600">
            <a:off x="6191280" y="4256640"/>
            <a:ext cx="71640" cy="43164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0649400">
            <a:off x="2268000" y="3284640"/>
            <a:ext cx="2376720" cy="503280"/>
          </a:xfrm>
          <a:prstGeom prst="rightArrow">
            <a:avLst>
              <a:gd name="adj1" fmla="val 50000"/>
              <a:gd name="adj2" fmla="val 1180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763640" y="981000"/>
            <a:ext cx="5183280" cy="4969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41480" y="1184400"/>
            <a:ext cx="4824360" cy="4535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56000" y="4941720"/>
            <a:ext cx="71640" cy="79236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56000" y="1197000"/>
            <a:ext cx="71640" cy="7920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8105600">
            <a:off x="3889080" y="2600280"/>
            <a:ext cx="1727280" cy="504720"/>
          </a:xfrm>
          <a:prstGeom prst="rightArrow">
            <a:avLst>
              <a:gd name="adj1" fmla="val 50000"/>
              <a:gd name="adj2" fmla="val 8555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6200000">
            <a:off x="6300720" y="3068280"/>
            <a:ext cx="71280" cy="79236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6200000">
            <a:off x="2339640" y="3139560"/>
            <a:ext cx="71640" cy="7920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2421800">
            <a:off x="5435640" y="1483920"/>
            <a:ext cx="71280" cy="4320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2421800">
            <a:off x="3347640" y="5084280"/>
            <a:ext cx="71640" cy="4320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4140800">
            <a:off x="2519640" y="4400640"/>
            <a:ext cx="71640" cy="43164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8662800">
            <a:off x="3204360" y="1506240"/>
            <a:ext cx="71640" cy="43164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4140800">
            <a:off x="6192000" y="2240280"/>
            <a:ext cx="71280" cy="43164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8662800">
            <a:off x="5435640" y="4941360"/>
            <a:ext cx="71280" cy="4320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7407600">
            <a:off x="2448360" y="2240280"/>
            <a:ext cx="71280" cy="4320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7407600">
            <a:off x="6191280" y="4256640"/>
            <a:ext cx="71640" cy="43164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6071000">
            <a:off x="3203280" y="2133360"/>
            <a:ext cx="2376360" cy="502920"/>
          </a:xfrm>
          <a:prstGeom prst="rightArrow">
            <a:avLst>
              <a:gd name="adj1" fmla="val 50000"/>
              <a:gd name="adj2" fmla="val 11812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5:27:58Z</dcterms:created>
  <dc:creator>internet</dc:creator>
  <dc:description/>
  <dc:language>en-US</dc:language>
  <cp:lastModifiedBy>internet</cp:lastModifiedBy>
  <dcterms:modified xsi:type="dcterms:W3CDTF">2010-04-14T15:43:54Z</dcterms:modified>
  <cp:revision>2</cp:revision>
  <dc:subject/>
  <dc:title>Слайд 1</dc:title>
</cp:coreProperties>
</file>