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841-2469-46F4-BF5D-CFE3C023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79A-F8D0-4621-B155-E74A50B5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09B-54F3-4393-BB69-0999A108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0D6-1857-4B79-8CC1-1A931D86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C61-0BC3-4E32-A932-239A7973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447-1DE3-4D8A-91A8-2BA5E45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E09-85B9-4230-968D-4B6743F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9AE-42C9-41AD-A2D3-085D0E0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68C-1A54-4B2B-A8C0-73DE490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C07-9BFB-4D63-95FC-12BB98B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CD4-E5F7-4996-BACF-12C3E6F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EAC-7EB4-4DB7-A95E-60B1EA7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6EC-D8A0-4B2C-AE74-8B0F47EDC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6800" y="981000"/>
            <a:ext cx="537048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1100"/>
            </a:br>
            <a:br>
              <a:rPr sz="11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року  по тем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RISTMAS</a:t>
            </a:r>
            <a:br>
              <a:rPr sz="5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 год обуч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4138200"/>
            <a:ext cx="38383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БОУ гимназия № 5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йко Оксана Геннадь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http://go2.imgsmail.ru/imgpreview?key=1ebfe784f4cdd45a&amp;mb=imgdb_preview_943"/>
          <p:cNvPicPr/>
          <p:nvPr/>
        </p:nvPicPr>
        <p:blipFill>
          <a:blip r:embed="rId1"/>
          <a:stretch/>
        </p:blipFill>
        <p:spPr>
          <a:xfrm>
            <a:off x="468360" y="4157640"/>
            <a:ext cx="2714400" cy="2143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4" name="Picture 7" descr=""/>
          <p:cNvPicPr/>
          <p:nvPr/>
        </p:nvPicPr>
        <p:blipFill>
          <a:blip r:embed="rId2"/>
          <a:srcRect l="23659" t="0" r="3704" b="4872"/>
          <a:stretch/>
        </p:blipFill>
        <p:spPr>
          <a:xfrm>
            <a:off x="6516720" y="552600"/>
            <a:ext cx="2349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3399"/>
                </a:solidFill>
                <a:latin typeface="Arial"/>
              </a:rPr>
              <a:t>The table is usually decorated with a beautiful table cloth, napkins, candles and ligh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тол"/>
          <p:cNvPicPr/>
          <p:nvPr/>
        </p:nvPicPr>
        <p:blipFill>
          <a:blip r:embed="rId1"/>
          <a:stretch/>
        </p:blipFill>
        <p:spPr>
          <a:xfrm>
            <a:off x="1617840" y="1847880"/>
            <a:ext cx="5833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People send cards and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presents to their nearest and dearest. They send presents to their family and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riends"/>
          <p:cNvPicPr/>
          <p:nvPr/>
        </p:nvPicPr>
        <p:blipFill>
          <a:blip r:embed="rId1"/>
          <a:stretch/>
        </p:blipFill>
        <p:spPr>
          <a:xfrm>
            <a:off x="2536920" y="1649520"/>
            <a:ext cx="40701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On Christmas Eve people gather together and sing, dance, eat, drink. </a:t>
            </a:r>
            <a:br>
              <a:rPr sz="3100"/>
            </a:b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They celebrate Christmas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elebration"/>
          <p:cNvPicPr/>
          <p:nvPr/>
        </p:nvPicPr>
        <p:blipFill>
          <a:blip r:embed="rId1"/>
          <a:stretch/>
        </p:blipFill>
        <p:spPr>
          <a:xfrm>
            <a:off x="1962000" y="1987560"/>
            <a:ext cx="52405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Britain and in the USA people celebrate Christmas on the 2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of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alendar"/>
          <p:cNvPicPr/>
          <p:nvPr/>
        </p:nvPicPr>
        <p:blipFill>
          <a:blip r:embed="rId1"/>
          <a:stretch/>
        </p:blipFill>
        <p:spPr>
          <a:xfrm>
            <a:off x="3129120" y="2208240"/>
            <a:ext cx="2844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y decorate a Christmas tree with Christmas lights, colored balls, different toys, angels, candles and tinsel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ig tree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ildren put Christmas stockings on the fireplac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tockings"/>
          <p:cNvPicPr/>
          <p:nvPr/>
        </p:nvPicPr>
        <p:blipFill>
          <a:blip r:embed="rId1"/>
          <a:stretch/>
        </p:blipFill>
        <p:spPr>
          <a:xfrm>
            <a:off x="1600200" y="1940040"/>
            <a:ext cx="59436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Santa comes down the chimney and puts presents into the stoc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himney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ople decorate their homes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y usually put a wreath on the door, candles and lights all around the room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wreth"/>
          <p:cNvPicPr/>
          <p:nvPr/>
        </p:nvPicPr>
        <p:blipFill>
          <a:blip r:embed="rId1"/>
          <a:stretch/>
        </p:blipFill>
        <p:spPr>
          <a:xfrm>
            <a:off x="457200" y="2600280"/>
            <a:ext cx="404028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hristmas lights"/>
          <p:cNvPicPr/>
          <p:nvPr/>
        </p:nvPicPr>
        <p:blipFill>
          <a:blip r:embed="rId2"/>
          <a:stretch/>
        </p:blipFill>
        <p:spPr>
          <a:xfrm>
            <a:off x="5218200" y="1773360"/>
            <a:ext cx="2882880" cy="194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Candles2"/>
          <p:cNvPicPr/>
          <p:nvPr/>
        </p:nvPicPr>
        <p:blipFill>
          <a:blip r:embed="rId3"/>
          <a:stretch/>
        </p:blipFill>
        <p:spPr>
          <a:xfrm>
            <a:off x="5208480" y="3936960"/>
            <a:ext cx="29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hey also lay a beautiful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ood"/>
          <p:cNvPicPr/>
          <p:nvPr/>
        </p:nvPicPr>
        <p:blipFill>
          <a:blip r:embed="rId1"/>
          <a:stretch/>
        </p:blipFill>
        <p:spPr>
          <a:xfrm>
            <a:off x="1646280" y="1666800"/>
            <a:ext cx="585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ditional Christmas meal is turkey with gravy and a big minced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food4"/>
          <p:cNvPicPr/>
          <p:nvPr/>
        </p:nvPicPr>
        <p:blipFill>
          <a:blip r:embed="rId1"/>
          <a:stretch/>
        </p:blipFill>
        <p:spPr>
          <a:xfrm>
            <a:off x="1258920" y="1625760"/>
            <a:ext cx="66596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n the table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re is much food and there are many dri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ood3"/>
          <p:cNvPicPr/>
          <p:nvPr/>
        </p:nvPicPr>
        <p:blipFill>
          <a:blip r:embed="rId1"/>
          <a:stretch/>
        </p:blipFill>
        <p:spPr>
          <a:xfrm>
            <a:off x="468360" y="2062080"/>
            <a:ext cx="4248000" cy="312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many drinks"/>
          <p:cNvPicPr/>
          <p:nvPr/>
        </p:nvPicPr>
        <p:blipFill>
          <a:blip r:embed="rId2"/>
          <a:stretch/>
        </p:blipFill>
        <p:spPr>
          <a:xfrm>
            <a:off x="5076720" y="2133720"/>
            <a:ext cx="3240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22:07:51Z</dcterms:created>
  <dc:creator>803442</dc:creator>
  <dc:description/>
  <dc:language>en-US</dc:language>
  <cp:lastModifiedBy>Оксана Бойко</cp:lastModifiedBy>
  <dcterms:modified xsi:type="dcterms:W3CDTF">2016-12-01T20:15:16Z</dcterms:modified>
  <cp:revision>12</cp:revision>
  <dc:subject/>
  <dc:title>Christmas </dc:title>
</cp:coreProperties>
</file>