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1FA8-BC7F-4B3B-8CA1-0DC67E65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BAE8-779B-41BE-B510-00CAB96B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364F-6783-4C1A-AC47-E00E38D3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C274-8118-4853-BB74-7C3FC579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B319-950C-4080-8651-293BF39E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A8D1-2738-459C-9A32-609BE706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7DC6-5715-4DFB-B70B-E4EA22EC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8C68-3003-4E35-BDC7-8E6CFE33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3A9B-56E4-4C6F-AA8D-17EDBA45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7903-BDC7-4019-B004-A76D8247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DF43-AE7E-46AA-BCEE-B2C5AB85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ECA5-F00B-4115-B955-5549D142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432A-28DB-4B7E-9889-3138986A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DB67-7A41-4662-9BB6-896580DD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80EA-32BD-4126-82DF-CC31EE88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561F-E784-44AB-8CC5-7E5190D5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9ED9-6733-48C1-87DD-E79A3732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DCE0-B270-4D33-8FF5-D38FF188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264A-76AD-486E-8E25-CD4AEA72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3843-C9FE-4842-B615-49387F3A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3E1E-E3B2-402B-854A-87A9B620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0EC2-57DE-4B6A-9EB9-061867F9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D477-E352-467C-84B5-A5F99EE2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CB17-B153-4D5E-974A-C0C7C703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5744-5DF0-403B-8C5D-C0926CF577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95EB-1C5F-4C2A-80E9-E158B485CD2B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4267080" y="-701640"/>
            <a:ext cx="4267080" cy="16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143640" y="-2894400"/>
            <a:ext cx="228600" cy="9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3048120" y="2133720"/>
            <a:ext cx="2514600" cy="25905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638680" y="58672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ермяков Павел, 2012 г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AutoShape 4"/>
          <p:cNvSpPr/>
          <p:nvPr/>
        </p:nvSpPr>
        <p:spPr>
          <a:xfrm rot="13732200">
            <a:off x="3047760" y="2133000"/>
            <a:ext cx="2514600" cy="2590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AutoShape 4"/>
          <p:cNvSpPr/>
          <p:nvPr/>
        </p:nvSpPr>
        <p:spPr>
          <a:xfrm rot="15777000">
            <a:off x="3048120" y="2133000"/>
            <a:ext cx="2514600" cy="2590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AutoShape 4"/>
          <p:cNvSpPr/>
          <p:nvPr/>
        </p:nvSpPr>
        <p:spPr>
          <a:xfrm rot="17890800">
            <a:off x="3047760" y="2133360"/>
            <a:ext cx="2514600" cy="2590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AutoShape 4"/>
          <p:cNvSpPr/>
          <p:nvPr/>
        </p:nvSpPr>
        <p:spPr>
          <a:xfrm rot="18961800">
            <a:off x="3048120" y="2133360"/>
            <a:ext cx="2514600" cy="25905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AutoShape 4"/>
          <p:cNvSpPr/>
          <p:nvPr/>
        </p:nvSpPr>
        <p:spPr>
          <a:xfrm rot="19482600">
            <a:off x="3047760" y="2133720"/>
            <a:ext cx="2514600" cy="25905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AutoShape 4"/>
          <p:cNvSpPr/>
          <p:nvPr/>
        </p:nvSpPr>
        <p:spPr>
          <a:xfrm rot="21351000">
            <a:off x="3048120" y="2133360"/>
            <a:ext cx="2514600" cy="25905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Freeform 6"/>
          <p:cNvSpPr/>
          <p:nvPr/>
        </p:nvSpPr>
        <p:spPr>
          <a:xfrm rot="3588000">
            <a:off x="4063680" y="4394160"/>
            <a:ext cx="1333800" cy="622080"/>
          </a:xfrm>
          <a:custGeom>
            <a:avLst/>
            <a:gdLst>
              <a:gd name="textAreaLeft" fmla="*/ 0 w 1333800"/>
              <a:gd name="textAreaRight" fmla="*/ 1334160 w 1333800"/>
              <a:gd name="textAreaTop" fmla="*/ 0 h 622080"/>
              <a:gd name="textAreaBottom" fmla="*/ 622440 h 622080"/>
            </a:gdLst>
            <a:ahLst/>
            <a:rect l="textAreaLeft" t="textAreaTop" r="textAreaRight" b="textAreaBottom"/>
            <a:pathLst>
              <a:path w="840" h="392">
                <a:moveTo>
                  <a:pt x="0" y="336"/>
                </a:moveTo>
                <a:cubicBezTo>
                  <a:pt x="396" y="364"/>
                  <a:pt x="792" y="392"/>
                  <a:pt x="816" y="336"/>
                </a:cubicBezTo>
                <a:cubicBezTo>
                  <a:pt x="840" y="280"/>
                  <a:pt x="492" y="140"/>
                  <a:pt x="144" y="0"/>
                </a:cubicBezTo>
              </a:path>
            </a:pathLst>
          </a:custGeom>
          <a:solidFill>
            <a:srgbClr val="ff00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Line 7"/>
          <p:cNvSpPr/>
          <p:nvPr/>
        </p:nvSpPr>
        <p:spPr>
          <a:xfrm flipH="1">
            <a:off x="837720" y="2362320"/>
            <a:ext cx="228600" cy="533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AutoShape 4"/>
          <p:cNvSpPr/>
          <p:nvPr/>
        </p:nvSpPr>
        <p:spPr>
          <a:xfrm rot="1303200">
            <a:off x="3047760" y="2133720"/>
            <a:ext cx="2514600" cy="25905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 rot="1882200">
            <a:off x="3047760" y="2133720"/>
            <a:ext cx="2514600" cy="25905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AutoShape 4"/>
          <p:cNvSpPr/>
          <p:nvPr/>
        </p:nvSpPr>
        <p:spPr>
          <a:xfrm rot="4473600">
            <a:off x="3047400" y="2133360"/>
            <a:ext cx="2514600" cy="2590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AutoShape 4"/>
          <p:cNvSpPr/>
          <p:nvPr/>
        </p:nvSpPr>
        <p:spPr>
          <a:xfrm rot="6528600">
            <a:off x="3047760" y="2133720"/>
            <a:ext cx="2514600" cy="2590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AutoShape 4"/>
          <p:cNvSpPr/>
          <p:nvPr/>
        </p:nvSpPr>
        <p:spPr>
          <a:xfrm rot="7246800">
            <a:off x="3047400" y="2133360"/>
            <a:ext cx="2514600" cy="2590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AutoShape 4"/>
          <p:cNvSpPr/>
          <p:nvPr/>
        </p:nvSpPr>
        <p:spPr>
          <a:xfrm rot="8915400">
            <a:off x="3047400" y="2133720"/>
            <a:ext cx="2514600" cy="25905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AutoShape 4"/>
          <p:cNvSpPr/>
          <p:nvPr/>
        </p:nvSpPr>
        <p:spPr>
          <a:xfrm rot="10381200">
            <a:off x="3047400" y="2133720"/>
            <a:ext cx="2514600" cy="25905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AutoShape 4"/>
          <p:cNvSpPr/>
          <p:nvPr/>
        </p:nvSpPr>
        <p:spPr>
          <a:xfrm rot="12314400">
            <a:off x="3047400" y="2133720"/>
            <a:ext cx="2514600" cy="25905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я</dc:creator>
  <dc:description/>
  <dc:language>en-US</dc:language>
  <cp:lastModifiedBy>Оля</cp:lastModifiedBy>
  <dcterms:modified xsi:type="dcterms:W3CDTF">2016-12-01T15:29:0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